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A91-43C0-49F6-BC0A-F140DFBF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67D0-13F0-49CC-86AC-7574D2938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2640-1C10-4890-8930-62FA065E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1D4A-35A9-4D0A-B0B6-75C7D47C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4BB2-6656-460A-8EFB-1228A520D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5FDD-8657-4E24-B870-431ACC386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C67E-38A1-4ACE-9EB7-936AF79C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51B3-49EC-45FE-82C2-68A6B76E5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7405-EA86-4C70-9DDC-356F70A17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2997-FD29-4DAB-BD5D-5D5C46E5E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F8AC-6D59-411A-968C-A82650952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D1B9-50EA-4F0C-B6E4-41B4399CC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4B22-0A3D-4AD3-8EDA-AC7728FE0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6AB1-F793-4577-936C-AC679D3C4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B1C6-BE95-4CA0-AAA0-BB96F12DE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23F1-2554-4A54-BCA3-F5FD3AC4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5B1F-B349-4A56-A448-01CFD35F0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7BD9-C9DA-4A51-B2DC-13247B19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421F-62BF-4CE4-B82B-F2DEFA5C3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4E34-BDF0-4423-A57E-54E99B343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28DC-F1AF-4A45-8E66-D85FF7127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0F62-E363-4959-858A-143617046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3C18-43ED-49BC-97C6-94D4D6D03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9907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2 ALBUMS HAD TITLES CONTAINING ELLIPSES: "...BABY ONE MORE TIME"    AND "OOPS!... I DID IT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5880" y="762120"/>
            <a:ext cx="8155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IN DEDICATION TO PRINCESS DIANA IS THE BEST-SELLING SINGLE OF ALL TIME IN THE U.S. AND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39720" y="762120"/>
            <a:ext cx="7862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P-HOP ARTIST TO WIN AN OSCAR FOR BEST ORIGINAL SONG, FOR "LOSE YOURSE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761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FOR AEROSMITH, KNOWN AS "THE DEMON OF SCREAMIN'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Y  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9400" y="774720"/>
            <a:ext cx="758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CULTURE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652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YOUR LOVE", "JUST TO SEE YOU SMILE", AND "LIVE LIKE YOU WERE DYING" WERE TOP COUNTRY SONGS OF  THE YEAR, SUNG BY WH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TNE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5440" y="762120"/>
            <a:ext cx="795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KURT COB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R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9440" y="762120"/>
            <a:ext cx="838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DUCTED INTO THE ROCK AND ROLL HALL OF FAME TWICE, ONCE FOR THE BYRDS AND ONCE FOR CS&amp;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7600" y="762120"/>
            <a:ext cx="830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IN DEDICATION TO PRINCESS DIANA IS THE BEST-SELLING SINGLE OF ALL TIME IN THE U.S. AND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ONNE  WAR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ON GRAMMYS FOR BEST FEMALE POP PERFORMANCE FOR THE SIMILARLY TITLED SONGS "I'LL NEVER FALL IN LOVE AGAIN" AND "I'LL NEVER LOVE THIS WAY AGAI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3840" y="762120"/>
            <a:ext cx="835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2 ALBUMS HAD TITLES CONTAINING ELLIPSES: "...BABY ONE MORE TIME"    AND "OOPS!... I DID IT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52360" y="4343400"/>
            <a:ext cx="8639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NT  TO  REHAB  FOR  DRUG  ADDICTION  BUT  ARE  NOW  S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P-HOP ARTIST TO WIN AN OSCAR FOR BEST ORIGINAL SONG, FOR "LOSE YOURSE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50800" y="762120"/>
            <a:ext cx="804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FOR AEROSMITH, KNOWN AS "THE DEMON OF SCREAMIN'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CULTURE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8600" y="762120"/>
            <a:ext cx="814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'S YOUR LOVE", "JUST TO SEE YOU SMILE", AND "LIVE LIKE YOU WERE DYING" WERE TOP COUNTRY SONGS OF THE YEAR, SUNG BY WH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MARRIED TO KURT COB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DUCTED INTO THE ROCK AND ROLL HALL OF FAME TWICE, ONCE FOR THE BYRDS AND ONCE FOR CS&amp;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ON GRAMMYS FOR BEST FEMALE POP PERFORMANCE FOR THE SIMILARLY TITLED SONGS "I'LL NEVER FALL IN LOVE AGAIN" AND "I'LL NEVER LOVE THIS WAY AGAI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13T13:34:50Z</dcterms:modified>
  <cp:revision>437</cp:revision>
  <dc:subject/>
  <dc:title>Slide 1</dc:title>
</cp:coreProperties>
</file>