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DB4D-139D-4015-8E55-8446C180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EE40-F25A-47DB-8674-449AE585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5D76-FA53-4EE4-9145-9FFD3BCC1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0B58-EFCE-4B60-9BA8-FCBE0882D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80B9-7BD9-4296-9CE3-4BDAB1A8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1236-73A3-4ABC-9657-D5A557B64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23C4-F031-4210-9642-0D28E6E34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048F-AE76-4499-952F-35F736E0E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30CB-7329-4C12-A641-878F19EB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25E8-B324-4960-AD0D-E585795F5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4618-C419-4A1F-B97D-1AE73AB8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5F05-7056-4884-ADE5-44AFB49EB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FA78-3B27-449B-8A11-C0F21056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5B8-F028-431A-9900-275035651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704C-AF36-4F6D-AF61-E3DD0516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9689-53F7-4956-AD67-652DE3E05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8065-25CD-4372-99BE-DD00A190F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8855-DA4B-48D0-92B3-9FE72C9F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0524-A36C-4E4E-A641-C3FB2918F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ACCF-659C-4EAC-B437-CDE9309B2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8F7F-71F9-42D8-86C8-84DD0E87B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9F39-2FF3-43B1-9508-475F8275B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3E3D-0A4B-44B8-B1B9-48A79517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9907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2 ALBUMS HAD TITLES CONTAINING ELLIPSES: "...BABY ONE MORE TIME"    AND "OOPS!... I DID IT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5880" y="762120"/>
            <a:ext cx="8155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IN DEDICATION TO PRINCESS DIANA IS THE BEST-SELLING SINGLE OF ALL TIME IN THE U.S. AND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39720" y="762120"/>
            <a:ext cx="7862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P-HOP ARTIST TO WIN AN OSCAR FOR BEST ORIGINAL SONG, FOR "LOSE YOURSE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761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FOR AEROSMITH, KNOWN AS "THE DEMON OF SCREAMIN'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Y  GEO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9400" y="774720"/>
            <a:ext cx="758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CULTURE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652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YOUR LOVE", "JUST TO SEE YOU SMILE", AND "LIVE LIKE YOU WERE DYING" WERE TOP COUNTRY SONGS OF  THE YEAR, SUNG BY WH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TNE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5440" y="762120"/>
            <a:ext cx="795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KURT COB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R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9440" y="762120"/>
            <a:ext cx="838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DUCTED INTO THE ROCK AND ROLL HALL OF FAME TWICE, ONCE FOR THE BYRDS AND ONCE FOR CS&amp;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7600" y="7621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IN DEDICATION TO PRINCESS DIANA IS THE BEST-SELLING SINGLE OF ALL TIME IN THE U.S. AND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ONNE  WAR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ON GRAMMYS FOR BEST FEMALE POP PERFORMANCE FOR THE SIMILARLY TITLED SONGS "I'LL NEVER FALL IN LOVE AGAIN" AND "I'LL NEVER LOVE THIS WAY AGAI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3840" y="762120"/>
            <a:ext cx="835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2 ALBUMS HAD TITLES CONTAINING ELLIPSES: "...BABY ONE MORE TIME"    AND "OOPS!... I DID IT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52360" y="4343400"/>
            <a:ext cx="8639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NT  TO  REHAB  FOR  DRUG  ADDICTION  BUT  ARE  NOW  S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P-HOP ARTIST TO WIN AN OSCAR FOR BEST ORIGINAL SONG, FOR "LOSE YOURSE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0800" y="762120"/>
            <a:ext cx="804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FOR AEROSMITH, KNOWN AS "THE DEMON OF SCREAMIN'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CULTURE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8600" y="762120"/>
            <a:ext cx="814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YOUR LOVE", "JUST TO SEE YOU SMILE", AND "LIVE LIKE YOU WERE DYING" WERE TOP COUNTRY SONGS OF THE YEAR, SUNG BY WH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KURT COB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DUCTED INTO THE ROCK AND ROLL HALL OF FAME TWICE, ONCE FOR THE BYRDS AND ONCE FOR CS&amp;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ON GRAMMYS FOR BEST FEMALE POP PERFORMANCE FOR THE SIMILARLY TITLED SONGS "I'LL NEVER FALL IN LOVE AGAIN" AND "I'LL NEVER LOVE THIS WAY AGAI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13T13:34:50Z</dcterms:modified>
  <cp:revision>437</cp:revision>
  <dc:subject/>
  <dc:title>Slide 1</dc:title>
</cp:coreProperties>
</file>