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4333-1DC2-4323-BA19-F61BE1508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DBEB-6EDE-414C-AE45-222CD85D2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CDA4-5B16-441C-BCAB-27A6AECB1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8721-778A-4697-BC88-A5525126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92CB-CA0F-4448-B2A6-9E2434B59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B81C-C55C-42DB-B4E3-AFB01251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A5E5-579D-4E29-A963-6F2E5C28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A7A6-9F37-4FAA-A3DA-174CF68C5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0513-7EF1-440A-80AD-5C0C3D153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86FC-4889-4A76-A928-788E4754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C3E0-CC7F-4EF8-BAFF-1D680F085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3BB8-D98F-4D01-9756-758C3E663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F286-B3F2-48E6-9435-B0AF6A28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9CF7-F151-405A-8D54-B6964C112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621F-3736-4A65-8933-827DF966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AE6-AE2F-4EBC-A7F6-E911CE30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80DA-81B5-442D-B1FE-DB4CCA9C1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0FE-037F-44D4-BAC3-04C61DD1C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E541-DB98-4C18-9BB8-13897FA1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65FC-521F-44BB-A760-971C69CC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6EED-2EF2-4435-9C37-9340F5101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9D89-ABD6-4387-ACC9-CA271F8B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0F0-EEFD-4BCA-99A4-89905B7F0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0666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S TERMS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648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ALL SPORTS, TABLE TENNIS HAS THE SHORTEST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5244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NINTH OF A BASEBALL GAME IS CALLED AN INNING.  WHAT IS ONE TENTH OF A BOWLING GAM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84160" y="762120"/>
            <a:ext cx="7373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AIN TYPES OF GOLF CLUBS ARE IRON, PUTTE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5880" y="762120"/>
            <a:ext cx="8148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SLANG TERM FOR A SHOT THAT HITS THE RIM, WITHOUT HITTING THE BACKBOARD   OR GOING IN THE BAS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74720"/>
            <a:ext cx="778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IS THE CIRCULAR BULLSEYE TARGE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(RU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6960" y="762120"/>
            <a:ext cx="7750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H" IN "HR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ELD  (JUD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6200" y="762120"/>
            <a:ext cx="7850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STAND FOR ON THIS NFL UNI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284640" y="2610000"/>
            <a:ext cx="2574720" cy="225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E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85800" y="1066680"/>
            <a:ext cx="4694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CHEERLEADING MOV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30640" cy="48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NINTH OF A BASEBALL GAME IS CALLED AN INNING.  WHAT IS ONE TENTH OF A BOWLING GAM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ND  (OU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74640" y="762120"/>
            <a:ext cx="779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G" IN "G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55600" y="762120"/>
            <a:ext cx="86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ALL SPORTS, TABLE TENNIS HAS THE SHORTEST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7692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WOR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7040" y="761760"/>
            <a:ext cx="7907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AIN TYPES OF GOLF CLUBS ARE IRON, PUTT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44680" y="762120"/>
            <a:ext cx="805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SLANG TERM FOR A SHOT THAT HITS THE RIM, WITHOUT HITTING THE BACKBOARD   OR GOING IN THE BAS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4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IS THE CIRCULAR BULLSEYE TARGE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H" IN "HR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1520" y="774360"/>
            <a:ext cx="7860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STAND FOR ON THIS NFL UNI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989440" y="2590920"/>
            <a:ext cx="316512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5511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CHEERLEADING MOV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6324480" y="457200"/>
            <a:ext cx="2330640" cy="48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AT DOES THE "G" IN "G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22T09:36:10Z</dcterms:modified>
  <cp:revision>514</cp:revision>
  <dc:subject/>
  <dc:title>Slide 1</dc:title>
</cp:coreProperties>
</file>