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0470-4071-4679-B323-A0C3AEEFC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4374-15ED-4E07-8B89-EA8B8D46B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ED3D-D9C6-4FD4-A4FD-B30F1BBEA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285C-EAC0-4A7E-A0E8-C0B991C98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764C-DC1C-4A93-86E2-E3E9D40BE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F6C6-B186-48C0-92EF-790D14188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729E-7010-4EA8-9EBE-C20612F70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0540-3B59-4E00-A2C9-CB8EFF770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54E2-C5FC-42DE-938F-72613ABAB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0956-FE4C-438A-B74A-A542E863C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E84C-B923-4D41-A44B-70B96723C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D9D8-524E-4337-A522-D6EBA50AB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1E6F-A033-4D10-973E-55A9BC189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C9CF-921A-4213-A390-82F355DAE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8B31-F95A-4F55-B2A7-DFA9854F8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C2D4-93D1-4F62-A904-A933A810E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F2E9-8FEC-4695-B60E-D980F5465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6B5B-917A-4CC6-B402-75302EA99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9346-4078-47C4-A2E9-72B47957F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9C6E-AF42-4DDF-86E4-C48FAF102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3CB1-4B73-427E-93AF-4ABA8AF21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989B-7C56-4542-BDA2-52EFB286F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AC0B-6246-4BAA-B9F8-E9508A500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0666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ORTS TERMS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47680" y="761760"/>
            <a:ext cx="8648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ALL SPORTS, TABLE TENNIS HAS THE SHORTEST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52440" y="762120"/>
            <a:ext cx="8439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NINTH OF A BASEBALL GAME IS CALLED AN INNING.  WHAT IS ONE TENTH OF A BOWLING GAM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84160" y="762120"/>
            <a:ext cx="7373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MAIN TYPES OF GOLF CLUBS ARE IRON, PUTTER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15880" y="762120"/>
            <a:ext cx="8148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KETBALL, WHAT IS THE SLANG TERM FOR A SHOT THAT HITS THE RIM, WITHOUT HITTING THE BACKBOARD   OR GOING IN THE BASK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81120" y="774720"/>
            <a:ext cx="778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URLING, WHAT IS THE CIRCULAR BULLSEYE TARGE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  (RU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96960" y="762120"/>
            <a:ext cx="7750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WHAT DOES THE "H" IN "HR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ELD  (JUDG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46200" y="762120"/>
            <a:ext cx="7850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F" STAND FOR ON THIS NFL UNIFO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284640" y="2610000"/>
            <a:ext cx="2574720" cy="225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E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85800" y="1066680"/>
            <a:ext cx="4694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CHEERLEADING MOV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6324480" y="457200"/>
            <a:ext cx="2330640" cy="488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56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NINTH OF A BASEBALL GAME IS CALLED AN INNING.  WHAT IS ONE TENTH OF A BOWLING GAM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OUND  (OU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74640" y="762120"/>
            <a:ext cx="7792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WHAT DOES THE "G" IN "GO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55600" y="762120"/>
            <a:ext cx="8631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ALL SPORTS, TABLE TENNIS HAS THE SHORTEST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114480" y="487692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WOR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17040" y="761760"/>
            <a:ext cx="7907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MAIN TYPES OF GOLF CLUBS ARE IRON, PUTTER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44680" y="762120"/>
            <a:ext cx="805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KETBALL, WHAT IS THE SLANG TERM FOR A SHOT THAT HITS THE RIM, WITHOUT HITTING THE BACKBOARD   OR GOING IN THE BASK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01720" y="762120"/>
            <a:ext cx="7540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URLING, WHAT IS THE CIRCULAR BULLSEYE TARGE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WHAT DOES THE "H" IN "HR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1520" y="774360"/>
            <a:ext cx="7860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F" STAND FOR ON THIS NFL UNIFOR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989440" y="2590920"/>
            <a:ext cx="3165120" cy="27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914040"/>
            <a:ext cx="5511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CHEERLEADING MOV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324480" y="457200"/>
            <a:ext cx="2330640" cy="48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6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WHAT DOES THE "G" IN "GO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1-22T09:36:10Z</dcterms:modified>
  <cp:revision>514</cp:revision>
  <dc:subject/>
  <dc:title>Slide 1</dc:title>
</cp:coreProperties>
</file>