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5EC3-D2BD-4AF0-B06B-41552C7DE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DC30-C1B3-4D73-B538-C54DFCEEF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E37B-0070-4A6C-B9AC-71FC3001B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6945-656D-40D1-9103-F2B782D3C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8FE6-0CA6-4D4F-8FD7-B6C8A0193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342D-E050-4D62-8CD2-E916910FD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EB33-5938-4EEC-87CB-E41E7BEAF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D50F-9927-4C18-B80F-19FAEA0F0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FB3B-3303-433D-B0CA-8AFC6DC1C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2CB3-3FEB-4818-A537-6DBC1117D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21C8-BDA2-4DA5-A0D8-F9E5DE40D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9561-FF8E-4C1A-9E02-1E7B254BC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BBCC-6A3C-4B41-9309-4F73A4632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8A51-4B08-45EA-B0D7-4134B07CF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2552-CE7A-4C3E-A3AC-7E9B6C8C4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F51D-876C-43F5-8EA1-E204D93CB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A5C6-6966-48BA-AF09-3BBAF8E89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C9E6-A0FB-4406-A2BA-F80C6792B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24AA-2210-491D-B3A5-253DBAB30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FDB0-EEAB-4D75-B529-F6F226CD0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8959-AE5D-46F2-9ECD-4F5FAD04E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2494-0E42-497E-B370-E16668409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1B6D-D07B-4B9D-AB0A-1DAA03107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NAMES ONL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ATTORNEY GENERAL OF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ANOR  (ROOSEVEL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 SERVING FIRST LADY OF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(LOUIS – DREYF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92160" y="762120"/>
            <a:ext cx="7158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EINFELD" ACTRESS HAS WON MORE EMMY AWARDS THAN ANY OTHER PERFOR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LE  (OBAM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THER OF SASHA AND M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(LI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WATSON ON TV'S "ELEMEN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TA  (HAYWORT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THE TOP PIN-UP GIRL DURING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ZZIE  B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INED NOTORIETY BY KILLING HER FATHER AND STEPMOTHER WITH AN AX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A  (NICOLE  SMIT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AYBO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YMATE OF THE YEAR GOT MARRIED AT AGE 26 TO A 89-YEAR-OLD BILLIONA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 SERVING FIRST LADY OF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HA  (STEWA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62000" y="766800"/>
            <a:ext cx="8820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 WHOM DI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OP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AGAZINE SAY "SHE TOOK HER LEMON OF A    5-MONTH PRISON SENTENCE AND MADE LEMONADE.  HECK, SHE  MADE A LEMON SOUFFLÉ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 (BOND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0484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ATTORNEY GENERAL OF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343400"/>
            <a:ext cx="7972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MEN'S  NAMES  THAT  APPEAR  IN  TITLES  OF  BEATLES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EINFELD" ACTRESS HAS WON MORE EMMY AWARDS THAN ANY OTHER PERFOR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THER OF SASHA AND M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3400" y="762120"/>
            <a:ext cx="747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WATSON ON TV'S "ELEMEN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THE TOP PIN-UP GIRL DURING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INED NOTORIETY BY KILLING HER FATHER AND STEPMOTHER WITH AN AX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2400" y="761760"/>
            <a:ext cx="7639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AYBO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YMATE OF THE YEAR GOT MARRIED AT AGE 26 TO A 89-YEAR-OLD BILLIONA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62000" y="762120"/>
            <a:ext cx="8820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 WHOM DI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OP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AGAZINE SAY "SHE TOOK HER LEMON OF A    5-MONTH PRISON SENTENCE AND MADE LEMONADE.  HECK, SHE  MADE A LEMON SOUFFLÉ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22T09:50:37Z</dcterms:modified>
  <cp:revision>378</cp:revision>
  <dc:subject/>
  <dc:title>Slide 1</dc:title>
</cp:coreProperties>
</file>