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5EE2-98DE-4BFF-9ACD-5D66A398E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8F37-D044-412E-96C6-BC3DE3558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3BA-6F02-47DA-B302-5B9718D01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F99-C69B-45E2-B003-C0FBAF8BC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0413-C07C-490B-85C2-72509633E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9474-44DD-445F-861F-406AD1BB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A29E-1C33-4AE6-9058-705A72F4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94A3-1F5A-48E0-B7E2-3BB452EED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AC6E-5836-49EF-870A-2C4084DF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1298-1DE7-4C8C-A3B0-293AC15E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C20-9E8B-4BC0-BDF6-48C6CD10F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A042-5F92-4067-BE45-EE61A8A5E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B646-79D4-499C-8263-8075D6AB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F62C-7C35-4EFD-9E5B-2CE2B3A5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B630-0910-4F88-AD72-EE3A3B82B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ADA-78C3-4339-90C3-419CE55A1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2A1BA-344C-4E07-8BA2-7A907A3CA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B14-9E0D-42DA-B9F2-ED5D62DC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B15E-5FBA-445A-938F-E53BB0D6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628F-048E-411B-B771-1D87F083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BD75-41E7-44DE-AD8D-A9CCF1CEF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B83F-2902-4F6C-9F98-8DEAE9745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2EC6-FD9B-449E-9AA0-FE0D24D3D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NAMES ONL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(ROOSEVEL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FIRST LADY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(LOUIS – DREYF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INFELD" ACTRESS HAS WON MORE EMMY AWARDS THAN ANY OTHER PERFOR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(OBA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THER OF SASHA AND 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(LI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(HAYWORT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TOP PIN-UP GIRL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ZIE  B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NOTORIETY BY KILLING HER FATHER AND STEPMOTHER WITH AN AX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(NICOLE  SMIT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GOT MARRIED AT AGE 26 TO A 89-YEAR-OLD B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FIRST LADY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(STEWAR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00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WHOM DI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 SAY "SHE TOOK HER LEMON OF A    5-MONTH PRISON SENTENCE AND MADE LEMONADE.  HECK, SHE  MADE A LEMON SOUFFLÉ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(BOND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343400"/>
            <a:ext cx="7972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MEN'S  NAMES  THAT  APPEAR  IN  TITLES  OF  BEATLE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EINFELD" ACTRESS HAS WON MORE EMMY AWARDS THAN ANY OTHER PERFOR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THER OF SASHA AND 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TOP PIN-UP GIRL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NOTORIETY BY KILLING HER FATHER AND STEPMOTHER WITH AN AX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GOT MARRIED AT AGE 26 TO A 89-YEAR-OLD B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WHOM DI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 SAY "SHE TOOK HER LEMON OF A    5-MONTH PRISON SENTENCE AND MADE LEMONADE.  HECK, SHE  MADE A LEMON SOUFFLÉ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22T09:50:37Z</dcterms:modified>
  <cp:revision>378</cp:revision>
  <dc:subject/>
  <dc:title>Slide 1</dc:title>
</cp:coreProperties>
</file>