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32DC-7588-419A-A23C-A8F8157BB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12D4-2FF2-45A7-9D93-AA07A1E2F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4443-A280-4EB8-92B5-9C868DD74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2758-5259-48BC-A4D9-5796A0A58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1240-0A1C-4373-90D0-0C518F019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4FE4-CD3B-49C8-B148-363395791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D37D-3BD9-4139-8BAD-547C2E465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5824-C48D-41CB-BAD5-0D9A7767B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21F3-4138-4182-99A2-F271FC6D4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A9F0-5F4E-4C29-B393-65E5932DD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84EF-92AA-4D32-BED3-B1D08496E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86BF-5A8C-4B35-B76A-16CA4B9B0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C11B-7763-4E6D-8CDF-6CED23EC9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1747-C28D-4700-B855-7C7EB9AD5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06E1-1E9D-4FFD-8825-D4218ECF9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473E-1BA4-4152-95C0-6752A59FA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CDCD-14C5-4555-A9D0-27CEBB9A8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4BFA-67C6-4F21-842D-F28E96AE5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96F1-09F0-489C-9F34-42D4792B5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0179-19DA-4232-96A8-FB473DEBD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3D44-C0A6-44BF-A410-3B73BA214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E2CD-C40F-4931-9772-80BB15EA9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3D13-F103-4036-B8AF-6F5C147DA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GA OF 5 FILMS FEATURED THE CHARACTERS EDWARD THE VAMPIRE AND JACOB THE WEREWOLF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28600" y="1066680"/>
            <a:ext cx="34290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FILM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Home_(2015_film)_poster.jpg"/>
          <p:cNvPicPr/>
          <p:nvPr/>
        </p:nvPicPr>
        <p:blipFill>
          <a:blip r:embed="rId1"/>
          <a:stretch/>
        </p:blipFill>
        <p:spPr>
          <a:xfrm>
            <a:off x="4267080" y="533520"/>
            <a:ext cx="436716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52280" y="1066680"/>
            <a:ext cx="3657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FILM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Brave_Poster.jpg"/>
          <p:cNvPicPr/>
          <p:nvPr/>
        </p:nvPicPr>
        <p:blipFill>
          <a:blip r:embed="rId1"/>
          <a:stretch/>
        </p:blipFill>
        <p:spPr>
          <a:xfrm>
            <a:off x="4191120" y="533520"/>
            <a:ext cx="445140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55680" y="762120"/>
            <a:ext cx="8381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DO ANTHONY HOPKINS, GWYNETH PALTROW, AND JAKE GYLLENHAAL ALL PLAY MATHEMATICI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876240" y="75888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OOGLE LOGO, WHAT COLOR IS THE "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257480" y="762120"/>
            <a:ext cx="6629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HOUSTON'S NBA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EA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OVIDES THE MUSIC INDUSTRY WITH THE LARGEST REVENUE?  ALBUMS, DOWNLOADS, OR STREAM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60020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DISHWASHING LIQUID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4114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FILM HAD THIS MOVIE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Home_(2015_film)_poster.jpg"/>
          <p:cNvPicPr/>
          <p:nvPr/>
        </p:nvPicPr>
        <p:blipFill>
          <a:blip r:embed="rId1"/>
          <a:stretch/>
        </p:blipFill>
        <p:spPr>
          <a:xfrm>
            <a:off x="4267080" y="533520"/>
            <a:ext cx="436716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60280" y="91440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FILM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Stripesposter.jpg"/>
          <p:cNvPicPr/>
          <p:nvPr/>
        </p:nvPicPr>
        <p:blipFill>
          <a:blip r:embed="rId1"/>
          <a:stretch/>
        </p:blipFill>
        <p:spPr>
          <a:xfrm>
            <a:off x="4876920" y="457200"/>
            <a:ext cx="385128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I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GA OF 5 FILMS FEATURED THE CHARACTERS EDWARD THE VAMPIRE AND JACOB THE WEREWOLF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609480" y="434340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IN  "THE  STAR-SPANGLED  BANN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3504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FILM HAD THIS MOVIE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Brave_Poster.jpg"/>
          <p:cNvPicPr/>
          <p:nvPr/>
        </p:nvPicPr>
        <p:blipFill>
          <a:blip r:embed="rId1"/>
          <a:stretch/>
        </p:blipFill>
        <p:spPr>
          <a:xfrm>
            <a:off x="4191120" y="533520"/>
            <a:ext cx="44514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DO ANTHONY HOPKINS, GWYNETH PALTROW, AND JAKE GYLLENHAAL ALL PLAY MATHEMATICI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OOGLE LOGO, WHAT COLOR IS THE "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HOUSTON'S NBA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14040" y="76176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OVIDES THE MUSIC INDUSTRY WITH THE LARGEST REVENUE?  ALBUMS, DOWNLOADS, OR STREAM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DISHWASHING LIQUID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5560" y="9907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FILM HAD THIS MOVIE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Stripesposter.jpg"/>
          <p:cNvPicPr/>
          <p:nvPr/>
        </p:nvPicPr>
        <p:blipFill>
          <a:blip r:embed="rId1"/>
          <a:stretch/>
        </p:blipFill>
        <p:spPr>
          <a:xfrm>
            <a:off x="4876920" y="457200"/>
            <a:ext cx="38512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6T14:00:10Z</dcterms:created>
  <dc:creator>Jennifer Budzinski</dc:creator>
  <dc:description/>
  <dc:language>en-US</dc:language>
  <cp:lastModifiedBy>Erich Friedman</cp:lastModifiedBy>
  <dcterms:modified xsi:type="dcterms:W3CDTF">2022-11-22T09:58:15Z</dcterms:modified>
  <cp:revision>460</cp:revision>
  <dc:subject/>
  <dc:title>Slide 1</dc:title>
</cp:coreProperties>
</file>