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1F0D2-A701-4CB6-8570-17015AA2D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FAEBE-36CF-4BCF-BB0E-E35ECD7B8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44824-5A9B-48A3-93F4-DCE46D8BF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B93E1-9518-4AB2-A4B7-6FCA05D6D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F4DA4-8ACB-4A44-AA9C-903B58140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75570-8B9A-4F9D-BB54-2725FF1C9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AD84D-5DE5-4F1D-B820-93291804A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7BC4-78CD-4E70-B6E9-252C10BC0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66304-CE4C-4092-9639-8CEE60A5A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4E80-5034-4F5C-BBCA-CC82C63AA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005B-1C3D-4B1F-BA01-B819BE581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DE881-850D-4931-B7AC-7D41204A2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33626-12D9-43D8-80EE-E04E46355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C4A93-C573-44A7-847A-DEC6FB249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C8FC6-F109-456C-AC3E-086E431EB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B2598-BAD6-4C71-BFC3-BBAD953B8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4451F-AC01-46A7-B036-7C4C71E98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B84C-B767-4737-AB16-511B7E519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4C171-B4AB-4969-AE05-CCDDE8288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72F8C-6117-49B7-BADB-2652917EA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17031-863C-4715-A90D-8B390A359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341C7-1D3A-4CBB-B001-9EEC1020B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6033-2B10-4781-A1AE-3962E3786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AGA OF 5 FILMS FEATURED THE CHARACTERS EDWARD THE VAMPIRE AND JACOB THE WEREWOLF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228600" y="1066680"/>
            <a:ext cx="34290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5 FILM HAD THIS MOVIE POS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Home_(2015_film)_poster.jpg"/>
          <p:cNvPicPr/>
          <p:nvPr/>
        </p:nvPicPr>
        <p:blipFill>
          <a:blip r:embed="rId1"/>
          <a:stretch/>
        </p:blipFill>
        <p:spPr>
          <a:xfrm>
            <a:off x="4267080" y="533520"/>
            <a:ext cx="4367160" cy="426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52280" y="1066680"/>
            <a:ext cx="36576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2 FILM HAD THIS MOVIE POS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Brave_Poster.jpg"/>
          <p:cNvPicPr/>
          <p:nvPr/>
        </p:nvPicPr>
        <p:blipFill>
          <a:blip r:embed="rId1"/>
          <a:stretch/>
        </p:blipFill>
        <p:spPr>
          <a:xfrm>
            <a:off x="4191120" y="533520"/>
            <a:ext cx="4451400" cy="403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O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355680" y="762120"/>
            <a:ext cx="8381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FILM DO ANTHONY HOPKINS, GWYNETH PALTROW, AND JAKE GYLLENHAAL ALL PLAY MATHEMATICIA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876240" y="75888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GOOGLE LOGO, WHAT COLOR IS THE "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914400" y="487692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CK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1257480" y="762120"/>
            <a:ext cx="6629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HOUSTON'S NBA TE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REA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1066680" y="762120"/>
            <a:ext cx="7010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PROVIDES THE MUSIC INDUSTRY WITH THE LARGEST REVENUE?  ALBUMS, DOWNLOADS, OR STREAM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160020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BRAND OF DISHWASHING LIQUID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1066680"/>
            <a:ext cx="4114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5 FILM HAD THIS MOVIE POS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Home_(2015_film)_poster.jpg"/>
          <p:cNvPicPr/>
          <p:nvPr/>
        </p:nvPicPr>
        <p:blipFill>
          <a:blip r:embed="rId1"/>
          <a:stretch/>
        </p:blipFill>
        <p:spPr>
          <a:xfrm>
            <a:off x="4267080" y="533520"/>
            <a:ext cx="436716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RI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260280" y="914400"/>
            <a:ext cx="4038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1 FILM HAD THIS MOVIE POS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Stripesposter.jpg"/>
          <p:cNvPicPr/>
          <p:nvPr/>
        </p:nvPicPr>
        <p:blipFill>
          <a:blip r:embed="rId1"/>
          <a:stretch/>
        </p:blipFill>
        <p:spPr>
          <a:xfrm>
            <a:off x="4876920" y="457200"/>
            <a:ext cx="3851280" cy="426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WIL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AGA OF 5 FILMS FEATURED THE CHARACTERS EDWARD THE VAMPIRE AND JACOB THE WEREWOLF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609480" y="4343400"/>
            <a:ext cx="7848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RDS  IN  "THE  STAR-SPANGLED  BANNER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04920" y="1066320"/>
            <a:ext cx="3504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2 FILM HAD THIS MOVIE POS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Brave_Poster.jpg"/>
          <p:cNvPicPr/>
          <p:nvPr/>
        </p:nvPicPr>
        <p:blipFill>
          <a:blip r:embed="rId1"/>
          <a:stretch/>
        </p:blipFill>
        <p:spPr>
          <a:xfrm>
            <a:off x="4191120" y="533520"/>
            <a:ext cx="445140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FILM DO ANTHONY HOPKINS, GWYNETH PALTROW, AND JAKE GYLLENHAAL ALL PLAY MATHEMATICIA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GOOGLE LOGO, WHAT COLOR IS THE "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95280" y="762120"/>
            <a:ext cx="6553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HOUSTON'S NBA TE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914040" y="76176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PROVIDES THE MUSIC INDUSTRY WITH THE LARGEST REVENUE?  ALBUMS, DOWNLOADS, OR STREAM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BRAND OF DISHWASHING LIQUID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85560" y="99072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1 FILM HAD THIS MOVIE POS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2" descr="Stripesposter.jpg"/>
          <p:cNvPicPr/>
          <p:nvPr/>
        </p:nvPicPr>
        <p:blipFill>
          <a:blip r:embed="rId1"/>
          <a:stretch/>
        </p:blipFill>
        <p:spPr>
          <a:xfrm>
            <a:off x="4876920" y="457200"/>
            <a:ext cx="3851280" cy="4267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06T14:00:10Z</dcterms:created>
  <dc:creator>Jennifer Budzinski</dc:creator>
  <dc:description/>
  <dc:language>en-US</dc:language>
  <cp:lastModifiedBy>Erich Friedman</cp:lastModifiedBy>
  <dcterms:modified xsi:type="dcterms:W3CDTF">2022-11-22T09:58:15Z</dcterms:modified>
  <cp:revision>460</cp:revision>
  <dc:subject/>
  <dc:title>Slide 1</dc:title>
</cp:coreProperties>
</file>