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72E5-21AE-4ED7-BD18-30008780E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77F7-C8B6-45E3-AF30-C73BDF4F6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46E8-5695-4F56-9A5B-DFFF9E660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1404-CC34-40E0-ACA7-B198664C8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93E7-C188-499C-AF05-C01A22648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FD7B-AB8A-46FE-BCE6-93A48B733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3CE36-F767-4F32-BB07-A90E0F25E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287C-97E9-44A9-A800-68192A9D2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6A94-63B7-46B3-A1EC-EB0B90DF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F6EA-77F6-447E-A50C-9D29CB023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91D0-49CA-4208-802F-D9C99964F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4284-069D-44C6-A6FD-F3F0D2D35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6EAE-D8C6-41D9-86BE-B720E7D6E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DCB3-3602-4599-A666-371BE2102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8E74-D42C-4906-9170-8468FD5EC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3087-F941-42A1-A76C-068408E64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81F0-E49C-4E18-AC72-64E26690E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6BD8-0302-40D1-B620-4AAD92AF2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F044-AAF8-4B0B-A194-946F2AFB6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88FA-99B4-430A-A88A-156E75327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FA05-EA57-48F0-9DF3-73EDE6763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BE3D-0BB7-4D65-8578-FDB81F6C0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F70F-94EB-43C3-830E-5C6A4D6EB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FRENCH CONNECTION" AND BEST SUPPORTING ACTOR FOR "UNFORGIV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LIE  NIEL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3 "NAKED GU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MELA  SUE  MA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NANCY DREW ON "THE HARDY BOYS / NANCY DREW MYSTERIE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ALBER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THE SUBJECT WAS ROSES" AND PLAYED GRANDPA WILLY IN "WILLY WONKA &amp; THE CHOCOLATE FAC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LLA  STE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S OF ELVIS PRESLEY IN "GIRLS! GIRLS! GIRLS!" AND JERRY LEWIS IN "THE NUTTY PROFESS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LLEY  WI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DIARY OF ANNE FRANK" AND "A PATCH OF BLU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DDY  MCDOW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PLAYED LASSIE'S OWNER IN THE FIRST OF 7 LASSIE FILMS, AND FLICKA'S OWNER IN "MY FRIEND FLICK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  BUT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ARRED WITH JOHN WAYNE IN "HATARI!" AND WON BEST SUPPORTING ACTOR FOR "SAYONAR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3 "NAKED GUN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NEST  BORGN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52560" y="735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MARTY" AND PLAYED THE TITLE CHARACTER ON "MCHALE'S NAV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HACK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THE FRENCH CONNECTION" AND BEST SUPPORTING ACTOR FOR "UNFORGIV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23960" y="4343400"/>
            <a:ext cx="7696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EARED  IN  THE  1972  FILM  "THE  POSEIDON  ADVENTUR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CTO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NANCY DREW ON "THE HARDY BOYS / NANCY DREW MYSTERIE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3670200" y="3352680"/>
            <a:ext cx="1803600" cy="221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90400" y="762120"/>
            <a:ext cx="79632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SUPPORTING ACTOR FOR "THE SUBJECT WAS ROS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3697200" y="3200400"/>
            <a:ext cx="174960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OVE INTERESTS OF ELVIS PRESLEY IN "GIRLS! GIRLS! GIRLS!" AND JERRY LEWIS IN "THE NUTTY PROFESS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THE DIARY OF ANNE FRANK" AND "A PATCH OF BLU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PLAYED LASSIE'S OWNER IN THE FIRST OF 7 LASSIE FILMS, AND FLICKA'S OWNER IN "MY FRIEND FLICK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STARRED WITH JOHN WAYNE IN "HATARI!" AND WON BEST SUPPORTING ACTOR FOR "SAYONAR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MARTY" AND PLAYED THE TITLE CHARACTER ON "MCHALE'S NAV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0T19:59:31Z</dcterms:created>
  <dc:creator>Jennifer Budzinski</dc:creator>
  <dc:description/>
  <dc:language>en-US</dc:language>
  <cp:lastModifiedBy>Erich Friedman</cp:lastModifiedBy>
  <dcterms:modified xsi:type="dcterms:W3CDTF">2022-11-22T10:17:52Z</dcterms:modified>
  <cp:revision>458</cp:revision>
  <dc:subject/>
  <dc:title>Slide 1</dc:title>
</cp:coreProperties>
</file>