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0AC-F751-4BD0-BD1C-364E40617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FDD8-C9F0-4E8F-8069-9E0753CE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9F81-AF57-4D72-B76F-776F497D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173E-4645-47F1-AB02-A9F694D15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9215-AACF-4A1E-9CB0-02A4D45B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34F3-5B4C-419B-AB25-9D2EF0FF7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15EF-BC38-45F4-A404-768300B6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7521-4315-4373-A3B1-1D5AEF816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0844-C957-4A12-B465-E1362963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1267-B390-4F67-BB82-B9DB06A65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7431-D92D-4D7B-9705-DF61077B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8C23-7498-4F17-84B2-C53CAFB92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1E9A-658C-43BA-B3AD-67153830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A57B-3A49-4F27-B4A5-8027FE42A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03C7-7D12-41AB-A022-0ED0027EB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62E5-A507-4043-B6D1-D93524369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80AD-D3D7-4C1A-BCE4-C15BB030C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7CC5-67A2-4CA2-8744-A833EDB8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060C-D5AD-4D66-AB33-395B71F59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1B2B-D1E5-4503-9809-93B22F0A5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C91E-FD3C-41B7-92CE-A1B61D0EF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3F27-827E-48E4-8302-C234944E5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8C41-542E-464E-9C06-771D4B69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NAKED GU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ELA  SUE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NANCY DREW ON "THE HARDY BOYS / NANCY DREW MYSTERIE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L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THE SUBJECT WAS ROSES" AND PLAYED GRANDPA WILLY IN "WILLY WONKA &amp; THE CHOCOLATE FAC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LLA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S OF ELVIS PRESLEY IN "GIRLS! GIRLS! GIRLS!" AND JERRY LEWIS IN "THE NUTTY PROFESS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LEY  W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DIARY OF ANNE FRANK" AND "A PATCH OF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DY  MCDO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PLAYED LASSIE'S OWNER IN THE FIRST OF 7 LASSIE FILMS, AND FLICKA'S OWNER IN "MY FRIEND FLIC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WITH JOHN WAYNE IN "HATARI!" AND WON BEST SUPPORTING ACTOR FOR "SAYONAR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NAKED GU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NEST  BORG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35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RTY" AND PLAYED THE TITLE CHARACTER ON "MCHALE'S NAV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HA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23960" y="43434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ED  IN  THE  1972  FILM  "THE  POSEIDON  ADVENTU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NANCY DREW ON "THE HARDY BOYS / NANCY DREW MYSTERIE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670200" y="3352680"/>
            <a:ext cx="18036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90400" y="762120"/>
            <a:ext cx="7963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THE SUBJECT WAS RO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697200" y="3200400"/>
            <a:ext cx="174960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S OF ELVIS PRESLEY IN "GIRLS! GIRLS! GIRLS!" AND JERRY LEWIS IN "THE NUTTY PROFESS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DIARY OF ANNE FRANK" AND "A PATCH OF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PLAYED LASSIE'S OWNER IN THE FIRST OF 7 LASSIE FILMS, AND FLICKA'S OWNER IN "MY FRIEND FLICK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WITH JOHN WAYNE IN "HATARI!" AND WON BEST SUPPORTING ACTOR FOR "SAYONAR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RTY" AND PLAYED THE TITLE CHARACTER ON "MCHALE'S NAV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9:59:31Z</dcterms:created>
  <dc:creator>Jennifer Budzinski</dc:creator>
  <dc:description/>
  <dc:language>en-US</dc:language>
  <cp:lastModifiedBy>Erich Friedman</cp:lastModifiedBy>
  <dcterms:modified xsi:type="dcterms:W3CDTF">2022-11-22T10:17:52Z</dcterms:modified>
  <cp:revision>458</cp:revision>
  <dc:subject/>
  <dc:title>Slide 1</dc:title>
</cp:coreProperties>
</file>