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4C00-5B31-404A-9748-14EF17B5C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9744-E01E-4DBC-9690-A331C3EB2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1439-9FCD-45D5-8A27-7810AEAF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1D00-EEF2-472A-A763-50F14B5A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E3CE-82CD-44A4-B994-5CFC1FED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8E3B-01F4-4852-8AA9-79D67701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3F62-1CD9-4BEE-B105-AD87B434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72AC-EB43-48F8-8891-9ED0E62C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4559-A1A0-4926-BF88-A8BD5C49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43DE-615B-4E67-9FD7-F8AB7BA6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555D-0379-4227-AC01-016CAE73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C58E-A80C-4918-BEA9-F74B64F8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2EE1-713B-434F-8BF0-D8F75E952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3168-662C-4707-829E-CEF8A3AA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851-27C8-4151-A209-FDE6F5B8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DCCB-D5F4-4121-AB5E-449A2A30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3B0D-4A16-4063-B731-3559263D4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996D-9540-43B8-AEF0-0F726732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D0A-DBBB-4C43-85F0-3E3949D33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DB8D-7437-432F-8E1F-2BD23A59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9887-C36A-4A19-A406-AE98AD5C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441A-FC64-435B-8F30-833AE1AB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2EF2-D8DE-4FEC-BF29-F9989D067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KNOWN AS THE SOON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CALL PROTEIN FILAMENTS GROWING FROM OUR DERM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T 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ULATION BEGAN IN NYC IN 1943 IN RESPONSE TO A LACK OF AFFORDABLE HOU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95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SET  BOULEV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 AND DEAN'S SONG "DEAD MAN'S CURVE" REFERS TO WHAT FAMOUS LOS ANGELES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TS DOES TAYLOR SWIF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A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NIGHTCLUB SHOW ORIGINATING IN FRANCE IS OFTEN ORIENTED TOWARDS ADUL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EST AIRPORT IN THE WORLD IS IN ATLANTA.  WHERE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US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OK  OF  MOR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ACRED TEXT OF THE LATTER DAY SA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CALL PROTEIN FILAMENTS GROWING FROM OUR DERM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SECRETARY OF THE TREASURY, BUT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KNOWN AS THE SOON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POPULAR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ULATION    BEGAN IN NYC IN 1943 IN RESPONSE TO A LACK OF AFFORDABLE HOU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 AND DEAN'S SONG "DEAD MAN'S CURVE" REFERS TO WHAT FAMOUS LOS ANGELES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TS DOES TAYLOR SWIF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NIGHTCLUB SHOW ORIGINATING IN FRANCE IS OFTEN ORIENTED TOWARDS ADULT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EST AIRPORT IN THE WORLD IS IN ATLANTA.  WHERE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US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ACRED TEXT OF THE LATTER DAY SA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SECRETARY OF THE TREASURY, BUT NEVER BECA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1:21:17Z</dcterms:created>
  <dc:creator>Jennifer Budzinski</dc:creator>
  <dc:description/>
  <dc:language>en-US</dc:language>
  <cp:lastModifiedBy>Erich Friedman</cp:lastModifiedBy>
  <dcterms:modified xsi:type="dcterms:W3CDTF">2020-08-25T15:43:54Z</dcterms:modified>
  <cp:revision>392</cp:revision>
  <dc:subject/>
  <dc:title>Slide 1</dc:title>
</cp:coreProperties>
</file>