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1769-14A4-4460-BDB3-C6EC87727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8588-7B7A-4704-8B2F-E914B935E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429A-17FA-44B7-85CC-EEBC0CC5E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7D6E-6A04-4E9A-AC47-574031833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E7BA-0B39-40F7-8E82-F963943E1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FB87-043C-401D-9F62-21A0DEF4B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0C9A-B2D5-4E36-B689-A1E2B108A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BB52-2E76-4911-A71E-118FA6ACB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1375-0066-4783-94D1-067750DC0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05E9-9412-461F-A5A2-6D7D4715A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D0FB-3A57-4557-8C7F-809FCCD03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8CE0-36F0-47CD-A6E2-1C81780F7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11DE-AC03-4886-9711-6FB57FA39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0E55-632D-42F7-A86C-539F3FFE5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15BA-673E-4AFE-B830-841BED2B6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B68D-2ED4-4218-82B4-A17F63684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8B41-77A4-4C49-9C38-A90EA62B4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8596-18A9-4D5F-A60A-EA8B84269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5B15-02D2-4204-9F7F-AAA260052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7F9E-C569-49B6-A256-4C5CFCAEF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5123-9BB9-419C-BEAE-1BB5942DB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6191-AB25-4F50-A370-FA3C45E45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2747-2C7A-4282-AA29-0FF419193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 IS KNOWN AS THE SOONER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NAME DO WE USUALLY CALL PROTEIN FILAMENTS GROWING FROM OUR DERM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NT 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04840" y="76212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GULATION BEGAN IN NYC IN 1943 IN RESPONSE TO A LACK OF AFFORDABLE HOUS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8952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SET  BOULEV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N AND DEAN'S SONG "DEAD MAN'S CURVE" REFERS TO WHAT FAMOUS LOS ANGELES RO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PETS DOES TAYLOR SWIFT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BAR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NIGHTCLUB SHOW ORIGINATING IN FRANCE IS OFTEN ORIENTED TOWARDS ADULT AUDIEN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A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USIEST AIRPORT IN THE WORLD IS IN ATLANTA.  WHERE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USI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OOK  OF  MOR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ACRED TEXT OF THE LATTER DAY SAI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NAME DO WE USUALLY CALL PROTEIN FILAMENTS GROWING FROM OUR DERMI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ANDER  HAMI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U.S. SECRETARY OF THE TREASURY, BUT NEVER BECAME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KLAHO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 IS KNOWN AS THE SOONER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600200" y="4343400"/>
            <a:ext cx="594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NAMES  OF  POPULAR  PL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GULATION    BEGAN IN NYC IN 1943 IN RESPONSE TO A LACK OF AFFORDABLE HOUS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00280" y="762120"/>
            <a:ext cx="7543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N AND DEAN'S SONG "DEAD MAN'S CURVE" REFERS TO WHAT FAMOUS LOS ANGELES RO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PETS DOES TAYLOR SWIFT HA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NIGHTCLUB SHOW ORIGINATING IN FRANCE IS OFTEN ORIENTED TOWARDS ADULT AUDIENC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USIEST AIRPORT IN THE WORLD IS IN ATLANTA.  WHERE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USI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ACRED TEXT OF THE LATTER DAY SAI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U.S. SECRETARY OF THE TREASURY, BUT NEVER BECAME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11:21:17Z</dcterms:created>
  <dc:creator>Jennifer Budzinski</dc:creator>
  <dc:description/>
  <dc:language>en-US</dc:language>
  <cp:lastModifiedBy>Erich Friedman</cp:lastModifiedBy>
  <dcterms:modified xsi:type="dcterms:W3CDTF">2020-08-25T15:43:54Z</dcterms:modified>
  <cp:revision>392</cp:revision>
  <dc:subject/>
  <dc:title>Slide 1</dc:title>
</cp:coreProperties>
</file>