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996D-184C-4336-9876-48C930914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B0B2-8997-4B31-AC59-62DFC6FB6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D7B1-D530-4FA0-B91D-40D72CC35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61D6-C2C8-4F57-9C90-E43EFE34A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BBB8-7BE8-4FEB-A6C1-D8E5B4579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7A62-4906-4DC3-A094-54B55246B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24F2-2AE2-4F7E-9A15-D312C6A0C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1671-9F78-4DA3-A55B-522F11EBC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A5C7-CBE9-4D77-A419-008091B11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F5BE-FBF7-4A7D-A937-393109492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F962-1FD2-4BD0-BEE6-7BB52D6EC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7C1C-7BF1-4ECF-8904-824F5BC0C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351E-5D79-4F79-A246-2111AB243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3CCA-EAF2-42B7-8138-75B7CB6B2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C52E-BC87-4B39-95DA-92580B232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37F2-9A15-44F0-9738-61D63DA7D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1246-A026-409D-BBA5-A2B8201F5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3437-158A-4258-922F-D2D13D922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A1BF-4593-4074-9096-5742566DE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E0B4-ADF9-45D5-BD62-3BF90CA66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0FE3-D79F-48DE-B47F-C03D30399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4F45-B3F8-496B-B6C5-213664FF9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442E-55D4-41F2-B04F-21E6C4464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S KNOWN AS THE SOON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DO WE USUALLY CALL PROTEIN FILAMENTS GROWING FROM OUR DERM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T 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GULATION BEGAN IN NYC IN 1943 IN RESPONSE TO A LACK OF AFFORDABLE HOU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952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SET  BOULEV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N AND DEAN'S SONG "DEAD MAN'S CURVE" REFERS TO WHAT FAMOUS LOS ANGELES RO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ETS DOES TAYLOR SWIFT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A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NIGHTCLUB SHOW ORIGINATING IN FRANCE IS OFTEN ORIENTED TOWARDS ADULT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USIEST AIRPORT IN THE WORLD IS IN ATLANTA.  WHERE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US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OK  OF  MOR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ACRED TEXT OF THE LATTER DAY SA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DO WE USUALLY CALL PROTEIN FILAMENTS GROWING FROM OUR DERMI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HA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SECRETARY OF THE TREASURY, BUT NEVER BECA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KLAH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S KNOWN AS THE SOONER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00200" y="4343400"/>
            <a:ext cx="594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POPULAR  PL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GULATION    BEGAN IN NYC IN 1943 IN RESPONSE TO A LACK OF AFFORDABLE HOU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N AND DEAN'S SONG "DEAD MAN'S CURVE" REFERS TO WHAT FAMOUS LOS ANGELES RO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ETS DOES TAYLOR SWIFT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NIGHTCLUB SHOW ORIGINATING IN FRANCE IS OFTEN ORIENTED TOWARDS ADULT AUDIEN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USIEST AIRPORT IN THE WORLD IS IN ATLANTA.  WHERE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USI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ACRED TEXT OF THE LATTER DAY SAI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SECRETARY OF THE TREASURY, BUT NEVER BECAM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1:21:17Z</dcterms:created>
  <dc:creator>Jennifer Budzinski</dc:creator>
  <dc:description/>
  <dc:language>en-US</dc:language>
  <cp:lastModifiedBy>Erich Friedman</cp:lastModifiedBy>
  <dcterms:modified xsi:type="dcterms:W3CDTF">2020-08-25T15:43:54Z</dcterms:modified>
  <cp:revision>392</cp:revision>
  <dc:subject/>
  <dc:title>Slide 1</dc:title>
</cp:coreProperties>
</file>