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09CA-311F-4B5D-8FD7-57B6AB62D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C04B-80D9-4812-ABB1-D832EA800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5A2-B017-49B2-AF6A-61B4DB7D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391-832F-4892-801D-5D5BAC10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A15D-22F1-40EE-96DF-D73DEF2A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334A-A351-4DE7-89C6-D38A53AA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76D-F76F-4973-ABC9-D009F5D7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ED33-A200-489E-BBC5-6BC98243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DA6-25C5-43F7-B9FB-7C13D93B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A5F3-8119-432C-A12F-B7F8B73F1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8240-453F-441E-99B1-38202A36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782A-F3DD-483E-A1E9-FDBD6978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675-2F1D-4556-8643-0F668011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A7B-4795-4F2B-A660-11B2FC4F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BEFD-B475-4942-8F74-8EF6C98A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8275-D6CF-4B96-959C-EB08A7C88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BE74-EB53-4AE4-B2B4-8FC3069C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759-A681-4177-B566-2B28A1C4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FB5B-38C5-4E37-8058-5C771557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F8A0-34CA-4B9E-A911-25A5A688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06B7-9B32-4272-B980-D602A0C1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6DB-63BE-4AF1-A114-CAC8C40F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CA0B-5551-40D3-8F08-40AB7B5B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UNABO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D. SAL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TCHER IN THE R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S  AND  CAICOS  ISLA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IPELAGO UNDER BRITISH CONTROL IS JUST NORTH OF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INGER AND HOST OF A PIONEERING MUSICAL VARIETY TV SHOW WAS KNOWN AS "MR. 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"GOOD WILL HU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  G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356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ALIFORNIA SPLIT", "THE LONG GOODBYE", AND PLAYED TRAPPER JOHN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BEST-SELLING REGGAE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ISRA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TCHER IN THE RY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D  R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SAW THE LIGHT" AND "BANG THE DRUM ALL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UNABO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CHARACTERS  ON  "SCRUB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IPELAGO UNDER BRITISH CONTROL IS JUST NORTH OF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INGER AND HOST OF A PIONEERING MUSICAL VARIETY TV SHOW WAS KNOWN AS "MR. 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"GOOD WILL HUN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ALIFORNIA SPLIT", "THE LONG GOODBYE", AND PLAYED TRAPPER JOHN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BEST-SELLING REGGAE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ISRA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SAW THE LIGHT" AND "BANG THE DRUM ALL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20:08:55Z</dcterms:created>
  <dc:creator>Jennifer Budzinski</dc:creator>
  <dc:description/>
  <dc:language>en-US</dc:language>
  <cp:lastModifiedBy>Erich Friedman</cp:lastModifiedBy>
  <dcterms:modified xsi:type="dcterms:W3CDTF">2020-08-25T15:45:56Z</dcterms:modified>
  <cp:revision>397</cp:revision>
  <dc:subject/>
  <dc:title>Slide 1</dc:title>
</cp:coreProperties>
</file>