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FB5A-1A69-4327-8766-7A500ABBB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019E-C759-4742-96A3-F59CE73B7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4855-F9A9-4FF6-9FEE-1688788F5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F908-C648-4EB2-BACF-40B3FB79F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3A26-D6AC-42E4-98A3-ED0AB84BC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1399-DCD8-4852-8FB8-8E83C1B74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CB19-11B1-480D-9B0A-6E2F53684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C413-60CB-486E-8FE6-F2C1CCD56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CABD-EBB9-40FC-9067-4AFCA6949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DCF8-BE6B-4599-8CBD-4CB46D1C1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3381-E0A0-4362-8303-5BA68CA15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E5DF-54D0-4026-90F5-51FAAC627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BCFE-6C48-4099-AFF9-23142AE11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FFF4-D480-4E0E-A8F9-683794731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8C00-6CF0-484C-A2A0-B4927C5E3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6E26-50D0-44EB-916C-C58478800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FDB4-6909-4F57-9CF6-24278F7AF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00A5-6B14-4976-9D2F-265F88EC5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B026-30CF-4C47-969B-D79ADD5AB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4A27-F211-43CA-997C-67881DB42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C1A0-7937-40D5-B852-D443FFCA3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87E6-E56D-49AA-93C5-19DD7AD5A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9045-AA86-47CD-8DA9-BF0E4F92C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UNABOMB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. D. SALI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CATCHER IN THE RY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KS  AND  CAICOS  ISLAND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CHIPELAGO UNDER BRITISH CONTROL IS JUST NORTH OF HAIT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RRY  C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ULAR SINGER AND HOST OF A PIONEERING MUSICAL VARIETY TV SHOW WAS KNOWN AS "MR. C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I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JOB OF "GOOD WILL HUNT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LIOT  G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3560"/>
            <a:ext cx="8229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CALIFORNIA SPLIT", "THE LONG GOODBYE", AND PLAYED TRAPPER JOHN IN THE FILM "M*A*S*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MAR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BEST-SELLING REGGAE ALBUM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RD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JUST EAST OF ISRA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CATCHER IN THE RY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8160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DD  RUNDG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95280" y="762120"/>
            <a:ext cx="6553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I SAW THE LIGHT" AND "BANG THE DRUM ALL 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D  KACZYNS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333440" y="762120"/>
            <a:ext cx="6477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UNABOMB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95360" y="4343400"/>
            <a:ext cx="8153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FIRST  NAMES  ARE CHARACTERS  ON  "SCRUBS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CHIPELAGO UNDER BRITISH CONTROL IS JUST NORTH OF HAIT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ULAR SINGER AND HOST OF A PIONEERING MUSICAL VARIETY TV SHOW WAS KNOWN AS "MR. C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JOB OF "GOOD WILL HUNT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CALIFORNIA SPLIT", "THE LONG GOODBYE", AND PLAYED TRAPPER JOHN IN THE FILM "M*A*S*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BEST-SELLING REGGAE ALBUM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JUST EAST OF ISRA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I SAW THE LIGHT" AND "BANG THE DRUM ALL D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8T20:08:55Z</dcterms:created>
  <dc:creator>Jennifer Budzinski</dc:creator>
  <dc:description/>
  <dc:language>en-US</dc:language>
  <cp:lastModifiedBy>Erich Friedman</cp:lastModifiedBy>
  <dcterms:modified xsi:type="dcterms:W3CDTF">2020-08-25T15:45:56Z</dcterms:modified>
  <cp:revision>397</cp:revision>
  <dc:subject/>
  <dc:title>Slide 1</dc:title>
</cp:coreProperties>
</file>