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502E-3CD7-487A-91D4-0D4735E87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50DA-FA79-4B22-96A9-7A5897D0C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C184-9450-46E7-9A8D-7F9B8264E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DBA4-1F21-4E51-BF42-37AE897BD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C1D3-13B9-420D-BB55-DCEB4B143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F83E-5F39-4748-9457-24625334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03D-357D-420E-9480-6175015B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A829-0543-4A96-A877-BCA68B059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2730-07EB-4388-9D31-E2E9DAF42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3E41-7332-4E4B-A7DF-8D5133BE5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FB68-EE03-4D10-804A-937D60DC9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C7C50-F8F7-40D5-A781-4D2094D76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C5E1-0091-4961-8E41-4897A3A7A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684C-EC1B-4654-86C8-B60D35715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A5FA-AE3B-4D1B-8B0F-F90457007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9845-C899-41BE-9AEB-9C536D898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46F-5DC7-4CC0-96BD-4128BC5A3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8728-240A-4436-BD82-7592C2B47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4063-0658-48FD-84D2-25FCCAE84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CEF2-AE8B-407B-826C-017FD583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8E5C-B87C-4EC3-923E-38E0B9897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95A26-1E5C-4DAA-9085-92B207F1F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65C88-B2D5-4980-B389-60BEA8241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655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UNABOMB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. D. SALIN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90720" y="762120"/>
            <a:ext cx="71625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TCHER IN THE RY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KS  AND  CAICOS  ISLAN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IPELAGO UNDER BRITISH CONTROL IS JUST NORTH OF HAIT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RY  CO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INGER AND HOST OF A PIONEERING MUSICAL VARIETY TV SHOW WAS KNOWN AS "MR. 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"GOOD WILL HUNT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LIOT  GOU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57200" y="763560"/>
            <a:ext cx="82296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ALIFORNIA SPLIT", "THE LONG GOODBYE", AND PLAYED TRAPPER JOHN IN THE FILM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B  M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BEST-SELLING REGGAE ALBUM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RD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ISRA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CATCHER IN THE RY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8160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D  RUNDG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295280" y="762120"/>
            <a:ext cx="6553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SAW THE LIGHT" AND "BANG THE DRUM ALL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D  KACZYN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UNABOMB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95360" y="43434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CHARACTERS  ON  "SCRUB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CHIPELAGO UNDER BRITISH CONTROL IS JUST NORTH OF HAIT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SINGER AND HOST OF A PIONEERING MUSICAL VARIETY TV SHOW WAS KNOWN AS "MR. C.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JOB OF "GOOD WILL HUNT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CALIFORNIA SPLIT", "THE LONG GOODBYE", AND PLAYED TRAPPER JOHN IN THE FILM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THE BEST-SELLING REGGAE ALBUM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IS JUST EAST OF ISRA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I SAW THE LIGHT" AND "BANG THE DRUM ALL D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8T20:08:55Z</dcterms:created>
  <dc:creator>Jennifer Budzinski</dc:creator>
  <dc:description/>
  <dc:language>en-US</dc:language>
  <cp:lastModifiedBy>Erich Friedman</cp:lastModifiedBy>
  <dcterms:modified xsi:type="dcterms:W3CDTF">2020-08-25T15:45:56Z</dcterms:modified>
  <cp:revision>397</cp:revision>
  <dc:subject/>
  <dc:title>Slide 1</dc:title>
</cp:coreProperties>
</file>