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EE3D-23AE-4659-BBDE-8FAE170D2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D45A-6971-46EC-8862-45F3CE808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3742-2AA0-4C77-B656-8A705175F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42B7-04F5-4F36-A555-D776F2FFF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1F1C-4B46-431C-958B-27E90CFEC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7C35-32E5-4222-A329-A024B94F9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41FA-97BE-4E8D-8484-11A38D003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F352-41F8-4E22-B3F5-FEF91A08F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73B0-A16A-4B22-8A5F-8998A0D70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E76E-B680-4000-9A41-68116C9E1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5C9D-053C-4B3A-9F64-1ECF15DF3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F31E-1A7D-4390-B7AD-3987C2310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3DBE-450E-4536-B9CB-E6034C4E7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E51F-016A-4EB8-AA19-097D6DA60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FCFE-5595-4A85-A9D9-00D6A9A9A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376D-82F0-46CC-BA9F-DBBACAA3C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B18D-73C2-4849-8F77-58ACF4742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23CF-A5CC-4DE0-98BF-296E9B9BE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AFA7-8AC2-487B-9891-498ED3B58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F148-508F-4B76-A334-FDB4F8658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6A8B-F5B9-4E82-BCA3-E002DC664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8461-17B1-4DD1-AB90-0C2B50EBB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BE87-C6B3-4411-BC9D-A53DB15C9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ISSION RESULTED IN THE FIRST LUNAR LAND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T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 COMPANY HAD MODELS CALLED THE ION, SKY, OUTLOOK, AND REL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43080" y="76356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IGGEST HIT SONG SUNG BY THE MUSICAL GROUP "SHOCKING BLU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8484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266760" y="76212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OBJECT IN THE ASTEROID BELT, NEARLY 600 MILES IN DIAME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NA  SPEN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AIDEN NAME OF THE PRINCESS OF WALES FROM 1981 TO 199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RORA  BOREA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CIENTIFIC NAME FOR THE "NORTHERN LIGH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ULC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STAR TREK", WHAT PLANET IS SPOCK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ERVA  MCGONAG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90720" y="762120"/>
            <a:ext cx="7162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ULL NAME OF THE HEADMISTRESS OF HOGWARTS IN THE "HARRY POTTER" BOO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 COMPANY HAD MODELS CALLED THE ION, SKY, OUTLOOK, AND REL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M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AN ISAAC ASIMOV BOOK, AN AGATHA CHRISTIE BOOK, AND THE SUBTITLE OF THE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"STAR TREK"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OLLO  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ISSION RESULTED IN THE FIRST LUNAR LAND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47920" y="4343400"/>
            <a:ext cx="6248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NAMES  OF  ROMAN  G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95360" y="76212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IGGEST HIT SONG SUNG BY THE MUSICAL GROUP "SHOCKING BLU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OBJECT IN THE ASTEROID BELT, NEARLY 600 MILES IN DIAME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AIDEN NAME OF THE PRINCESS OF WALES FROM 1981 TO 199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CIENTIFIC NAME FOR THE "NORTHERN LIGH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STAR TREK", WHAT PLANET IS SPOCK FR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ULL NAME OF THE HEADMISTRESS OF HOGWARTS IN THE "HARRY POTTER" BOO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AN ISAAC ASIMOV BOOK, AN AGATHA CHRISTIE BOOK, AND THE SUBTITLE OF THE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"STAR TREK"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9T00:06:00Z</dcterms:created>
  <dc:creator>Jennifer Budzinski</dc:creator>
  <dc:description/>
  <dc:language>en-US</dc:language>
  <cp:lastModifiedBy>Erich Friedman</cp:lastModifiedBy>
  <dcterms:modified xsi:type="dcterms:W3CDTF">2020-08-25T16:58:46Z</dcterms:modified>
  <cp:revision>395</cp:revision>
  <dc:subject/>
  <dc:title>Slide 1</dc:title>
</cp:coreProperties>
</file>