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AD0-478C-4075-9076-C42316AD5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490A-36BD-4679-B9BF-11E0DB077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8CEB-7AD2-47F7-B2D1-0700E3EFD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7C07-8F93-4040-A148-7712B0A6D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0DC3-CE9A-486C-BDB2-1E5764F0C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8E90-575C-4D34-9CA1-6CC865ED9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40B4-D0A2-4153-8E2C-1BE11F1A6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FBF7-BD89-4258-B541-D07908A1F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4A3E-EC72-4AB1-A485-14A15C135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8613-D7F2-4BB4-90FE-33DCAE625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CB1B-57FF-4C74-8369-4885628AA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A0D-2C01-427A-8D0B-351BAF98B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2660-5F52-4FDD-BB69-A4541145C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CDE2-AC3D-4E6C-BC44-075B237A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A2BF-1315-49BC-8CF7-3D9EE12FD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8B9F-CAA4-44FA-9B81-AC5742E37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E8ED-5F4C-4D66-A4C8-E40450ED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5894-A1E8-403D-B781-A2F20046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FC42-50C4-44E7-8BDE-34B4A6008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401F2-7063-4288-A113-2B2B0711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E4C0-7655-452D-BDE1-5C88C8E7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7CFE-3813-4175-A37F-7FAEC2071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F09EB-FF5A-4A93-98D6-CF42995FC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ISSION RESULTED IN THE FIRST LUNAR LAN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D MODELS CALLED THE ION, SKY, OUTLOOK, AND RE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356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SUNG BY THE MUSICAL GROUP "SHOCKING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THE ASTEROID BELT, NEARLY 600 MIL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  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DEN NAME OF THE PRINCESS OF WALES FROM 1981 TO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RORA  BORE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FOR THE "NORTHERN L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UL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PLANET IS SPOCK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RVA  MCGONAG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HEADMISTRESS OF HOGWARTS IN THE "HARRY POTTER"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HAD MODELS CALLED THE ION, SKY, OUTLOOK, AND RE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M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N ISAAC ASIMOV BOOK, AN AGATHA CHRISTIE BOOK, AND THE SUBTITLE OF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STAR TREK"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ISSION RESULTED IN THE FIRST LUNAR LAN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434340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ROMAN  G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GGEST HIT SONG SUNG BY THE MUSICAL GROUP "SHOCKING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BJECT IN THE ASTEROID BELT, NEARLY 600 MIL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IDEN NAME OF THE PRINCESS OF WALES FROM 1981 TO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CIENTIFIC NAME FOR THE "NORTHERN L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PLANET IS SPOCK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ULL NAME OF THE HEADMISTRESS OF HOGWARTS IN THE "HARRY POTTER"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N ISAAC ASIMOV BOOK, AN AGATHA CHRISTIE BOOK, AND THE SUBTITLE OF THE 1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"STAR TREK"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00:06:00Z</dcterms:created>
  <dc:creator>Jennifer Budzinski</dc:creator>
  <dc:description/>
  <dc:language>en-US</dc:language>
  <cp:lastModifiedBy>Erich Friedman</cp:lastModifiedBy>
  <dcterms:modified xsi:type="dcterms:W3CDTF">2020-08-25T16:58:46Z</dcterms:modified>
  <cp:revision>395</cp:revision>
  <dc:subject/>
  <dc:title>Slide 1</dc:title>
</cp:coreProperties>
</file>