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A486-94C0-4417-888F-3083D0CE4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E4BE-70D6-45B3-8695-25738854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975C-8792-45B0-93D8-19833A80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32EF-9F49-4D41-9B10-FBCD1267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0BFC-4E49-4AB3-BD14-3D299721C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3199-59AB-4FE6-AFD4-E064E9D70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5EB4-BD11-4BC6-AF1D-DC43BFA0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C9B8-0F48-4D21-B219-1C0185EA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21C8-EA7A-4F78-903B-D1990A98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A26E-E070-48AC-9658-F36414F7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21D4-7780-4253-8B22-1AAE91DA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C6BE-13C7-4773-8458-8B2723D6E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7CDC-40FF-46F3-8536-6A45149EC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28CA-78BB-4E28-B1A2-FB4D972BD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487-3DA5-496A-9626-9896A4B5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E1A4-3A07-49F9-B8C7-3393D8CA5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021B-D55E-400A-93CC-EB4509734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66E0-7720-42CF-86F5-5560CCD7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3595-2398-4F59-BE1E-91A6C7F2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A85E-637B-4459-BDC3-7EC7706C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6A50-0DD9-4A8E-9383-E3711E41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E735-A6A8-406A-9C51-003B88B3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0056-6B58-4992-912B-09A9716B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ISSION RESULTED IN THE FIRST LUNAR LAN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D MODELS CALLED THE ION, SKY, OUTLOOK, AND RE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356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SUNG BY THE MUSICAL GROUP "SHOCKING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THE ASTEROID BELT, NEARLY 600 MILES IN DIAME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SPE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DEN NAME OF THE PRINCESS OF WALES FROM 1981 TO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RORA  BORE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FOR THE "NORTHERN L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UL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PLANET IS SPOCK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RVA  MCGONAG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HEADMISTRESS OF HOGWARTS IN THE "HARRY POTTER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D MODELS CALLED THE ION, SKY, OUTLOOK, AND RE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M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N ISAAC ASIMOV BOOK, AN AGATHA CHRISTIE BOOK, AND THE SUBTITLE OF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STAR TREK"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ISSION RESULTED IN THE FIRST LUNAR L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47920" y="4343400"/>
            <a:ext cx="624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ROMAN  G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SUNG BY THE MUSICAL GROUP "SHOCKING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THE ASTEROID BELT, NEARLY 600 MILES IN DIAME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DEN NAME OF THE PRINCESS OF WALES FROM 1981 TO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FOR THE "NORTHERN L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PLANET IS SPOCK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HEADMISTRESS OF HOGWARTS IN THE "HARRY POTTER"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N ISAAC ASIMOV BOOK, AN AGATHA CHRISTIE BOOK, AND THE SUBTITLE OF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STAR TREK"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00:06:00Z</dcterms:created>
  <dc:creator>Jennifer Budzinski</dc:creator>
  <dc:description/>
  <dc:language>en-US</dc:language>
  <cp:lastModifiedBy>Erich Friedman</cp:lastModifiedBy>
  <dcterms:modified xsi:type="dcterms:W3CDTF">2020-08-25T16:58:46Z</dcterms:modified>
  <cp:revision>395</cp:revision>
  <dc:subject/>
  <dc:title>Slide 1</dc:title>
</cp:coreProperties>
</file>