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E56E-CCBC-4FB7-AF14-E190E931F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CF3-EBFD-4ACA-B853-EE58F39D6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9EA1-A44D-409A-A38C-75A457B0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CADB-E262-416C-BC02-C21AC6535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8391-7440-46AB-A2FC-EB7332CED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59EE-6C41-4D68-B192-C5CF97D01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6F38-CF9C-41A8-BA14-012550FC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A78A-B268-4902-B240-45BD032C2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BE95-3813-4CA9-A549-AD257E8BA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40BC-330F-4A10-A396-733CB7C71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EC8E-2D96-426B-9724-FFC0FAB8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F083-DD37-4241-A563-7CF9C64D5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84A4-5763-4890-B7CE-047BB455B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EED3-6B83-438B-BE21-C651BFA05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E44E-C2E8-43B7-87F8-BD1EB90BA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9698-4D53-4F1E-9EBC-51BC4EC1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833C-B68B-4A45-9A3D-F19117D56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AA42-D1D3-41A4-9E4F-E1180BA79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56B8-35FB-4B17-99A2-0B5A13726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6100-6741-4DA6-8314-9195A7AA1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8AD3-EBC3-48F6-9034-8396B498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2BD9-7096-44CD-ACED-572D68578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8DBA-F64D-4788-BE6C-F644AE7FC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838080" y="4876920"/>
            <a:ext cx="411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4920" y="762120"/>
            <a:ext cx="495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AROT CARD, THE LAST IN THE TRUMP S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RWS_Tarot_21_World.jpg"/>
          <p:cNvPicPr/>
          <p:nvPr/>
        </p:nvPicPr>
        <p:blipFill>
          <a:blip r:embed="rId1"/>
          <a:stretch/>
        </p:blipFill>
        <p:spPr>
          <a:xfrm>
            <a:off x="5867280" y="457200"/>
            <a:ext cx="27860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HINOVIRUS CAUSES WHAT HUMAN DISE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VINCENT) 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0'S ACTOR WHO PLAYED A HOMICIDAL SCULPTOR IN "HOUSE OF WAX" AND A MAD SCIENTIST IN "THE 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M  KIPP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'S SERVICE, FROM THE "KOL NIDRE" TO THE "NEILAH", IS THE LONGEST IN THE JEWISH LITU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MOST COMMON TERM OF FIXED-RATE MORTGAGE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SCOT RIDES THE WHITE HORSE NAMED TRAVELER AT USC HOME FOOTBALL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769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R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SES OF "GANGNAM STYLE," THE MOST-WATCHED VIDEO IN YOUTUBE HISTORY, ARE SUNG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487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AROT CARD, THE LAST IN THE TRUMP S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RWS_Tarot_21_World.jpg"/>
          <p:cNvPicPr/>
          <p:nvPr/>
        </p:nvPicPr>
        <p:blipFill>
          <a:blip r:embed="rId1"/>
          <a:stretch/>
        </p:blipFill>
        <p:spPr>
          <a:xfrm>
            <a:off x="5867280" y="457200"/>
            <a:ext cx="27860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TN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CAMBO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WA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HINOVIRUS CAUSES WHAT HUMAN DISE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0'S ACTOR WHO PLAYED A HOMICIDAL SCULPTOR IN "HOUSE OF WAX" AND A MAD SCIENTIST IN "THE 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'S SERVICE, FROM THE "KOL NIDRE" TO THE "NEILAH", IS THE LONGEST IN THE JEWISH LITUR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MOST COMMON TERM OF FIXED-RATE MORTGAGE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SCOT RIDES THE WHITE HORSE NAMED TRAVELER AT USC HOME FOOTBALL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SES OF "GANGNAM STYLE," THE MOST-WATCHED VIDEO IN YOUTUBE HISTORY, ARE SUNG IN WHAT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CAMBO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00:51:40Z</dcterms:created>
  <dc:creator>Jennifer Budzinski</dc:creator>
  <dc:description/>
  <dc:language>en-US</dc:language>
  <cp:lastModifiedBy>Erich Friedman</cp:lastModifiedBy>
  <dcterms:modified xsi:type="dcterms:W3CDTF">2020-08-25T17:22:31Z</dcterms:modified>
  <cp:revision>438</cp:revision>
  <dc:subject/>
  <dc:title>Slide 1</dc:title>
</cp:coreProperties>
</file>