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7FCF-7B19-401E-929E-0D359FEEF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E99C-BA89-4DFA-849F-A5D712E49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3CD6-6D6B-48BC-A525-D2C17829B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4466-8EA6-41F2-BF42-7B2C5C73C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C0E4-7BC2-425B-AD7E-66419EC3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EEB1F-F3E6-4279-92B6-28F13BC28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0BAC-16E0-444E-862F-5A7BCA0AB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A5E5-8EA1-405F-BB69-1A8C9D590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C367-5FE3-44EA-9CB6-8475E0B7E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493B-AF01-45AE-BE6E-BC648F905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645B-D518-40C8-84B2-B7408D663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B8B6-D636-4D93-A030-C089CE778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EDA2-0797-400F-91A7-1C631C80A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6323-0E6E-4322-9641-230E89446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486E-DBEC-459A-A6B0-C2B1A8AC7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84EF-EB3F-4DCC-A1B0-C5D8C2CC5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E0EE-DC10-4A82-9BC1-4F4D2B9C5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F0BB-AB99-4D90-833E-9654B3473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7C19-8E4D-473F-8715-7758618D6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2C00-705A-4FB5-B351-5182DC16D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5402-BB8A-4123-BE6A-3528E2CD6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0CDC-9FF0-4EB9-A2D9-989CCD1C1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0B43-10AD-4024-B80E-4D857092D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MERGED WITH STANDARD OIL OF CALIFORNIA IN 1985 TO FORM CHEVR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838080" y="4876920"/>
            <a:ext cx="4114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04920" y="762120"/>
            <a:ext cx="4952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AROT CARD, THE LAST IN THE TRUMP SU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RWS_Tarot_21_World.jpg"/>
          <p:cNvPicPr/>
          <p:nvPr/>
        </p:nvPicPr>
        <p:blipFill>
          <a:blip r:embed="rId1"/>
          <a:stretch/>
        </p:blipFill>
        <p:spPr>
          <a:xfrm>
            <a:off x="5867280" y="457200"/>
            <a:ext cx="278604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HINOVIRUS CAUSES WHAT HUMAN DISE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VINCENT) 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50'S ACTOR WHO PLAYED A HOMICIDAL SCULPTOR IN "HOUSE OF WAX" AND A MAD SCIENTIST IN "THE 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M  KIPP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'S SERVICE, FROM THE "KOL NIDRE" TO THE "NEILAH", IS THE LONGEST IN THE JEWISH LITUR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  Y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'S THE MOST COMMON TERM OF FIXED-RATE MORTGAGE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J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SCOT RIDES THE WHITE HORSE NAMED TRAVELER AT USC HOME FOOTBALL GA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7692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OR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SES OF "GANGNAM STYLE," THE MOST-WATCHED VIDEO IN YOUTUBE HISTORY, ARE SUNG IN WHAT LANGU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04920" y="838080"/>
            <a:ext cx="48765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TAROT CARD, THE LAST IN THE TRUMP SU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RWS_Tarot_21_World.jpg"/>
          <p:cNvPicPr/>
          <p:nvPr/>
        </p:nvPicPr>
        <p:blipFill>
          <a:blip r:embed="rId1"/>
          <a:stretch/>
        </p:blipFill>
        <p:spPr>
          <a:xfrm>
            <a:off x="5867280" y="457200"/>
            <a:ext cx="278604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ETN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CAMBO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IL COMPANY MERGED WITH STANDARD OIL OF CALIFORNIA IN 1985 TO FORM CHEVR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WA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HINOVIRUS CAUSES WHAT HUMAN DISE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50'S ACTOR WHO PLAYED A HOMICIDAL SCULPTOR IN "HOUSE OF WAX" AND A MAD SCIENTIST IN "THE F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'S SERVICE, FROM THE "KOL NIDRE" TO THE "NEILAH", IS THE LONGEST IN THE JEWISH LITUR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'S THE MOST COMMON TERM OF FIXED-RATE MORTGAGE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SCOT RIDES THE WHITE HORSE NAMED TRAVELER AT USC HOME FOOTBALL GA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ERSES OF "GANGNAM STYLE," THE MOST-WATCHED VIDEO IN YOUTUBE HISTORY, ARE SUNG IN WHAT LANGU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CAMBO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5T00:51:40Z</dcterms:created>
  <dc:creator>Jennifer Budzinski</dc:creator>
  <dc:description/>
  <dc:language>en-US</dc:language>
  <cp:lastModifiedBy>Erich Friedman</cp:lastModifiedBy>
  <dcterms:modified xsi:type="dcterms:W3CDTF">2020-08-25T17:22:31Z</dcterms:modified>
  <cp:revision>438</cp:revision>
  <dc:subject/>
  <dc:title>Slide 1</dc:title>
</cp:coreProperties>
</file>