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855-B8F6-4E48-B995-A59ABE162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967-DBCB-46B7-8550-35FC6F29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77B-07AC-49DE-B7BB-87D6148D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01AC-4069-4AED-8718-F6C4561C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349-E95E-4E76-AC3A-7B18875A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5A0D-33A6-4D55-8EC0-9C31435B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F14-7936-4215-90D6-EB0B5648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0E9-AA4B-48EA-ABBD-C165BE18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87FA-02FC-42AE-B9B6-D367F47B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9E4C-791B-4ED1-865E-69152964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C4C-4698-48C2-955E-34F89C5B7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414-0993-44AA-90A6-7396C9B7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57F-2E3B-407C-B81D-0AFDC29D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A2A-49D7-49FD-8B9B-96F51C53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D1E9-159F-4FA3-9597-3903E30C9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0DA-E80D-4C88-84D1-8654296C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0FD8-7F94-495C-BF5F-48D16B10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DB8-CEBD-424A-8526-81AA5A68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CE4E-D47F-41E7-A1BF-F1DEF495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C2D-6B10-47E5-A962-C943B2C2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EA6A-FDF4-48FC-A65B-022D4260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4F47-D269-4C7E-A802-DF63D6EC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F2D-6E8C-41DB-8BFD-CFBB7840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838080" y="48769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49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M  KIPP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487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WA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00:51:40Z</dcterms:created>
  <dc:creator>Jennifer Budzinski</dc:creator>
  <dc:description/>
  <dc:language>en-US</dc:language>
  <cp:lastModifiedBy>Erich Friedman</cp:lastModifiedBy>
  <dcterms:modified xsi:type="dcterms:W3CDTF">2020-08-25T17:22:31Z</dcterms:modified>
  <cp:revision>438</cp:revision>
  <dc:subject/>
  <dc:title>Slide 1</dc:title>
</cp:coreProperties>
</file>