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3EC4-EE3F-4165-9419-D63DB7E05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71E-F465-4B48-8914-4F9D3873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B303-2368-45E7-A397-FBE2D1BF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DA1-5E44-42FB-824A-5E6F83E62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0266-1AAA-43E4-94A9-8F0D4036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6F9D-18B2-4262-A1DC-20D2F04A6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664D-3E37-4568-B1E5-A3B85529D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A6AF-FB34-4F73-A447-BD481FD4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C693-0AA7-4FA2-9025-C37CC583C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0096-09C6-49F6-8260-7DB683B5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05C-13AF-421A-9CCC-25B4B7A1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5376-FDAB-4961-8099-71B632DD6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F28D-3BBB-453C-8F0D-A5E6182E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971-0143-4FCC-90EA-6203B59C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E7A7-E338-4BF7-9BCD-8E34C5BC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7D50-1816-4C32-B8E1-B98D0733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D5DE-C89D-48AA-A887-3ED2F0A0F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D0E3-177E-4A2E-B087-843A171A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0753-8904-4736-BB5C-611710D68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F942-33C6-43A0-A625-0143BFFC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7ED-338C-4660-ADC1-3985C62A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9AA4-9A02-4CC7-B303-D428C496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EAD1-2DC5-4FBC-9AA5-6C17CA25D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57280" y="761760"/>
            <a:ext cx="62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DVICE COLUMN AT SLATE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(OBA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2009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(LOUIS–DREYF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STAR OF "VEE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LOUIS XIV'S MOST GRANDIOSE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NK FLOYD'S FIRST HIT SONG, OFF THEIR "DARK SIDE OF THE MOON"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2-MINUTE DOORS SONG CONTAINS THE REPEATED LYRICS "C'MON BABY TAKE      A CHANCE WITH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LL  BE  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5564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LINE FROM "THE TERMIN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 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BUT CONCISE WAY OF REFERRING TO THE QUEEN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2009-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TER  SKE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OF THE BOOK AND MOVIE ABOUT THE CHARLES MANSON MUR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PRU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52520" y="762120"/>
            <a:ext cx="6438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DVICE COLUMN AT SLATE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ATLE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STAR OF "VEE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LOUIS XIV'S MOST GRANDIOSE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NK FLOYD'S FIRST HIT SONG, OFF THEIR "DARK SIDE OF THE MOON"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2-MINUTE DOORS SONG CONTAINS THE REPEATED LYRICS "C'MON BABY TAKE     A CHANCE WITH 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LINE FROM "THE TERMIN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BUT CONCISE WAY OF REFERRING TO THE QUEEN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OF THE BOOK AND MOVIE ABOUT THE CHARLES MANSON MUR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8:44:59Z</dcterms:created>
  <dc:creator>Jennifer Budzinski</dc:creator>
  <dc:description/>
  <dc:language>en-US</dc:language>
  <cp:lastModifiedBy>Erich Friedman</cp:lastModifiedBy>
  <dcterms:modified xsi:type="dcterms:W3CDTF">2020-08-23T18:25:52Z</dcterms:modified>
  <cp:revision>328</cp:revision>
  <dc:subject/>
  <dc:title>Slide 1</dc:title>
</cp:coreProperties>
</file>