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AFD-5FCD-41F8-9D07-B82918DF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B4F-8A09-4434-B195-70FFA5FC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C94-7478-492E-BAD0-E6A43490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5BA-292D-4F23-BE61-364F5E3C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1AC-8632-4D96-B5C8-01D65035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5A2-E021-4BDD-B1DC-14342D2E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EE40-4CA2-4A1C-A244-42C68F08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AB80-633D-4450-A610-19D5959A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A83-5AAE-4F56-ABBA-3C0D65EE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6EE-5ABF-4776-B80C-D0096704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4DF-9F86-4EB3-8658-3BBD9E24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7BDB-94B4-490F-AB27-68A77510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6DA-CE89-4784-A18F-11617450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A24-70AB-4798-A782-8C9A2CF0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EF4-AF50-492D-95C4-8820F757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33B-68A6-4881-A1EC-E9F2E406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04D-AB88-4889-82DA-594BB12A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158-BF11-4E8B-8024-67D13918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75E-88E9-4EF8-9663-F168B475E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4F4-E444-4F09-8260-2414EEF4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809-9EE2-436D-B0B4-60325955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326-5F4F-4CD1-B3E2-F972954C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E05-4BBC-40A4-80A4-A7A1EB9F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57280" y="761760"/>
            <a:ext cx="62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(OBA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(LOUIS–DREYF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 A CHANCE WITH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LL  BE  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5564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TER  SKE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PRU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TLE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A CHANCE WITH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44:59Z</dcterms:created>
  <dc:creator>Jennifer Budzinski</dc:creator>
  <dc:description/>
  <dc:language>en-US</dc:language>
  <cp:lastModifiedBy>Erich Friedman</cp:lastModifiedBy>
  <dcterms:modified xsi:type="dcterms:W3CDTF">2020-08-23T18:25:52Z</dcterms:modified>
  <cp:revision>328</cp:revision>
  <dc:subject/>
  <dc:title>Slide 1</dc:title>
</cp:coreProperties>
</file>