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E4EB-0CE6-424D-A323-AEB0F22EA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591F-E750-4235-AC98-219B6936B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1CB8-39DF-40A4-8FA5-B93A6FCA1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FFF3-D5F2-45E1-85CA-2C0A224E4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B84A-6BE1-4476-9D92-180DFBC06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91C5-3496-4183-994B-6FB082F16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2C16-48BC-47B2-8B17-1AE1C11D3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E489-A073-4731-8BAD-E7CC370D8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AC64-CBA3-4069-BB29-B3ACABF77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3F0F-D5AD-44FE-BC5F-D3073475A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2805-FFF8-4289-9C86-410D60A08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2002-9D97-400D-BC4C-858B9C7EE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7FBDA-5160-424C-A0C9-E6DC90CEA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F996-2F49-4212-A293-78E4CF6F2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099C-0BBC-41D9-BC4E-1DEA72718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84AC-C85C-4DE9-8EAA-59D79C579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E6F4-820C-45B1-8845-E2614CA62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4936-9AE0-4351-81E2-258690AA5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761E-9173-41C1-B059-17BAB4973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127A-7B5F-4ECC-9BAE-39A595506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AAF9-2AE9-48D0-8CCC-FD8BFB165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3A6D-D35A-4C52-B8DF-75428E2A0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E010-B0AB-43F4-AA14-8A7BC5077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57280" y="761760"/>
            <a:ext cx="6229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ADVICE COLUMN AT SLATE.C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LE  (OBAM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LADY 2009-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  (LOUIS–DREYFU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STAR OF "VEE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LOUIS XIV'S MOST GRANDIOSE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INK FLOYD'S FIRST HIT SONG, OFF THEIR "DARK SIDE OF THE MOON"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2-MINUTE DOORS SONG CONTAINS THE REPEATED LYRICS "C'MON BABY TAKE      A CHANCE WITH 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'LL  BE  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55640"/>
            <a:ext cx="7238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RNOLD SCHWARZENEGGER'S MOST FAMOUS LINE FROM "THE TERMINA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  MAJES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95280" y="762120"/>
            <a:ext cx="6553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AL BUT CONCISE WAY OF REFERRING TO THE QUEEN OF ENG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LADY 2009-20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TER  SKEL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OF THE BOOK AND MOVIE ABOUT THE CHARLES MANSON MUR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R  PRU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52520" y="762120"/>
            <a:ext cx="6438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ADVICE COLUMN AT SLATE.C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BEATLES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STAR OF "VEE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LOUIS XIV'S MOST GRANDIOSE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INK FLOYD'S FIRST HIT SONG, OFF THEIR "DARK SIDE OF THE MOON"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2-MINUTE DOORS SONG CONTAINS THE REPEATED LYRICS "C'MON BABY TAKE     A CHANCE WITH 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RNOLD SCHWARZENEGGER'S MOST FAMOUS LINE FROM "THE TERMINA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ORMAL BUT CONCISE WAY OF REFERRING TO THE QUEEN OF ENG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OF THE BOOK AND MOVIE ABOUT THE CHARLES MANSON MURD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8:44:59Z</dcterms:created>
  <dc:creator>Jennifer Budzinski</dc:creator>
  <dc:description/>
  <dc:language>en-US</dc:language>
  <cp:lastModifiedBy>Erich Friedman</cp:lastModifiedBy>
  <dcterms:modified xsi:type="dcterms:W3CDTF">2020-08-23T18:25:52Z</dcterms:modified>
  <cp:revision>328</cp:revision>
  <dc:subject/>
  <dc:title>Slide 1</dc:title>
</cp:coreProperties>
</file>