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88A8-9025-4625-9364-DBF618B6F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D471-0A03-4FD5-8CC6-97FD4E614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F484-9ACD-464E-85EF-21F0A7CB8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2DAD-AB31-4B2A-BF33-AD81CFBFA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9335-D75D-40ED-9392-9FD3CF277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DC4A-D4D7-4CEF-B4DC-7641141FF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10CC-140A-4C18-B00B-B98495AD4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9FE8-033C-485D-A708-38B200C09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CC79-DBCF-4150-9F82-69899DDBB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526D-34D7-44FB-91A9-B36ED6CBC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C5BB-1FDF-4C44-8B8C-BBE4C21E8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1CD4-CDFE-4110-8AC0-57098E1E0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4DFD-5C72-43E8-9F90-1E143BBE2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7007-81D8-46B7-A1C2-0CB3D0872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7ECA-507A-4379-BB83-AF92DCAE7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78DE-7646-44A7-A042-345EEDE15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76B3-9677-4647-AE82-109738F2E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BEAA-36E0-47E8-8BE4-4DC9D5A58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2E53-A5D6-4ABE-808D-AB544FCC6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ECBF-4B94-413A-9B50-ADFBFE34B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3CA3-B578-43FA-B384-B2EFE854A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5FA4-AF61-44AE-B456-748B26181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31CA-6767-491E-B16E-4CAF760F5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IS PLAYED ON AN 8x8 GRID USING DISKS THAT ARE BLACK ON ONE SIDE AND WHITE ON THE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ETTE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NATURAL BORN KILLERS", "WHAT'S EATING GILBERT GRAPE", AND "STRANGE DA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WOULD YOU FIND THE BRIDGE OF SIGHS AND PIAZZA SAN MAR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KING UPON THE DEATH OF HIS BROTHER, RICHARD THE LIONHE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808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DSOR  CAS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0" y="7621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MOST EXPENSIVE SECULAR BUILDING PROJECT IN ENGLAND DURING THE MIDDLE AGES, AND IS THE FAVORITE WEEKEND HOME OF QUEEN ELIZABETH I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MIC MEERKAT IN "THE LION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ARD  L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028880" y="762120"/>
            <a:ext cx="7086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OWL AND THE PUSSYC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M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VILLAGE THAT DOESN’T HAVE A CHURCH OF ITS 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NATURAL BORN KILLERS", "WHAT'S EATING GILBERT GRAPE", AND "STRANGE D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MP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IDEO GAME IS TH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Tempest.jpg"/>
          <p:cNvPicPr/>
          <p:nvPr/>
        </p:nvPicPr>
        <p:blipFill>
          <a:blip r:embed="rId1"/>
          <a:stretch/>
        </p:blipFill>
        <p:spPr>
          <a:xfrm>
            <a:off x="1447920" y="1943280"/>
            <a:ext cx="62737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H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IS PLAYED ON AN 8x8 GRID USING DISKS THAT ARE BLACK ON ONE SIDE AND WHITE ON THE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343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PARTS  OF  THE  NAMES  OF  SHAKESPEARE  PL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95360" y="8002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WOULD YOU FIND THE BRIDGE OF SIGHS AND PIAZZA SAN MAR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KING UPON THE DEATH OF HIS BROTHER, RICHARD THE LIONHE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-6480" y="7621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MOST EXPENSIVE SECULAR BUILDING PROJECT IN ENGLAND DURING THE MIDDLE AGES, AND IS THE FAVORITE WEEKEND HOME OF QUEEN ELIZABETH I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MIC MEERKAT IN "THE LION K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OWL AND THE PUSSYC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VILLAGE THAT DOESN’T HAVE A CHURCH OF ITS 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IDEO GAME IS THI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Tempest.jpg"/>
          <p:cNvPicPr/>
          <p:nvPr/>
        </p:nvPicPr>
        <p:blipFill>
          <a:blip r:embed="rId1"/>
          <a:stretch/>
        </p:blipFill>
        <p:spPr>
          <a:xfrm>
            <a:off x="1434960" y="2057400"/>
            <a:ext cx="62740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22:17:58Z</dcterms:created>
  <dc:creator>Jennifer Budzinski</dc:creator>
  <dc:description/>
  <dc:language>en-US</dc:language>
  <cp:lastModifiedBy>Erich Friedman</cp:lastModifiedBy>
  <dcterms:modified xsi:type="dcterms:W3CDTF">2020-08-25T17:33:35Z</dcterms:modified>
  <cp:revision>386</cp:revision>
  <dc:subject/>
  <dc:title>Slide 1</dc:title>
</cp:coreProperties>
</file>