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8852-4078-4D35-93AA-A5042011C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4F88-5A61-4133-8E69-0F3CD6537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B87C-7E2B-46E9-80B4-14D2C05EC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3E32-F06E-4FCD-A7B1-6783F745C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88F5-2B36-46C3-9E0A-BF54AC6C4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FC2C-42E4-4F71-83FF-BB3E31244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461B-A338-4362-AA07-3C3995A87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DEB6-9C7C-4CAE-8409-16F82CDB8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E266-F946-42E6-A4B0-C2C6CA141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F519-A3D6-4878-B970-0B72DE81E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1FA5-1203-49FA-A320-6C7A61D62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3404-BD01-49A0-98D8-0306181C4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0E30-7873-41DF-AC7A-6EA481C12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7C5F-C94F-47EA-9115-3BE7D41C7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26CF-CFFB-48BB-931B-66ECE7434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745C-9E26-49E5-934A-D4F2D826B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510C-2DAD-465F-9EB8-24C4C1A22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4863-873B-497B-B001-B99AFAB90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4D14-7C7F-476F-804A-5EBC66DB8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304A-2119-4FAA-91B3-A1B751DB4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FC17-20F8-4E9D-9867-D185EF6A5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7D78-06E4-47CB-BD5D-EE584D5DC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ADF5-592A-4298-B713-A67180473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IS PLAYED ON AN 8x8 GRID USING DISKS THAT ARE BLACK ON ONE SIDE AND WHITE ON THE O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ETTE 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04920" y="762120"/>
            <a:ext cx="8534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NATURAL BORN KILLERS", "WHAT'S EATING GILBERT GRAPE", AND "STRANGE DAY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N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WOULD YOU FIND THE BRIDGE OF SIGHS AND PIAZZA SAN MAR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NG  JO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ECAME KING UPON THE DEATH OF HIS BROTHER, RICHARD THE LIONHEA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808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DSOR  CAS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0" y="762120"/>
            <a:ext cx="9144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AS THE MOST EXPENSIVE SECULAR BUILDING PROJECT IN ENGLAND DURING THE MIDDLE AGES, AND IS THE FAVORITE WEEKEND HOME OF QUEEN ELIZABETH I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295280" y="762120"/>
            <a:ext cx="6553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OMIC MEERKAT IN "THE LION K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WARD  L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1028880" y="762120"/>
            <a:ext cx="7086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OWL AND THE PUSSYCA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M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571680" y="762120"/>
            <a:ext cx="800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FOR A VILLAGE THAT DOESN’T HAVE A CHURCH OF ITS 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NATURAL BORN KILLERS", "WHAT'S EATING GILBERT GRAPE", AND "STRANGE DAY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MP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IDEO GAME IS TH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Tempest.jpg"/>
          <p:cNvPicPr/>
          <p:nvPr/>
        </p:nvPicPr>
        <p:blipFill>
          <a:blip r:embed="rId1"/>
          <a:stretch/>
        </p:blipFill>
        <p:spPr>
          <a:xfrm>
            <a:off x="1447920" y="1943280"/>
            <a:ext cx="627372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THE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IS PLAYED ON AN 8x8 GRID USING DISKS THAT ARE BLACK ON ONE SIDE AND WHITE ON THE 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04920" y="43434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PARTS  OF  THE  NAMES  OF  SHAKESPEARE  PL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495360" y="80028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WOULD YOU FIND THE BRIDGE OF SIGHS AND PIAZZA SAN MARC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ECAME KING UPON THE DEATH OF HIS BROTHER, RICHARD THE LIONHEA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-6480" y="76212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AS THE MOST EXPENSIVE SECULAR BUILDING PROJECT IN ENGLAND DURING THE MIDDLE AGES, AND IS THE FAVORITE WEEKEND HOME OF QUEEN ELIZABETH II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409760" y="7621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OMIC MEERKAT IN "THE LION K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OWL AND THE PUSSYCA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FOR A VILLAGE THAT DOESN’T HAVE A CHURCH OF ITS 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IDEO GAME IS THI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Tempest.jpg"/>
          <p:cNvPicPr/>
          <p:nvPr/>
        </p:nvPicPr>
        <p:blipFill>
          <a:blip r:embed="rId1"/>
          <a:stretch/>
        </p:blipFill>
        <p:spPr>
          <a:xfrm>
            <a:off x="1434960" y="2057400"/>
            <a:ext cx="6274080" cy="2895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22:17:58Z</dcterms:created>
  <dc:creator>Jennifer Budzinski</dc:creator>
  <dc:description/>
  <dc:language>en-US</dc:language>
  <cp:lastModifiedBy>Erich Friedman</cp:lastModifiedBy>
  <dcterms:modified xsi:type="dcterms:W3CDTF">2020-08-25T17:33:35Z</dcterms:modified>
  <cp:revision>386</cp:revision>
  <dc:subject/>
  <dc:title>Slide 1</dc:title>
</cp:coreProperties>
</file>