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EA9F-188C-4D93-91D4-B9903F164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71A8-62E3-4FBF-906E-812D0DF78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5B56-EBD3-4CE0-9E95-E15523FCC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9107-BFC9-4DE7-B7BE-B7B475D76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36C8-761B-4347-B5A0-95F947B90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5B7D-6B42-4B46-9C3C-696B8BED3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D357-3CEB-49F2-A3BB-4A95411B4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9E16-7C3E-473C-87EE-6FF6FDA56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625C-2C83-4C5F-A86E-3717582C9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9F8F-4335-45D4-8D50-515B0C95B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B6CB-AD6A-4EE7-845E-10C65C5C2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C5CE-888A-413B-96A3-3415EB3F4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43AA-4BDD-429E-A99C-D29B4C56D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DB0C-9159-461B-B968-3FBEF6063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BC73-2A3B-4667-ADEE-31E643811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4DE3-97E7-4270-B4C3-50CA64BA3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DCD4-2D99-40D0-BEDF-D3B954067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5ACF-8461-4A06-922C-6CF9CCB53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CD2E-2465-44C1-AAF8-2393EFCA1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37A8-16AD-4F05-B29A-BD49C6E53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23B7-63C6-4226-A807-0D57757E1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19B9-BAA0-46F9-BEFC-8DCC5A0C1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54BE-E897-48F8-BFE4-953DC6611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IS PLAYED ON AN 8x8 GRID USING DISKS THAT ARE BLACK ON ONE SIDE AND WHITE ON THE 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ETTE 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04920" y="762120"/>
            <a:ext cx="8534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NATURAL BORN KILLERS", "WHAT'S EATING GILBERT GRAPE", AND "STRANGE DAY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N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WOULD YOU FIND THE BRIDGE OF SIGHS AND PIAZZA SAN MAR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  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CAME KING UPON THE DEATH OF HIS BROTHER, RICHARD THE LIONHE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808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DSOR  CAS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0" y="762120"/>
            <a:ext cx="9144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MOST EXPENSIVE SECULAR BUILDING PROJECT IN ENGLAND DURING THE MIDDLE AGES, AND IS THE FAVORITE WEEKEND HOME OF QUEEN ELIZABETH I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295280" y="762120"/>
            <a:ext cx="6553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OMIC MEERKAT IN "THE LION K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WARD  L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1028880" y="762120"/>
            <a:ext cx="7086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OWL AND THE PUSSYC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M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57168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FOR A VILLAGE THAT DOESN’T HAVE A CHURCH OF ITS 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NATURAL BORN KILLERS", "WHAT'S EATING GILBERT GRAPE", AND "STRANGE DAY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MP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IDEO GAME IS TH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Tempest.jpg"/>
          <p:cNvPicPr/>
          <p:nvPr/>
        </p:nvPicPr>
        <p:blipFill>
          <a:blip r:embed="rId1"/>
          <a:stretch/>
        </p:blipFill>
        <p:spPr>
          <a:xfrm>
            <a:off x="1447920" y="1943280"/>
            <a:ext cx="627372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THE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IS PLAYED ON AN 8x8 GRID USING DISKS THAT ARE BLACK ON ONE SIDE AND WHITE ON THE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04920" y="43434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PARTS  OF  THE  NAMES  OF  SHAKESPEARE  PL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495360" y="8002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WOULD YOU FIND THE BRIDGE OF SIGHS AND PIAZZA SAN MAR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CAME KING UPON THE DEATH OF HIS BROTHER, RICHARD THE LIONHE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-6480" y="76212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MOST EXPENSIVE SECULAR BUILDING PROJECT IN ENGLAND DURING THE MIDDLE AGES, AND IS THE FAVORITE WEEKEND HOME OF QUEEN ELIZABETH II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OMIC MEERKAT IN "THE LION K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OWL AND THE PUSSYCA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FOR A VILLAGE THAT DOESN’T HAVE A CHURCH OF ITS 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IDEO GAME IS THI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Tempest.jpg"/>
          <p:cNvPicPr/>
          <p:nvPr/>
        </p:nvPicPr>
        <p:blipFill>
          <a:blip r:embed="rId1"/>
          <a:stretch/>
        </p:blipFill>
        <p:spPr>
          <a:xfrm>
            <a:off x="1434960" y="2057400"/>
            <a:ext cx="62740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22:17:58Z</dcterms:created>
  <dc:creator>Jennifer Budzinski</dc:creator>
  <dc:description/>
  <dc:language>en-US</dc:language>
  <cp:lastModifiedBy>Erich Friedman</cp:lastModifiedBy>
  <dcterms:modified xsi:type="dcterms:W3CDTF">2020-08-25T17:33:35Z</dcterms:modified>
  <cp:revision>386</cp:revision>
  <dc:subject/>
  <dc:title>Slide 1</dc:title>
</cp:coreProperties>
</file>