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8B3E-0182-4088-89C0-2F71FE392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4980-E7FA-4064-B41A-39F887C1B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8A08-E00B-44C0-8FA5-246AAD858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5D0D-9896-4802-AD09-B18863682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CC64-8CD5-4031-B0FE-3A953499C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A052-A91F-4111-8277-CBBB5D2CE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1BC5-D572-476D-BD8A-7CBBE65A6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F6EF-92B5-4A8D-A04A-8C58ECAEA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E556-B88A-42FB-99A6-B3B8B1096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A524-155D-45D6-BDF0-733484528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5EC4-D066-42C7-BAE2-1CB60787C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80A7-93BE-4766-B9A9-E2EC16661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18E4-D1F8-484D-A1FA-F85C119B2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D43D-4239-4DB8-846C-2D3282FF5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8903-D52F-4694-A383-8229F0D5F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9FFD-DF42-4842-A21D-480327CAF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270E-9BFD-4BF7-B7D2-B9ACBE8ED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2C2B-DFCE-4897-B218-72F3B0C03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42E3-AF2C-49FB-9927-72B51A862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5951-EFE1-4BD7-9279-EB3988491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C0A6-82A9-498F-8999-1F6FD6948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E3F4-1189-4FBC-B34A-C9CE51F27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7D0E-5C33-46B7-AF38-259A63260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E FACTO LEADER OF THE THREE STOO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EYE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638360" y="762120"/>
            <a:ext cx="586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IRLFRIEND  WAS OLIVE OY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UB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ICAGO IT IS KNOWN AS THE L.  WHAT IS IT KNOWN AS IN NEW Y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8808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ICHARD NIXON'S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IC  THE  HEDGEH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sonic_thumb.jpg"/>
          <p:cNvPicPr/>
          <p:nvPr/>
        </p:nvPicPr>
        <p:blipFill>
          <a:blip r:embed="rId1"/>
          <a:stretch/>
        </p:blipFill>
        <p:spPr>
          <a:xfrm>
            <a:off x="2908440" y="1996920"/>
            <a:ext cx="3327120" cy="29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Y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ED A HORSE NAMED TRIGGER AND A DOG NAMED BULL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DRA  MCDON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ACTRESS WHO HAS WON 6 TONY AWARDS, INCLUDING 1 IN ALL 4 CATEGO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NDY  LIB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TETSON UNIVERSITY'S PRESIDENT 2009-20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638360" y="762120"/>
            <a:ext cx="586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IRLFRIEND  WAS OLIVE OY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G  JOHN  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47920" y="762120"/>
            <a:ext cx="6248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E-LEGGED PIRATE IN "TREASURE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E  HO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E FACTO LEADER OF THE THREE STOO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71600" y="43434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NAMES  OF  RESTAURANT CH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ICAGO IT IS KNOWN AS THE L.  WHAT IS IT KNOWN AS IN NEW Y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ICHARD NIXON'S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3" descr="sonic_thumb.jpg"/>
          <p:cNvPicPr/>
          <p:nvPr/>
        </p:nvPicPr>
        <p:blipFill>
          <a:blip r:embed="rId1"/>
          <a:stretch/>
        </p:blipFill>
        <p:spPr>
          <a:xfrm>
            <a:off x="2930400" y="1981080"/>
            <a:ext cx="328320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ED A HORSE NAMED TRIGGER AND A DOG NAMED BULL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ACTRESS WHO HAS WON 6 TONY AWARDS, INCLUDING 1 IN ALL 4 CATEGO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TETSON UNIVERSITY'S PRESIDENT 2009-202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E-LEGGED PIRATE IN "TREASURE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4T03:14:44Z</dcterms:created>
  <dc:creator>Jennifer Budzinski</dc:creator>
  <dc:description/>
  <dc:language>en-US</dc:language>
  <cp:lastModifiedBy>Erich Friedman</cp:lastModifiedBy>
  <dcterms:modified xsi:type="dcterms:W3CDTF">2020-08-25T17:42:57Z</dcterms:modified>
  <cp:revision>386</cp:revision>
  <dc:subject/>
  <dc:title>Slide 1</dc:title>
</cp:coreProperties>
</file>