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3F75-273E-40A3-8B9A-B4F847A82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CD0D-5FA2-47DA-BB92-DB371AA29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D610-918D-466F-B7D2-CE3CFAE92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F08D-4FFC-41DF-B8CC-2337B50C9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6BA4-0950-4DC1-BA7E-31CA62B58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4AEA-D8ED-433A-9C73-06DDFA769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3E06-4C1F-4822-AE2B-4AA034E6A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873E-53EE-4D54-83B2-5332B2E5F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5B77-047E-47D2-8B6A-BC17FE584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2984-C535-4A4D-8BC6-B4E3D44E5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9633-B567-4819-915D-3C49AF552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10CD-9D4E-4FAC-B3B3-4C269865F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6A73-C1F4-4020-8385-A6BFF6FB3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7C8E-C252-402D-B5F9-178E225C8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C033-6086-47FF-9F4D-C4BC8B988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54D5-A8E3-4B2F-9F2B-5F3E3303C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D127-5C8F-4783-BE43-47A276747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740C-DA61-4B0B-9D0A-7C1B2823A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DC0C-95F4-402D-B5B1-C45ABA971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D861-583A-4A1F-8FB0-AB72A10A1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8C00-A2E3-4C29-ACF2-AF7838345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4681-E899-4739-B9E0-91B8453A8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C3AF-6457-484D-BAF4-C0623929B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E FACTO LEADER OF THE THREE STOO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EYE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638360" y="762120"/>
            <a:ext cx="586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IRLFRIEND  WAS OLIVE OY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UB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ICAGO IT IS KNOWN AS THE L.  WHAT IS IT KNOWN AS IN NEW Y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8808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ICHARD NIXON'S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IC  THE  HEDGEH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sonic_thumb.jpg"/>
          <p:cNvPicPr/>
          <p:nvPr/>
        </p:nvPicPr>
        <p:blipFill>
          <a:blip r:embed="rId1"/>
          <a:stretch/>
        </p:blipFill>
        <p:spPr>
          <a:xfrm>
            <a:off x="2908440" y="1996920"/>
            <a:ext cx="3327120" cy="29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A HORSE NAMED TRIGGER AND A DOG NAMED BULL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DRA  MCDON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CTRESS WHO HAS WON 6 TONY AWARDS, INCLUDING 1 IN ALL 4 CATEGO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NDY  LIB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TETSON UNIVERSITY'S PRESIDENT 2009-20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638360" y="762120"/>
            <a:ext cx="586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IRLFRIEND  WAS OLIVE OY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G  JOHN  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62120"/>
            <a:ext cx="6248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E-LEGGED PIRATE IN "TREASURE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E  HO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E FACTO LEADER OF THE THREE STOO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71600" y="43434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OF  RESTAURANT CH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ICAGO IT IS KNOWN AS THE L.  WHAT IS IT KNOWN AS IN NEW Y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ICHARD NIXON'S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3" descr="sonic_thumb.jpg"/>
          <p:cNvPicPr/>
          <p:nvPr/>
        </p:nvPicPr>
        <p:blipFill>
          <a:blip r:embed="rId1"/>
          <a:stretch/>
        </p:blipFill>
        <p:spPr>
          <a:xfrm>
            <a:off x="2930400" y="1981080"/>
            <a:ext cx="328320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A HORSE NAMED TRIGGER AND A DOG NAMED BULL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CTRESS WHO HAS WON 6 TONY AWARDS, INCLUDING 1 IN ALL 4 CATEGO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TETSON UNIVERSITY'S PRESIDENT 2009-202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E-LEGGED PIRATE IN "TREASURE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4T03:14:44Z</dcterms:created>
  <dc:creator>Jennifer Budzinski</dc:creator>
  <dc:description/>
  <dc:language>en-US</dc:language>
  <cp:lastModifiedBy>Erich Friedman</cp:lastModifiedBy>
  <dcterms:modified xsi:type="dcterms:W3CDTF">2020-08-25T17:42:57Z</dcterms:modified>
  <cp:revision>386</cp:revision>
  <dc:subject/>
  <dc:title>Slide 1</dc:title>
</cp:coreProperties>
</file>