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F218-BBA0-4462-8B26-499E2550C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28E3-C864-49EF-902C-A9B849B3A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8A15-E136-4272-95C6-DD190D26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8FFD-9B21-4932-8B63-3FACCB3E9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987B-90BA-4BE6-9DF7-7E08153D3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B3CD-D5BF-4630-A439-E7A69637E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11CF-DB99-445C-AA05-07A3D27E7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3BC2-00A2-42DE-8666-1BB85A240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CF14-6671-4BF8-A93F-65227062C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7013-47E9-441E-9E0E-A54A2A531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AB38-6526-40C3-9D0F-CAD8F6E3D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F37D-7B53-41C3-963D-2A496844D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A1D2-7B8F-41B3-9C0A-8B176FB86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56CF-EAB3-458E-88FF-EE5EBE67E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725C-FE68-4345-9245-686639AB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BE18-1B7C-4C9B-9F84-3BFCAD06B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F752-868C-44DF-ABFF-3F8F4F0B8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3789-301E-433E-A319-5D1D02459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11AB-B313-41D1-9FAF-C67742B45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BEAE-8237-4BDF-BE2C-0310E11C3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C44E-3D6B-428D-BD31-1778BB3D1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0EB2-1869-4F90-9658-775EA30CE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4F79-1EDA-41C4-842F-EA661B2D0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E FACTO LEADER OF THE THREE STOO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EYE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638360" y="762120"/>
            <a:ext cx="586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IRLFRIEND  WAS OLIVE OY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UB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CAGO IT IS KNOWN AS THE L.  WHAT IS IT KNOWN AS IN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880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ICHARD NIXON'S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IC  THE  HEDGEH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sonic_thumb.jpg"/>
          <p:cNvPicPr/>
          <p:nvPr/>
        </p:nvPicPr>
        <p:blipFill>
          <a:blip r:embed="rId1"/>
          <a:stretch/>
        </p:blipFill>
        <p:spPr>
          <a:xfrm>
            <a:off x="2908440" y="1996920"/>
            <a:ext cx="3327120" cy="29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A HORSE NAMED TRIGGER AND A DOG NAMED BULL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RA  MCDON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RESS WHO HAS WON 6 TONY AWARDS, INCLUDING 1 IN ALL 4 CATEG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NDY  LIB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TETSON UNIVERSITY'S PRESIDENT 2009-20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IRLFRIEND  WAS OLIVE OY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G  JOHN  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E-LEGGED PIRATE IN "TREASURE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E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E FACTO LEADER OF THE THREE STOO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3434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RESTAURANT CH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CAGO IT IS KNOWN AS THE L.  WHAT IS IT KNOWN AS IN NEW Y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ICHARD NIXON'S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sonic_thumb.jpg"/>
          <p:cNvPicPr/>
          <p:nvPr/>
        </p:nvPicPr>
        <p:blipFill>
          <a:blip r:embed="rId1"/>
          <a:stretch/>
        </p:blipFill>
        <p:spPr>
          <a:xfrm>
            <a:off x="2930400" y="1981080"/>
            <a:ext cx="328320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A HORSE NAMED TRIGGER AND A DOG NAMED BULL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RESS WHO HAS WON 6 TONY AWARDS, INCLUDING 1 IN ALL 4 CATEGO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TETSON UNIVERSITY'S PRESIDENT 2009-20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E-LEGGED PIRATE IN "TREASURE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03:14:44Z</dcterms:created>
  <dc:creator>Jennifer Budzinski</dc:creator>
  <dc:description/>
  <dc:language>en-US</dc:language>
  <cp:lastModifiedBy>Erich Friedman</cp:lastModifiedBy>
  <dcterms:modified xsi:type="dcterms:W3CDTF">2020-08-25T17:42:57Z</dcterms:modified>
  <cp:revision>386</cp:revision>
  <dc:subject/>
  <dc:title>Slide 1</dc:title>
</cp:coreProperties>
</file>