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EB4-4675-401D-B380-2F92D341C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F924-991C-419B-BC8B-3A7410A89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48F-1D30-496A-BC0D-BC715E1F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8FA1-D079-4EB7-9EDB-3F643CB23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F2C8-2980-434C-9C20-F4E9A485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EA6-1262-47FB-A95A-A6535D4C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83D-FDD6-42F2-BBE0-900D8A66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E087-1E8A-408D-92DC-2D06648C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C90-24AD-4CA1-94F1-96029665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B89E-FC37-4E27-A913-1C6D5DF3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8FD3-4EC8-42BE-9D95-75942D8D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0601-8D62-420D-9154-E883CE81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F0F0-B219-43AB-9C61-902F431D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81F2-EC53-4794-BA00-18A7735E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35B-49F3-45F6-9227-EB668482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463-D305-464D-A3C9-801483FB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BF2-381C-45E5-96CE-16721ACE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112-9D92-4A7F-A1CD-15BF0D10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909-7F35-493E-8116-33184AFFA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F88-3BD4-44B5-9BF9-7CC39CF3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01B-BD28-4D20-BDF4-E780878A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B3F-DA32-4E79-AC04-D425C5A2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FEB2-A1A1-4582-B63F-DF85F9EE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AD SINGER OF WH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Y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ALKING HE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LIE  C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R&amp;B ARTIST SANG "INSEPARABLE", "THIS WILL BE", AND "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LEAD SINGER FOR  GENESIS SINCE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GA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TAR SANG "I'LL GET OVER YOU" AND "DON'T IT MAKE MY BROWN EYES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AN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IDNIGHT BLUE" AND "YOU SHOULD HEAR HOW SHE TALKS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ALKING HE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RN THIS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ICH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AD SINGER OF WH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LEFT–HA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R&amp;B ARTIST SANG "INSEPARABLE", "THIS WILL BE", AND "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LEAD SINGER FOR GENESIS SINCE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TAR SANG "I'LL GET OVER YOU" AND "DON'T IT MAKE MY BROWN EYES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IDNIGHT BLUE" AND "YOU SHOULD HEAR HOW SHE TALKS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RN THIS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04:42:54Z</dcterms:created>
  <dc:creator>Jennifer Budzinski</dc:creator>
  <dc:description/>
  <dc:language>en-US</dc:language>
  <cp:lastModifiedBy>Erich Friedman</cp:lastModifiedBy>
  <dcterms:modified xsi:type="dcterms:W3CDTF">2020-08-25T18:29:07Z</dcterms:modified>
  <cp:revision>437</cp:revision>
  <dc:subject/>
  <dc:title>Slide 1</dc:title>
</cp:coreProperties>
</file>