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2A9F-7902-4D92-B00A-0C0A4B8B1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A7F0-A4BA-4C4B-A335-2E1018DE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C02-64D9-4D9D-9F76-EE968941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EED6-BD40-4DC0-B532-BA98DE9DF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119B-BA95-43E0-91CC-B6A20C1C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5F06-12D1-4FE8-8DB9-D048F806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D4CB-42B5-4E9D-83B2-73834F79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17B-3486-4E85-BE6D-EA93C535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FC5-5BB2-4099-944A-774B7B01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0B61-85E0-44DA-84CB-707151E69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FEE8-E525-4B7D-9BDC-81685285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0A3F-7CF8-47BF-9360-57CEF36F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CDA-040F-4EB7-ABC7-137E6CF9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13D0-390C-488C-9CD8-7202F468E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A707-A0FA-4339-B514-EE5AFDD0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C6F1-26CD-46D9-A3F2-50025A24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6A6-AF40-4B0C-B624-4938FC37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90BA-E5DA-48BD-B40A-5EDF4BB6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C682-173F-446F-A8D4-0837CD9D5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4EE-6E0B-4E85-87D2-63027948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CE8D-E235-4314-BDCB-A26310E88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9290-43E2-483E-B90A-0D083C8D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544D-1446-4836-A010-C57DA642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AD SINGER OF WH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Y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ALKING HE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LIE  C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R&amp;B ARTIST SANG "INSEPARABLE", "THIS WILL BE", AND "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LEAD SINGER FOR  GENESIS SINCE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GA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TAR SANG "I'LL GET OVER YOU" AND "DON'T IT MAKE MY BROWN EYES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AN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IDNIGHT BLUE" AND "YOU SHOULD HEAR HOW SHE TALKS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ALKING HE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RN THIS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ICH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AD SINGER OF WH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LEFT–HA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R&amp;B ARTIST SANG "INSEPARABLE", "THIS WILL BE", AND "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LEAD SINGER FOR GENESIS SINCE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TAR SANG "I'LL GET OVER YOU" AND "DON'T IT MAKE MY BROWN EYES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IDNIGHT BLUE" AND "YOU SHOULD HEAR HOW SHE TALKS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RN THIS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04:42:54Z</dcterms:created>
  <dc:creator>Jennifer Budzinski</dc:creator>
  <dc:description/>
  <dc:language>en-US</dc:language>
  <cp:lastModifiedBy>Erich Friedman</cp:lastModifiedBy>
  <dcterms:modified xsi:type="dcterms:W3CDTF">2020-08-25T18:29:07Z</dcterms:modified>
  <cp:revision>437</cp:revision>
  <dc:subject/>
  <dc:title>Slide 1</dc:title>
</cp:coreProperties>
</file>