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530C-44BE-44E1-98B1-EDC6C44DC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5ED1-8236-4FD3-B508-62DB4F925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2878-769A-459E-965D-71795DE45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F247-6DCD-480C-9B01-8260907D3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3FA5-89F9-4399-9B3D-FBE01F37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25BC-C82B-4B0A-B49D-5FD0AEA3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2323F-25DF-4E6E-B0D0-07B03DBE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5034-5603-454B-87F2-02262171D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0B16-FBA4-43B5-85AD-6A5CCD23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CC1-3761-4F6C-BFB4-EB294F87F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D860-E486-47BA-8692-48F05518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F2F8-4FD6-4E95-97FF-90B390110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B2138-BD58-412E-87C8-0C1660E1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1F39-D04F-47AA-911E-1F6CAE515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A9D1-3C6B-485E-9419-9C2BF698F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624B-2454-4BEA-BAE9-96B74898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E192-BC54-4BFD-A076-6A7AFCE4B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9F4A-9F63-452C-9BC8-A7DA31647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DC67-BDBF-451C-8720-6A8BCD98D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F140-2DF8-44AA-B7B8-9EA1791E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195C-27B6-4A42-BF7F-5255A2E33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B10B-5743-48A7-9AE4-CB83818C5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E44D-3F0D-42CB-8F0C-982FEAC06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AD SINGER OF WH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Y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ALKING HE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ALIE  C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R&amp;B ARTIST SANG "INSEPARABLE", "THIS WILL BE", AND "OUR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LEAD SINGER FOR  GENESIS SINCE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YSTAL  GA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TAR SANG "I'LL GET OVER YOU" AND "DON'T IT MAKE MY BROWN EYES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COB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MANCH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IDNIGHT BLUE" AND "YOU SHOULD HEAR HOW SHE TALKS ABOU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TALKING HEA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RN THIS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ICH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AD SINGER OF WH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LEFT–HA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R&amp;B ARTIST SANG "INSEPARABLE", "THIS WILL BE", AND "OUR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7480" y="7621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LEAD SINGER FOR GENESIS SINCE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TAR SANG "I'LL GET OVER YOU" AND "DON'T IT MAKE MY BROWN EYES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NIRV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IDNIGHT BLUE" AND "YOU SHOULD HEAR HOW SHE TALKS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RN THIS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2T04:42:54Z</dcterms:created>
  <dc:creator>Jennifer Budzinski</dc:creator>
  <dc:description/>
  <dc:language>en-US</dc:language>
  <cp:lastModifiedBy>Erich Friedman</cp:lastModifiedBy>
  <dcterms:modified xsi:type="dcterms:W3CDTF">2020-08-25T18:29:07Z</dcterms:modified>
  <cp:revision>437</cp:revision>
  <dc:subject/>
  <dc:title>Slide 1</dc:title>
</cp:coreProperties>
</file>