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D95F-8347-4D39-AE01-778A1B5BC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EDB56-D070-4DC4-B481-5D42563B7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10CA-F9D1-4D9F-8F94-EA17AC875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CCDE-EF28-4C7D-8A30-A9D6D6505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46B5-C1AA-4D36-9FF2-3A8933E7B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A52D-FD57-46E5-81ED-824EC9313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B86C-E289-458F-8F0B-5E98DD461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1050-5DDA-41C2-9F13-CDF8189F2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0888-C274-432E-B177-14BD27199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95E4-289A-4294-8648-8DA6A9927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ACAA-A7D2-4852-8264-67943DC9F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4F3A6-BFB0-480E-9807-CAA15D4B6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9A8A-4056-47F5-8002-BD23681C2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9D04-8530-4BBD-B8B6-8B46EE321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234D-7F18-44C3-A4D3-C68849423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856E-82B0-4C69-9000-907A53170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A79C-A3A7-4366-B538-0184EC6D9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242E-557A-4EB7-96AB-FCF788D73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1D48-9D79-4123-9431-DF2D9C16E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F567-56EB-4F7C-8906-70F32FEBB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BE9E-839D-497D-AFC7-9E17FF771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B603-FAE0-46B2-AB85-EAA558EC8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537F-1326-4DD0-9456-3CC67A217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CURRENT TV SHOW DOES MICHAEL WEATHERLY PLAY A TRIAL CONSULT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IP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333440" y="762120"/>
            <a:ext cx="64771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SHIP WAS THE CUTTY SA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Z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MUSIC DID BUDDY BOLDEN AND EARL HIINES PL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CRIME FILM STARS AL PACINO AS A POLICEMAN TRACKING DOWN THIEVES PLAYED BY ROBERT DE NIRO AND VAL KILM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876920"/>
            <a:ext cx="8458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L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KNOT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58af02266c252499281ae919.jpg"/>
          <p:cNvPicPr/>
          <p:nvPr/>
        </p:nvPicPr>
        <p:blipFill>
          <a:blip r:embed="rId1"/>
          <a:stretch/>
        </p:blipFill>
        <p:spPr>
          <a:xfrm>
            <a:off x="3024360" y="1905120"/>
            <a:ext cx="309528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VER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WESTERN FILM STARRED MEL GIBSON AND JODIE FOSTER AS CON ARTISTS AND JAMES GARNER AS A MARSHAL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P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62120" y="800280"/>
            <a:ext cx="7619760" cy="2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CHNICAL TERM FOR A BIRD OF PR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LIC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NCIENT EGYPT, WHAT BIRD WAS ASSOCIATED WITH SAFE PASSAGE TO THE AFTER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SHIP WAS THE CUTTY SA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8160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U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NAME DO WE USUALLY KNOW A SONIC SHOCK WAVE CAUSED BY A SUDDEN INCREASE IN AIR PRESSURE AND TEMPERA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371600" y="762120"/>
            <a:ext cx="6400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CURRENT TV SHOW DOES MICHAEL WEATHERLY PLAY A TRIAL CONSULT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562040" y="4876920"/>
            <a:ext cx="6019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NBA  T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MUSIC DID BUDDY BOLDEN AND EARL HIINES PL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CRIME FILM STARS AL PACINO AS A POLICEMAN TRACKING DOWN THIEVES PLAYED BY ROBERT DE NIRO AND VAL KILM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KNOT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3" descr="58af02266c252499281ae919.jpg"/>
          <p:cNvPicPr/>
          <p:nvPr/>
        </p:nvPicPr>
        <p:blipFill>
          <a:blip r:embed="rId1"/>
          <a:stretch/>
        </p:blipFill>
        <p:spPr>
          <a:xfrm>
            <a:off x="3024360" y="2057400"/>
            <a:ext cx="30952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WESTERN FILM STARRED MEL GIBSON AND JODIE FOSTER AS CON ARTISTS AND JAMES GARNER AS A MARSH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CHNICAL TERM FOR A BIRD OF PR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838080"/>
            <a:ext cx="76960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NCIENT EGYPT, WHAT BIRD WAS ASSOCIATED WITH SAFE PASSAGE TO THE AFTERLI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NAME DO WE USUALLY KNOW A SONIC SHOCK WAVE CAUSED BY A SUDDEN INCREASE IN AIR PRESSURE AND TEMPERA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4T15:06:29Z</dcterms:created>
  <dc:creator>Jennifer Budzinski</dc:creator>
  <dc:description/>
  <dc:language>en-US</dc:language>
  <cp:lastModifiedBy>Erich Friedman</cp:lastModifiedBy>
  <dcterms:modified xsi:type="dcterms:W3CDTF">2020-08-25T18:36:45Z</dcterms:modified>
  <cp:revision>363</cp:revision>
  <dc:subject/>
  <dc:title>Slide 1</dc:title>
</cp:coreProperties>
</file>