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F1D4-0E30-41B4-A3EE-E0B2AAF9E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7633-57FC-4C4A-A1B9-7BD3CD5D8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E8C0-50B2-452B-8AA7-A7C4E305C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829F-47C3-4D2B-98E0-978D0102A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8A33-BA02-4837-8BD2-457BF7203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9073-D34A-4691-91D4-7A23FC1D3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6353-8C92-40E1-82E4-913C4B56B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2FFA-282A-468C-8DD5-EE2D9126C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E606-5EDC-4B2E-BC52-274D21F5F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6142-4365-46B1-A103-09D9225BF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4E18-C524-41BA-9E13-EFB1CD39F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6565-4EB3-46B9-84B9-9C218425C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6243-426B-44BD-B062-57B77A168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7EC4-D43D-491D-AD4F-2E6BA6121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1C0B-E612-4D04-B20A-5D69C8A93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9B66-944E-4639-BD13-17EF82C51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C928-4619-460E-810C-07B6FC167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8D5D-E3D8-4675-8923-EF3610856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C4BD-3DA8-404A-B203-B261E1B15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DFEA-F954-4DB1-82D4-96F06FD5A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6527-3FC6-4FEA-B59B-52A1A6AD9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9DF0-37B0-4D0A-851C-0E1738ECC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7F65-1B67-46CF-BB6B-08CB52319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CURRENT TV SHOW DOES MICHAEL WEATHERLY PLAY A TRIAL CONSULT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HIP WAS THE CUTTY S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Z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MUSIC DID BUDDY BOLDEN AND EARL HIINES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CRIME FILM STARS AL PACINO AS A POLICEMAN TRACKING DOWN THIEVES PLAYED BY ROBERT DE NIRO AND VAL KILM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L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KNOT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58af02266c252499281ae919.jpg"/>
          <p:cNvPicPr/>
          <p:nvPr/>
        </p:nvPicPr>
        <p:blipFill>
          <a:blip r:embed="rId1"/>
          <a:stretch/>
        </p:blipFill>
        <p:spPr>
          <a:xfrm>
            <a:off x="3024360" y="1905120"/>
            <a:ext cx="30952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VE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WESTERN FILM STARRED MEL GIBSON AND JODIE FOSTER AS CON ARTISTS AND JAMES GARNER AS A MARSHA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P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800280"/>
            <a:ext cx="761976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A BIRD OF PR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LI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EGYPT, WHAT BIRD WAS ASSOCIATED WITH SAFE PASSAGE TO THE AFTER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HIP WAS THE CUTTY S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81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DO WE USUALLY KNOW A SONIC SHOCK WAVE CAUSED BY A SUDDEN INCREASE IN AIR PRESSURE AND TEMPER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71600" y="762120"/>
            <a:ext cx="640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CURRENT TV SHOW DOES MICHAEL WEATHERLY PLAY A TRIAL CONSUL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62040" y="4876920"/>
            <a:ext cx="601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NBA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MUSIC DID BUDDY BOLDEN AND EARL HIINES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CRIME FILM STARS AL PACINO AS A POLICEMAN TRACKING DOWN THIEVES PLAYED BY ROBERT DE NIRO AND VAL KILM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KNOT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3" descr="58af02266c252499281ae919.jpg"/>
          <p:cNvPicPr/>
          <p:nvPr/>
        </p:nvPicPr>
        <p:blipFill>
          <a:blip r:embed="rId1"/>
          <a:stretch/>
        </p:blipFill>
        <p:spPr>
          <a:xfrm>
            <a:off x="3024360" y="2057400"/>
            <a:ext cx="3095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WESTERN FILM STARRED MEL GIBSON AND JODIE FOSTER AS CON ARTISTS AND JAMES GARNER AS A MARSH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A BIRD OF PR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EGYPT, WHAT BIRD WAS ASSOCIATED WITH SAFE PASSAGE TO THE AFTER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DO WE USUALLY KNOW A SONIC SHOCK WAVE CAUSED BY A SUDDEN INCREASE IN AIR PRESSURE AND TEMPER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4T15:06:29Z</dcterms:created>
  <dc:creator>Jennifer Budzinski</dc:creator>
  <dc:description/>
  <dc:language>en-US</dc:language>
  <cp:lastModifiedBy>Erich Friedman</cp:lastModifiedBy>
  <dcterms:modified xsi:type="dcterms:W3CDTF">2020-08-25T18:36:45Z</dcterms:modified>
  <cp:revision>363</cp:revision>
  <dc:subject/>
  <dc:title>Slide 1</dc:title>
</cp:coreProperties>
</file>