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1D4B-67B7-4098-9D1B-1CFE9376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CFC3-DA2E-49CB-BD12-BD96D2AC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D38A-A0E4-4049-BFB4-8EB8EF9B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C83B-423E-42AB-856F-7405F9710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F24E-A638-489D-AA5F-F7B495004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41A-E61E-4F0F-BC99-8178E22E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745-C6C5-473C-B4DD-22354731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89A7-207C-4F9C-9738-122B067E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826E-6C57-45A7-BEDB-87F84A17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83C4-2E3C-4632-8734-44F78F50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C1A-9927-4C72-A4DD-503A3D31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8EA-AE4D-4670-9A14-9DA59FCC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B5F9-D890-4696-A058-57A45359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BF6-955D-487B-851C-D930A64E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6A1F-5344-46E9-B09A-3B7508C6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FFDD-3FEE-4D1C-B1DA-33975030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893-BDBD-435C-B4B0-4C60DB0A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C0D-BAA0-4FCD-9D59-1DD2B7F6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BA57-27DD-4C16-ABD8-D86FFDC6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A4A-868C-4706-8881-FF48BD915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7392-4300-48FE-A787-D7353219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C0BB-69EA-4CDD-88C8-1B7A0EA8B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3FC-A3A2-44A0-B18D-14955055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CURRENT TV SHOW DOES MICHAEL WEATHERLY PLAY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HIP WAS THE CUTTY S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USIC DID BUDDY BOLDEN AND EARL HIINE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RIME FILM STARS AL PACINO AS A POLICEMAN TRACKING DOWN THIEVES PLAYED BY ROBERT DE NIRO AND VAL KIL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KNO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58af02266c252499281ae919.jpg"/>
          <p:cNvPicPr/>
          <p:nvPr/>
        </p:nvPicPr>
        <p:blipFill>
          <a:blip r:embed="rId1"/>
          <a:stretch/>
        </p:blipFill>
        <p:spPr>
          <a:xfrm>
            <a:off x="3024360" y="1905120"/>
            <a:ext cx="30952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800280"/>
            <a:ext cx="76197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 BIRD OF P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EGYPT, WHAT BIRD WAS ASSOCIATED WITH SAFE PASSAGE TO THE AFTER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HIP WAS THE CUTTY S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KNOW A SONIC SHOCK WAVE CAUSED BY A SUDDEN INCREASE IN AIR PRESSURE AND TEMP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CURRENT TV SHOW DOES MICHAEL WEATHERLY PLAY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62040" y="487692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BA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USIC DID BUDDY BOLDEN AND EARL HIINE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RIME FILM STARS AL PACINO AS A POLICEMAN TRACKING DOWN THIEVES PLAYED BY ROBERT DE NIRO AND VAL KIL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KNO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58af02266c252499281ae919.jpg"/>
          <p:cNvPicPr/>
          <p:nvPr/>
        </p:nvPicPr>
        <p:blipFill>
          <a:blip r:embed="rId1"/>
          <a:stretch/>
        </p:blipFill>
        <p:spPr>
          <a:xfrm>
            <a:off x="3024360" y="2057400"/>
            <a:ext cx="3095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 BIRD OF P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EGYPT, WHAT BIRD WAS ASSOCIATED WITH SAFE PASSAGE TO THE AFTER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KNOW A SONIC SHOCK WAVE CAUSED BY A SUDDEN INCREASE IN AIR PRESSURE AND TEMP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5:06:29Z</dcterms:created>
  <dc:creator>Jennifer Budzinski</dc:creator>
  <dc:description/>
  <dc:language>en-US</dc:language>
  <cp:lastModifiedBy>Erich Friedman</cp:lastModifiedBy>
  <dcterms:modified xsi:type="dcterms:W3CDTF">2020-08-25T18:36:45Z</dcterms:modified>
  <cp:revision>363</cp:revision>
  <dc:subject/>
  <dc:title>Slide 1</dc:title>
</cp:coreProperties>
</file>