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DCE1-3498-4DE6-9C1B-FBA10A6FC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26D2-BC30-42DF-9E43-6C1EFF401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41D0-DE86-4100-9B7B-C736D6C21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674F-1D34-40CA-B4D5-32B05C68D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8C4B-15E4-499C-BA58-066F7BE30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90D0-A524-4C20-AAA1-4A347FF95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0320-B660-4A46-B116-560F46995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D101-A762-414B-8CFC-8C2FC6A0C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0F2D-0661-4245-B81F-68748B74E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8159-0193-40B5-B4C9-E1CFEC3E2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D868-CDC7-44B8-9455-6C976FAB1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66A7-82E3-478C-8232-E57A7E9C5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3CF7-D553-439E-BD4A-98572DB6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5A5B-6AF9-4EA1-832D-C02571C5B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89D8-27B2-4FE6-AC97-871AF2A15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54F6-8BA9-4235-944B-B55A942E6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295E-F7CD-480D-870B-56B0632F7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74F6-1B30-435C-AF50-C40CCDBEA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5C95-2EC1-4978-92ED-72B5E88BB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EF4B-E4D8-47CD-8195-DE61D233B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6769-1FDB-4C18-A957-AA6D75F83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BC1B-8DA2-40CF-8BEC-C0BD6A97E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EBE8-FF8C-459B-91CB-605AF9430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UBSTANCE THAT HAS TRANSITIONED FROM LIQUID TO GAS HAS DON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D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GAR IS SOMETIMES KNOWN AS CONFECTIONER'S SUG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REE READER OF PDF FILES FOR THE MAC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AUCE IS THE MOST USED CONDIMENT    IN CHINESE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HEE, OFTEN USED IN SOUTH ASIAN FOODS, IS CLARIFI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RST SEASON OF "GILLIGAN'S ISLAND", THE PROFESSOR SUCCESSFULLY BUILT A BATTERY CHARGER OUT OF WHAT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LITZER-WINNING 1944 PLAY IS NAMED FOR ELWOOD P. DOWD'S IMAGINARY RABBIT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ID THE OCCUPY MOVEMENT POPULARIZE       IN 2011 FOR AMERICANS EARNING OVER $4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GAR IS SOMETIMES KNOWN AS CONFECTIONER'S SUG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IMAL RIGHTS ACTIVIST JOHN CADBURY IS BETTER KNOWN FOR THE FORTUNE HE MADE MANUFACTURING WHAT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APOR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UBSTANCE THAT HAS TRANSITIONED FROM LIQUID TO GAS HAS DON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MIL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REE READER OF PDF FILES FOR THE MAC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AUCE IS THE MOST USED CONDIMENT    IN CHINESE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HEE, OFTEN USED IN SOUTH ASIAN FOODS, IS CLARIFI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RST SEASON OF "GILLIGAN'S ISLAND", THE PROFESSOR SUCCESSFULLY BUILT A BATTERY CHARGER OUT OF WHAT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LITZER-WINNING 1944 PLAY IS NAMED FOR ELWOOD P. DOWD'S IMAGINARY RABBIT 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ID THE OCCUPY MOVEMENT POPULARIZE        IN 2011 FOR AMERICANS EARNING OVER $400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IMAL RIGHTS ACTIVIST JOHN CADBURY IS BETTER KNOWN FOR THE FORTUNE HE MADE MANUFACTURING WHAT PRODU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16:26:38Z</dcterms:created>
  <dc:creator>Jennifer Budzinski</dc:creator>
  <dc:description/>
  <dc:language>en-US</dc:language>
  <cp:lastModifiedBy>Erich Friedman</cp:lastModifiedBy>
  <dcterms:modified xsi:type="dcterms:W3CDTF">2020-08-25T22:10:41Z</dcterms:modified>
  <cp:revision>447</cp:revision>
  <dc:subject/>
  <dc:title>Slide 1</dc:title>
</cp:coreProperties>
</file>