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77BC-F86E-4F6A-9C53-036A50949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7114-DEE6-4592-94A0-82AF5ED28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F10D-2B97-47FC-800E-12C59360F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7888-37F1-4DAB-8537-36B1AB1AA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CCC5-118F-4A4E-9744-E9EE66835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1586-36EC-4103-BF26-54C689064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8687-3C67-42A6-B54A-9F9157940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8DA0-8DBB-484F-8FD2-3DB9D5BDF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8C34-7060-4141-8E1E-BF13AC4CA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66E5-22E1-47D6-B781-1E6DEA3B7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38E5-9BBE-4EB7-BDB1-54FE518A1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F7B8-B752-4D47-98EE-7A1E7151E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7F22-2F2C-4B85-A427-E7DE06916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F9AD-CF08-4492-9164-2FA842540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D7B0-A6E0-484A-A44C-E03C53BF5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0A32-8C47-4914-9E40-301AA1F1F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F4EF-0BBC-4368-933E-FFB488DF5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9A0A-FC5D-47EF-864F-8C93CB411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986C-C866-4407-B4F8-5FE89592E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47DC-3045-467E-9807-FC28BE23F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2D17-D728-4A11-985E-4F67A2727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29FC-1747-4F99-9296-BBBBD4318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7747-DC91-4F4B-902D-2379FD1A1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UBSTANCE THAT HAS TRANSITIONED FROM LIQUID TO GAS HAS DON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WD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UGAR IS SOMETIMES KNOWN AS CONFECTIONER'S SUG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REE READER OF PDF FILES FOR THE MAC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AUCE IS THE MOST USED CONDIMENT    IN CHINESE F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HEE, OFTEN USED IN SOUTH ASIAN FOODS, IS CLARIFI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ON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RST SEASON OF "GILLIGAN'S ISLAND", THE PROFESSOR SUCCESSFULLY BUILT A BATTERY CHARGER OUT OF WHAT O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LITZER-WINNING 1944 PLAY IS NAMED FOR ELWOOD P. DOWD'S IMAGINARY RABBIT 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DID THE OCCUPY MOVEMENT POPULARIZE       IN 2011 FOR AMERICANS EARNING OVER $400,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UGAR IS SOMETIMES KNOWN AS CONFECTIONER'S SUG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IMAL RIGHTS ACTIVIST JOHN CADBURY IS BETTER KNOWN FOR THE FORTUNE HE MADE MANUFACTURING WHAT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APOR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UBSTANCE THAT HAS TRANSITIONED FROM LIQUID TO GAS HAS DON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47640" y="48769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MIL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REE READER OF PDF FILES FOR THE MAC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AUCE IS THE MOST USED CONDIMENT    IN CHINESE F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HEE, OFTEN USED IN SOUTH ASIAN FOODS, IS CLARIFI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RST SEASON OF "GILLIGAN'S ISLAND", THE PROFESSOR SUCCESSFULLY BUILT A BATTERY CHARGER OUT OF WHAT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LITZER-WINNING 1944 PLAY IS NAMED FOR ELWOOD P. DOWD'S IMAGINARY RABBIT FRI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DID THE OCCUPY MOVEMENT POPULARIZE        IN 2011 FOR AMERICANS EARNING OVER $400,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IMAL RIGHTS ACTIVIST JOHN CADBURY IS BETTER KNOWN FOR THE FORTUNE HE MADE MANUFACTURING WHAT PRODU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6T16:26:38Z</dcterms:created>
  <dc:creator>Jennifer Budzinski</dc:creator>
  <dc:description/>
  <dc:language>en-US</dc:language>
  <cp:lastModifiedBy>Erich Friedman</cp:lastModifiedBy>
  <dcterms:modified xsi:type="dcterms:W3CDTF">2020-08-25T22:10:41Z</dcterms:modified>
  <cp:revision>447</cp:revision>
  <dc:subject/>
  <dc:title>Slide 1</dc:title>
</cp:coreProperties>
</file>