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B361-B3CF-4154-B2C3-20284B9F1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C8E2-228F-4BBF-99B7-4AAFB8DCA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213C-BC62-44F0-999A-9F16533E7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706D-6BC5-4F54-BE76-EBB337FF2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4A60-0EF4-435D-979F-C393C9D2B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1BA8-F70A-42E9-BA2D-554CBB6ED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0C43-E966-44AC-9591-E904EB4D2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3151-BAEA-4BA9-838F-592D38DEB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0A76-2BAB-4DBE-9393-EDC1C6C62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9401-6364-46B9-8A03-EE59B16F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E252-EA97-4028-B426-0BC91FF3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2FACE-2ADE-408E-A5B0-86BD0D1CF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9B5C-4708-4FE0-9A69-EE1D159CF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DAB2-FA65-4CC0-B23C-00E26B02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C3C9-9CC5-449B-A9C1-720FA4C1C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DAB9-0AE7-441D-9F48-10D748A3A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1739-CE7A-4358-862A-ADE1B18A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2A28-CB78-4936-9E9E-470F8FD3E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96E2-ACB9-488B-BEB8-57920A1B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807C-06D9-4896-AE24-1254E0FA1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839A-BA7B-45AA-A465-604CCFE3C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28E1-A49E-494B-AF2C-819011E99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3F9C-2B3E-4071-8A9D-A23699AC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BSTANCE THAT HAS TRANSITIONED FROM LIQUID TO GAS HAS DON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D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GAR IS SOMETIMES KNOWN AS CONFECTIONER'S SUG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REE READER OF PDF FILES FOR THE MAC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AUCE IS THE MOST USED CONDIMENT    IN CHINESE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HEE, OFTEN USED IN SOUTH ASIAN FOODS, IS CLARIFI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RST SEASON OF "GILLIGAN'S ISLAND", THE PROFESSOR SUCCESSFULLY BUILT A BATTERY CHARGER OUT OF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1944 PLAY IS NAMED FOR ELWOOD P. DOWD'S IMAGINARY RABBIT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THE OCCUPY MOVEMENT POPULARIZE       IN 2011 FOR AMERICANS EARNING OVER $4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GAR IS SOMETIMES KNOWN AS CONFECTIONER'S SUG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IMAL RIGHTS ACTIVIST JOHN CADBURY IS BETTER KNOWN FOR THE FORTUNE HE MADE MANUFACTURING WHAT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APOR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BSTANCE THAT HAS TRANSITIONED FROM LIQUID TO GAS HAS DON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MIL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REE READER OF PDF FILES FOR THE MAC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AUCE IS THE MOST USED CONDIMENT    IN CHINESE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HEE, OFTEN USED IN SOUTH ASIAN FOODS, IS CLARIFI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RST SEASON OF "GILLIGAN'S ISLAND", THE PROFESSOR SUCCESSFULLY BUILT A BATTERY CHARGER OUT OF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1944 PLAY IS NAMED FOR ELWOOD P. DOWD'S IMAGINARY RABBIT 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THE OCCUPY MOVEMENT POPULARIZE        IN 2011 FOR AMERICANS EARNING OVER $4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IMAL RIGHTS ACTIVIST JOHN CADBURY IS BETTER KNOWN FOR THE FORTUNE HE MADE MANUFACTURING WHAT PRODU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16:26:38Z</dcterms:created>
  <dc:creator>Jennifer Budzinski</dc:creator>
  <dc:description/>
  <dc:language>en-US</dc:language>
  <cp:lastModifiedBy>Erich Friedman</cp:lastModifiedBy>
  <dcterms:modified xsi:type="dcterms:W3CDTF">2020-08-25T22:10:41Z</dcterms:modified>
  <cp:revision>447</cp:revision>
  <dc:subject/>
  <dc:title>Slide 1</dc:title>
</cp:coreProperties>
</file>