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A54F-0D99-45DD-8A74-E25951C45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CDA9-FE36-4A32-A38D-5C6420DF3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E481-9C2A-4B8B-B01D-91D749BC2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5041-6B90-43EA-B7FC-1F44A079C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BD8B-B5B3-40FE-B996-4144DDDAA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F5C7-074E-4176-ADC2-E0760ED0C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C492-9A9F-410E-993C-27DF1DF39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CC7D-4A7D-4461-80D0-72608A765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F26C-DE0A-4487-A9CD-52F756A33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CE5F-7230-4006-94D2-91A642173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373F-13DA-4763-BA16-874F74755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0B6D-7C16-44C7-8FD8-30B472034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92CA-AEC3-4C86-887D-D2190E1B0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19FC-5AE1-4A4C-A856-341410089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DBD0-882F-4E6E-A5AB-2777BF8CE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7D86-4D0C-47DB-B52A-731BF49EC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30E9-4EEF-4F95-B437-E1094DF5D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BD90-6877-4368-948E-8DBCAEFF1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4A3B-2A8F-44C3-AAAC-D58105C21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2B8B-FF5B-4D8B-8559-6D22A0415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18A0-48AE-4459-9210-244C399B7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D1F4-0B45-47A3-9B88-8BA25BD39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FD4D-87D8-48EF-B9FE-3513EEA2D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TH AFRICAN RELIGIOUS LEADER WON A NOBEL PEACE PRIZE AND SPOKE AT STETSON IN 199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IRE  D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76240" y="762120"/>
            <a:ext cx="7391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GOLDEN GLOBES FOR "MY SO-CALLED LIFE", "TEMPLE GRANDIN", AND TWO FOR "HOMEL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IZABETH  HUR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DEVIL IN "BEDAZZLED" AND AUSTIN POWERS' SPY GIRLFRIEND IN THE FIRST FILM OF THAT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2057400" y="4343400"/>
            <a:ext cx="5029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DVENTURES  OF  TOM  SAW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95360" y="762120"/>
            <a:ext cx="8153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ARK TWAIN BOOK SOLD THE MOST COPIES DURING HIS LIFE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E  MIDDLE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MARRIED PRINCE WILLIAM, THE FUTURE KING OF ENG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WAY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TRUE GRIT", BUT WAS ALSO NOMINATED FOR "SANDS OF IWO JIMA" AND "THE ALAM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NICHO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LE ACTOR HAS BEEN NOMINATED FOR A RECORD 12 ACADEMY AWARDS FOR ACTING, WINNING IN 1975, 1983, AND 1997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ETTE 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04920" y="762120"/>
            <a:ext cx="8534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NATURAL BORN KILLERS", "WHAT'S EATING GILBERT GRAPE", AND "STRANGE DAY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GOLDEN GLOBES FOR "MY SO-CALLED LIFE", "TEMPLE GRANDIN", AND TWO FOR "HOMEL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8808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  FRANK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NVENTED BIFOCALS, THE LIGHTNING ROD, AND SWIM FI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SMOND  TU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TH AFRICAN RELIGIOUS LEADER WON A NOBEL PEACE PRIZE AND SPOKE AT STETSON IN 199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81160" y="4343400"/>
            <a:ext cx="6781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FIRST  NAMES  OF CHARACTERS  ON  "LOST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DEVIL IN "BEDAZZLED" AND AUSTIN POWERS' SPY GIRLFRIEND IN THE FIRST FILM OF THAT FRANCHI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ARK TWAIN BOOK SOLD THE MOST COPIES DURING HIS LIFE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MARRIED PRINCE WILLIAM, THE FUTURE KING OF ENG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9040" y="72396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TRUE GRIT", BUT WAS ALSO NOMINATED FOR "SANDS OF IWO JIMA" AND "THE ALAM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LE ACTOR HAS BEEN NOMINATED FOR A RECORD 12 ACADEMY AWARDS FOR ACTING, WINNING IN 1975, 1983, AND 1997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NATURAL BORN KILLERS", "WHAT'S EATING GILBERT GRAPE", AND "STRANGE DAY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NVENTED BIFOCALS, THE LIGHTNING ROD, AND SWIM FI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4T17:04:59Z</dcterms:created>
  <dc:creator>Jennifer Budzinski</dc:creator>
  <dc:description/>
  <dc:language>en-US</dc:language>
  <cp:lastModifiedBy>Erich Friedman</cp:lastModifiedBy>
  <dcterms:modified xsi:type="dcterms:W3CDTF">2020-08-25T22:14:34Z</dcterms:modified>
  <cp:revision>382</cp:revision>
  <dc:subject/>
  <dc:title>Slide 1</dc:title>
</cp:coreProperties>
</file>