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3BAF-762B-44E7-A452-178353156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B98B-593D-4272-A60F-61EC8C7F8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1EA7-1D4C-4453-90EE-DD8E6F32F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3B4E-05E2-4759-907A-ECB7B2542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C2FA-093A-4A0B-BAFC-8FC936BD6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FE95-2934-4BCD-94D0-CC135F5EC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C3BD-AD76-411F-9528-936065629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9AB4-488A-4495-A689-82627B9D3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7962-D874-4CF4-9B85-3A099F121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93DA-A033-4382-9AFD-50F5A7EB6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B599-6777-49E3-A1F0-C428347C7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4D12-6CF0-42D5-8812-C5A6B7B8E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D6A8-7DB2-4C6E-AA08-CBE5041DF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69CE-4282-4BCD-9E5D-704AB4AED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631E-199C-4F52-BE25-1CB418F91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A602-BAE7-42F8-95D8-AA4D56BCC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8645-A309-44EA-A6E0-11C4C6313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4A2E-34D9-402B-9BA9-80C84DD9F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E327-D920-4AA8-8C0F-BB87BE68A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F5F8-53F4-463C-B301-EC03D7D0C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88E6-9A1D-4685-A6F6-4C60E9F2D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7B27-B3D0-4FC8-8068-40EEA38CE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1B73-F020-4B16-BD4F-EEB90A88C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AFRICAN RELIGIOUS LEADER WON A NOBEL PEACE PRIZE AND SPOKE AT STETSON IN 199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IRE  D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GOLDEN GLOBES FOR "MY SO-CALLED LIFE", "TEMPLE GRANDIN", AND TWO FOR "HOME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ZABETH  HUR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DEVIL IN "BEDAZZLED" AND AUSTIN POWERS' SPY GIRLFRIEND IN THE FIRST FILM OF THAT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057400" y="4343400"/>
            <a:ext cx="5029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DVENTURES  OF  TOM  SAW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ARK TWAIN BOOK SOLD THE MOST COPIES DURING HIS LIFE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MIDDLE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RRIED PRINCE WILLIAM, THE FUTURE KING OF ENG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RUE GRIT", BUT WAS ALSO NOMINATED FOR "SANDS OF IWO JIMA" AND "THE ALAM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NICHO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ACTOR HAS BEEN NOMINATED FOR A RECORD 12 ACADEMY AWARDS FOR ACTING, WINNING IN 1975, 1983, AND 1997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ETTE 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NATURAL BORN KILLERS", "WHAT'S EATING GILBERT GRAPE", AND "STRANGE DAY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GOLDEN GLOBES FOR "MY SO-CALLED LIFE", "TEMPLE GRANDIN", AND TWO FOR "HOME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8808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FRANK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BIFOCALS, THE LIGHTNING ROD, AND SWIM F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MOND  TU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AFRICAN RELIGIOUS LEADER WON A NOBEL PEACE PRIZE AND SPOKE AT STETSON IN 199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81160" y="4343400"/>
            <a:ext cx="6781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FIRST  NAMES  OF CHARACTERS  ON  "LOS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DEVIL IN "BEDAZZLED" AND AUSTIN POWERS' SPY GIRLFRIEND IN THE FIRST FILM OF THAT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ARK TWAIN BOOK SOLD THE MOST COPIES DURING HIS LIFE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MARRIED PRINCE WILLIAM, THE FUTURE KING OF ENG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RUE GRIT", BUT WAS ALSO NOMINATED FOR "SANDS OF IWO JIMA" AND "THE ALAM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LE ACTOR HAS BEEN NOMINATED FOR A RECORD 12 ACADEMY AWARDS FOR ACTING, WINNING IN 1975, 1983, AND 1997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NATURAL BORN KILLERS", "WHAT'S EATING GILBERT GRAPE", AND "STRANGE DAY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BIFOCALS, THE LIGHTNING ROD, AND SWIM F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4T17:04:59Z</dcterms:created>
  <dc:creator>Jennifer Budzinski</dc:creator>
  <dc:description/>
  <dc:language>en-US</dc:language>
  <cp:lastModifiedBy>Erich Friedman</cp:lastModifiedBy>
  <dcterms:modified xsi:type="dcterms:W3CDTF">2020-08-25T22:14:34Z</dcterms:modified>
  <cp:revision>382</cp:revision>
  <dc:subject/>
  <dc:title>Slide 1</dc:title>
</cp:coreProperties>
</file>