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5CDD-8F22-4089-8399-69D4F47F3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6A2F-92F4-4751-83EC-D3E619CA6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7495-AE44-4030-83A9-8C6CD6FB6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81F2-C5D7-4C87-8E3F-D3623311E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F07E-E745-4891-B6D5-103F62E51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38E5-7C29-4F31-9781-C1142D223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0EBD-FE31-459E-8299-5DA2E5A2E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530F-5A40-466D-B5DC-0112B1E15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7832-E3F9-46B1-B3F6-E151BAF0F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C88E-0C57-4A71-BB5F-BB0FA3ECE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A63C-D887-4BE0-B026-4C9D950C2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A1DB-9767-42E2-A1D5-6AB1296BB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45A7-1FE3-40AD-9CF6-7CD30CDC9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1EC5-40AE-456E-90BC-878137664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85AD-D52F-4F4A-B0D6-8A8798C84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22FA-2C43-4225-B7D1-6A7AC8EF3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F970-EA8F-4A4F-85C5-22D81E909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1A1A-46E0-4BA3-8434-843564376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4FDD-52EE-49D5-9634-7B967A8CE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97BD-0E29-4D5E-9840-445FB37CD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22CF-6C53-4DFD-ADA7-160C40E88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A548-CD1F-4901-96D0-256D2045C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841C-438C-414F-BAA6-A6874492D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FRICAN RELIGIOUS LEADER WON A NOBEL PEACE PRIZE AND SPOKE AT STETSON IN 199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IRE  D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EN GLOBES FOR "MY SO-CALLED LIFE", "TEMPLE GRANDIN", AND TWO FOR "HOME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HU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DEVIL IN "BEDAZZLED" AND AUSTIN POWERS' SPY GIRLFRIEND IN THE FIRST FILM OF THAT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057400" y="4343400"/>
            <a:ext cx="5029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DVENTURES  OF  TOM  SAW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RK TWAIN BOOK SOLD THE MOST COPIES DURING HIS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MIDD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PRINCE WILLIAM, THE FUTURE KING OF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RUE GRIT", BUT WAS ALSO NOMINATED FOR "SANDS OF IWO JIMA" AND "THE ALAM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HO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ACTOR HAS BEEN NOMINATED FOR A RECORD 12 ACADEMY AWARDS FOR ACTING, WINNING IN 1975, 1983, AND 1997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ETTE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NATURAL BORN KILLERS", "WHAT'S EATING GILBERT GRAPE", AND "STRANGE DA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EN GLOBES FOR "MY SO-CALLED LIFE", "TEMPLE GRANDIN", AND TWO FOR "HOME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80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BIFOCALS, THE LIGHTNING ROD, AND SWIM F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MOND  TU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FRICAN RELIGIOUS LEADER WON A NOBEL PEACE PRIZE AND SPOKE AT STETSON IN 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81160" y="4343400"/>
            <a:ext cx="6781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FIRST  NAMES  OF CHARACTERS  ON  "LOS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DEVIL IN "BEDAZZLED" AND AUSTIN POWERS' SPY GIRLFRIEND IN THE FIRST FILM OF THAT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RK TWAIN BOOK SOLD THE MOST COPIES DURING HIS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PRINCE WILLIAM, THE FUTURE KING OF ENG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RUE GRIT", BUT WAS ALSO NOMINATED FOR "SANDS OF IWO JIMA" AND "THE ALAM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ACTOR HAS BEEN NOMINATED FOR A RECORD 12 ACADEMY AWARDS FOR ACTING, WINNING IN 1975, 1983, AND 1997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NATURAL BORN KILLERS", "WHAT'S EATING GILBERT GRAPE", AND "STRANGE D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BIFOCALS, THE LIGHTNING ROD, AND SWIM F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4T17:04:59Z</dcterms:created>
  <dc:creator>Jennifer Budzinski</dc:creator>
  <dc:description/>
  <dc:language>en-US</dc:language>
  <cp:lastModifiedBy>Erich Friedman</cp:lastModifiedBy>
  <dcterms:modified xsi:type="dcterms:W3CDTF">2020-08-25T22:14:34Z</dcterms:modified>
  <cp:revision>382</cp:revision>
  <dc:subject/>
  <dc:title>Slide 1</dc:title>
</cp:coreProperties>
</file>