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15DA4-01F8-4CC6-891C-4B940C219F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B43CE-6080-4618-BEAE-1FB71DAA91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F5849-06C3-4F5F-A053-25A0803420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CAEF5-4709-4492-9CF7-E278756EE1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501FE-6086-4DE0-A41A-05D289CBDF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F29FD-1C60-44E6-AC8D-02EB76FEBF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C2071-5529-4B16-8E0C-2110D0E708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297BF-3544-4A9E-87AA-F2E51DDFA5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F4E0E-D7DC-48FC-93A8-F638DEDD09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7AA14-D1FB-4B1C-AA02-19A42E47EE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ABBCE-915D-42A3-8AAB-359D721AA2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3C7BD-7503-44ED-9841-ABC833D364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C9E52-7927-4021-A00F-BA68A59228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9A8ED-349B-4C6D-B9FD-11ECC21000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79BD3-B975-41AD-80E3-7B35169BCD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934CA-9066-4B57-86FF-E16A0C315A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7CC41-E8D3-49A3-80A2-D22CD5AADC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D7317-29E5-47FF-9DFE-17E0E40BB7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F18C0-3BE9-4374-9717-29E4CFC69B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E09F8-A281-4D07-B571-97AED5C67C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989A3-7868-4091-9FF0-B2E1E9FF29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4382F-6E41-46AF-9149-0579AF0BD5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68D2A-EB09-4C6F-82EE-3FC690AA46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-214920" y="166680"/>
            <a:ext cx="338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600200" y="1066680"/>
            <a:ext cx="5943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EOPLE      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762120" y="761760"/>
            <a:ext cx="76197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A GOLDEN GLOBE, AND WAS NOMINATED    FOR AN OSCAR AND TONY,      FOR PLAYING TEVYE IN   "FIDDLER ON THE ROOF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ON  JOHN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571680" y="762120"/>
            <a:ext cx="80010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JAMES "SONNY" CROCKETT ON "MIAMI VIC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ON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2209680" y="762120"/>
            <a:ext cx="47246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THE LEAD SINGER OF U2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266760" y="4876920"/>
            <a:ext cx="8610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OB  RO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380880" y="762120"/>
            <a:ext cx="83822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HOSTED THE PBS SHOW "THE JOY OF PAINTING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76920"/>
            <a:ext cx="8458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HN  FO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685800" y="762120"/>
            <a:ext cx="77724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HEAD COACH OF THE PANTHERS (2002-2010), BRONCOS (2011-2014) AND BEARS (2015-2017)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204920" y="4876920"/>
            <a:ext cx="6781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OL  PO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1143000" y="762120"/>
            <a:ext cx="68580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HEAD OF THE KHMER ROUGE FOR 34 YEA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HN  CH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990720" y="762120"/>
            <a:ext cx="716256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HIKARU SULU IN THE 3 MOST RECENT "STAR TREK" FILM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JÖR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876240" y="762120"/>
            <a:ext cx="73915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VANT-GARDE ICELANDER SANG "ARMY OF ME",  "HYPERBALLAD", AND "IT'S OH SO QUIET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533520" y="762120"/>
            <a:ext cx="80769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JAMES "SONNY" CROCKETT ON "MIAMI VIC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380880" y="4876920"/>
            <a:ext cx="83822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OB  FO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762120" y="762120"/>
            <a:ext cx="76197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AYOR OF TORONTO WAS CAUGHT ON TAPE SMOKING CRACK COCAINE, REFUSED TO RESIGN, AND DIED OF CANC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OP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762120" y="763560"/>
            <a:ext cx="7619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A GOLDEN GLOBE, AND WAS NOMINATED       FOR AN OSCAR AND TONY,      FOR PLAYING TEVYE IN   "FIDDLER ON THE ROOF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1676520" y="4343400"/>
            <a:ext cx="579096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ONLY  VOWEL  IN  THEIR  NAMES  IS  "O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1828800" y="761760"/>
            <a:ext cx="5486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THE LEAD SINGER OF U2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380880" y="762120"/>
            <a:ext cx="83822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HOSTED THE PBS SHOW "THE JOY OF PAINTING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533520" y="762120"/>
            <a:ext cx="80769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HEAD COACH OF THE PANTHERS (2002-2010), BRONCOS (2011-2014) AND BEARS (2015-2017)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952560" y="762120"/>
            <a:ext cx="723888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HEAD OF THE KHMER ROUGE FOR 34 YEAR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723960" y="761760"/>
            <a:ext cx="76960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HIKARU SULU IN THE 3 MOST RECENT "STAR TREK" FILMS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952560" y="761760"/>
            <a:ext cx="72388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VANT-GARDE ICELANDER SANG "ARMY OF ME",  "HYPERBALLAD", AND "IT'S OH SO QUIET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533520" y="762120"/>
            <a:ext cx="807696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AYOR OF TORONTO WAS CAUGHT ON TAPE SMOKING CRACK COCAINE, REFUSED TO RESIGN, AND DIED OF CANC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22T13:03:42Z</dcterms:created>
  <dc:creator>Jennifer Budzinski</dc:creator>
  <dc:description/>
  <dc:language>en-US</dc:language>
  <cp:lastModifiedBy>Erich Friedman</cp:lastModifiedBy>
  <dcterms:modified xsi:type="dcterms:W3CDTF">2020-08-26T14:51:46Z</dcterms:modified>
  <cp:revision>416</cp:revision>
  <dc:subject/>
  <dc:title>Slide 1</dc:title>
</cp:coreProperties>
</file>