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AA3E-0BD2-474D-9733-FF1E326D3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0A48-88E8-4E1C-9BAC-B603CF76F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EDB6-DC7D-4FFC-8F7E-0B20DCA77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A56E-AB9C-4A51-82D8-90AA66734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0550-0C7F-4EB9-8A67-C76973615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E0A1-E9F6-42B9-8737-8B155E5C5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0B40-0D63-46DD-A51F-25F56EF79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3137-FFE9-469C-A640-C886782DF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6318-909E-49C5-81FE-A32771114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5D0F-944B-447D-98B0-62188489B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658E-D277-4F32-AD59-5654CAA2A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482C-BEC2-4DA4-9D6B-BC69C4A0C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26EC-2B7B-49F0-9C16-546027B7A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DF74-9178-46FE-9CE6-B1F46701A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6099-B223-4309-9AA9-F80DB74AD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69D0-F5B1-4AC3-9532-BA00FD695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174A-DE88-488A-8F88-97469F611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CE97-4A15-4E94-A52E-C8E21C7E8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B186-6E83-4660-8F68-93B0B5BA0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8D9C-1563-4211-B339-A31E99BD7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850F-1B24-4F48-9524-3C9EBE7D2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5896-2F20-4489-86E9-01BE24539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E2C2-1192-4CEC-8CB0-A6A29617D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OLDEN GLOBE, AND WAS NOMINATED    FOR AN OSCAR AND TONY,      FOR PLAYING TEVYE IN   "FIDDLER ON THE ROO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MES "SONNY" CROCKETT ON "MIAMI V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209680" y="762120"/>
            <a:ext cx="4724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U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PBS SHOW "THE JOY OF PAINT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EAD COACH OF THE PANTHERS (2002-2010), BRONCOS (2011-2014) AND BEARS (2015-201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20492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  P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EAD OF THE KHMER ROUGE FOR 34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IKARU SULU IN THE 3 MOST RECENT "STAR TREK" FIL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JÖ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VANT-GARDE ICELANDER SANG "ARMY OF ME",  "HYPERBALLAD", AND "IT'S OH SO QUI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MES "SONNY" CROCKETT ON "MIAMI V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TORONTO WAS CAUGHT ON TAPE SMOKING CRACK COCAINE, REFUSED TO RESIGN, AND DIED OF CAN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3560"/>
            <a:ext cx="7619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OLDEN GLOBE, AND WAS NOMINATED       FOR AN OSCAR AND TONY,      FOR PLAYING TEVYE IN   "FIDDLER ON THE ROO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76520" y="4343400"/>
            <a:ext cx="5790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LY  VOWEL  IN  THEIR  NAMES  IS  "O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U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PBS SHOW "THE JOY OF PAINT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EAD COACH OF THE PANTHERS (2002-2010), BRONCOS (2011-2014) AND BEARS (2015-2017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EAD OF THE KHMER ROUGE FOR 34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IKARU SULU IN THE 3 MOST RECENT "STAR TREK" FILM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VANT-GARDE ICELANDER SANG "ARMY OF ME",  "HYPERBALLAD", AND "IT'S OH SO QUI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TORONTO WAS CAUGHT ON TAPE SMOKING CRACK COCAINE, REFUSED TO RESIGN, AND DIED OF CAN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2T13:03:42Z</dcterms:created>
  <dc:creator>Jennifer Budzinski</dc:creator>
  <dc:description/>
  <dc:language>en-US</dc:language>
  <cp:lastModifiedBy>Erich Friedman</cp:lastModifiedBy>
  <dcterms:modified xsi:type="dcterms:W3CDTF">2020-08-26T14:51:46Z</dcterms:modified>
  <cp:revision>416</cp:revision>
  <dc:subject/>
  <dc:title>Slide 1</dc:title>
</cp:coreProperties>
</file>