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4D94-EBBE-453E-A9B9-129634396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B2A6-3D56-4AEF-92DE-8F6B98999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248E-2DD8-45D2-8C19-E5E10859F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ECDC-A481-4540-BA9C-03AE825FF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D094-F469-4A68-92C1-3DA1CBE8E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0293-024B-43EA-AC4A-72DE0B4F9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3ABF-B73B-496D-B015-1E5118C72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641B-8FB1-451E-B3E1-D2A0FE8C1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CEBD-9FD2-4951-A559-ADEC415A9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603F-F93D-4B6E-8BBC-6C1C964F0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7B29-0C37-4320-B44E-6C06B1B5B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89D4-1320-4A06-8278-A846A7DC6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5E74-572E-492D-94DC-BBEF1C206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0813-F277-4617-90B8-C1D443D88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EDC4-1CA9-45BA-9CA6-3E62B7D9B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D03C-EC1C-4C3F-97B5-B8B5A624E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039B-7530-4717-9E58-D10277BFD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12F9-7E24-46F9-A577-20D5CDC8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200F-A5EA-4BE5-9522-77CB658B8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12E1-A837-44C3-AA7C-09B7B08E0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C986-5EE9-4DD7-B6BE-E9E21CF62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9955-EF72-475E-BC53-F386753E1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62A9-49E5-4F29-975C-CB3BB69C6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, AND WAS NOMINATED    FOR AN OSCAR AND TONY,      FOR PLAYING TEVYE IN   "FIDDLER ON THE RO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"SONNY" CROCKETT ON "MIAMI V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209680" y="762120"/>
            <a:ext cx="4724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U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PBS SHOW "THE JOY OF PAIN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D COACH OF THE PANTHERS (2002-2010), BRONCOS (2011-2014) AND BEARS (2015-201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20492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  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D OF THE KHMER ROUGE FOR 34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IKARU SULU IN THE 3 MOST RECENT "STAR TREK" FIL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JÖ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VANT-GARDE ICELANDER SANG "ARMY OF ME",  "HYPERBALLAD", AND "IT'S OH SO QUI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"SONNY" CROCKETT ON "MIAMI V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TORONTO WAS CAUGHT ON TAPE SMOKING CRACK COCAINE, REFUSED TO RESIGN, AND DIED OF CAN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3560"/>
            <a:ext cx="7619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, AND WAS NOMINATED       FOR AN OSCAR AND TONY,      FOR PLAYING TEVYE IN   "FIDDLER ON THE ROO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76520" y="43434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IN  THEIR  NAMES  IS  "O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U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PBS SHOW "THE JOY OF PAIN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D COACH OF THE PANTHERS (2002-2010), BRONCOS (2011-2014) AND BEARS (2015-201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D OF THE KHMER ROUGE FOR 34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IKARU SULU IN THE 3 MOST RECENT "STAR TREK" FILM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VANT-GARDE ICELANDER SANG "ARMY OF ME",  "HYPERBALLAD", AND "IT'S OH SO QUI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TORONTO WAS CAUGHT ON TAPE SMOKING CRACK COCAINE, REFUSED TO RESIGN, AND DIED OF CAN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2T13:03:42Z</dcterms:created>
  <dc:creator>Jennifer Budzinski</dc:creator>
  <dc:description/>
  <dc:language>en-US</dc:language>
  <cp:lastModifiedBy>Erich Friedman</cp:lastModifiedBy>
  <dcterms:modified xsi:type="dcterms:W3CDTF">2020-08-26T14:51:46Z</dcterms:modified>
  <cp:revision>416</cp:revision>
  <dc:subject/>
  <dc:title>Slide 1</dc:title>
</cp:coreProperties>
</file>