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CF4-87DA-44B8-A9BE-CF5DCB848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3150-5DAC-497B-933F-D45BC303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C041-6AB7-485E-A819-2715B42C4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3FDA-3C08-41AD-BD93-F7BC3BC0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C339-7F5F-4D38-8650-FEB875891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CFE5-1971-4ABF-ADE1-3D512EBB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66C-F490-4782-A75E-51FAE0EAC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089-AB6D-4098-B3E3-AF8B02AA9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83CC-0351-4950-A366-016A0CE0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E56E-833C-47B6-B87A-67C5727F5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A3D2-330F-453D-B0FC-53AD64F1F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A23A-CE15-4836-9121-C3BB970CE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F642-5A95-44E7-A9F0-27B54B80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2916-9142-4A49-9FD9-C485ABDD4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91EE-58EC-4741-BA98-D125A3C1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F28E-EF6E-4E7F-9040-B4ABF617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CB65-9CEA-4D21-9DCE-265F06D6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3043-E966-45A2-9DEC-C9A1AB9FF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B476-E0AB-49A9-9418-4AB1ABBF3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1A10-0E16-46CF-B87F-F9872677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E549-251A-4654-98CF-B691B0E5B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F56A-56C2-4A2F-A8E2-A8C35BF01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8ED6-5284-471A-AF8C-13C5FBB4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CRONYM ON GRAVE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FURNITURE REMAINS A WORD IF A "T" IS APPENDED TO THE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A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LIVELY FOLK DANCE ORIGINATED IN ENGLAND, BUT IS MOSTLY ASSOCIATED WITH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LEETWOOD MAC HIT SONG DOES THE CHORUS START "AND IF YOU DON'T LOVE ME NOW, YOU WILL NEVER LOVE ME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CT TOURED WITH BOB DYLAN IN 1965, 1966, AND 1974, AND RECORDED 3 ALBUMS WITH HIM IN 1974 AND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 DOES A BISHOP OR SENIOR ABBOT W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A THIN STRIP OF METAL EMBEDDED IN THE NECK OF A GUITAR THAT RAISES THE STR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TO USE A COMPUTER TO GAIN UNAUTHORIZED AC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ED IN ANCIENT EGYPT, WHAT DID PEOPLE WRITE ON BEFORE THE INVENTION OF BOOKS BY THE ROM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17:54:23Z</dcterms:created>
  <dc:creator>Jennifer Budzinski</dc:creator>
  <dc:description/>
  <dc:language>en-US</dc:language>
  <cp:lastModifiedBy>Erich Friedman</cp:lastModifiedBy>
  <dcterms:modified xsi:type="dcterms:W3CDTF">2020-08-26T14:53:53Z</dcterms:modified>
  <cp:revision>387</cp:revision>
  <dc:subject/>
  <dc:title>Slide 1</dc:title>
</cp:coreProperties>
</file>