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C2DE-4180-4270-BE6A-55FCD17B7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190-C82E-4E6D-B9AE-BCD5F775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4F4A-98E3-4CB0-A1C3-5F2A2A27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3C4-61F0-4885-98FF-64FF332A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3E39-4C0B-463F-B97C-420F6698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D3A1-6015-4D69-B7C2-01A89F78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4D48-CA67-458E-B881-F4E8E1B0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66F-6CEA-4955-8C58-62762D3A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52E3-1C3B-4B27-B22B-FE2C44D35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B9D-A609-47E0-A2DB-76754D09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646B-D89F-40B5-8FAD-4B9DB9660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0797-16D5-4198-913C-AADBF9496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B77D-35CE-454F-BA34-054A710A5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6343-F9A5-4899-839D-4A7DD6B39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C084-B303-42EC-85E3-0BF7D747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8BE-6484-4B40-93A3-9BAB3CBCB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CD8D-2798-4084-9A5A-67E50A65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0114-2729-4644-A210-422DABAF5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D6B8-4E59-42C6-ADC7-2A1C69DA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07D5-6DD3-4B49-902F-DF5483ADA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CF4A-7565-45B2-8CC6-D94B1F898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AAB2-9DB4-4D24-A9EC-C36498D64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E37-EC15-4102-A528-17B7059DA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FURNITURE REMAINS A WORD IF A "T" IS APPENDED TO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CRONYM ON GRAVE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VELY FOLK DANCE ORIGINATED IN ENGLAND, BUT IS MOSTLY ASSOCIATED WITH IR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LEETWOOD MAC HIT SONG DOES THE CHORUS START "AND IF YOU DON'T LOVE ME NOW, YOU WILL NEVER LOVE M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CT TOURED WITH BOB DYLAN IN 1965, 1966, AND 1974, AND RECORDED 3 ALBUMS WITH HIM IN 1974 AND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 DOES A BISHOP OR SENIOR ABBOT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THIN STRIP OF METAL EMBEDDED IN THE NECK OF A GUITAR THAT RAISES THE ST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TO USE A COMPUTER TO GAIN UNAUTHORIZED ACC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CRONYM ON GRAVE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D IN ANCIENT EGYPT, WHAT DID PEOPLE WRITE ON BEFORE THE INVENTION OF BOOKS BY THE ROM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FURNITURE REMAINS A WORD IF A "T" IS APPENDED TO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VELY FOLK DANCE ORIGINATED IN ENGLAND, BUT IS MOSTLY ASSOCIATED WITH IR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LEETWOOD MAC HIT SONG DOES THE CHORUS START "AND IF YOU DON'T LOVE ME NOW, YOU WILL NEVER LOVE M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CT TOURED WITH BOB DYLAN IN 1965, 1966, AND 1974, AND RECORDED 3 ALBUMS WITH HIM IN 1974 AND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 DOES A BISHOP OR SENIOR ABBOT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THIN STRIP OF METAL EMBEDDED IN THE NECK OF A GUITAR THAT RAISES THE STR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TO USE A COMPUTER TO GAIN UNAUTHORIZED AC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D IN ANCIENT EGYPT, WHAT DID PEOPLE WRITE ON BEFORE THE INVENTION OF BOOKS BY THE ROM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7:54:23Z</dcterms:created>
  <dc:creator>Jennifer Budzinski</dc:creator>
  <dc:description/>
  <dc:language>en-US</dc:language>
  <cp:lastModifiedBy>Erich Friedman</cp:lastModifiedBy>
  <dcterms:modified xsi:type="dcterms:W3CDTF">2020-08-26T14:53:53Z</dcterms:modified>
  <cp:revision>387</cp:revision>
  <dc:subject/>
  <dc:title>Slide 1</dc:title>
</cp:coreProperties>
</file>