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A72E-E481-4C99-96D4-6C63919FD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0F7F-1FF2-4EBF-A4A7-55CE0244F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4151-D50C-454E-B7A6-24F163A0B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A8EE-1FFD-47FC-9DB8-9AC4DFD70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E865-32FD-407A-B11D-BD37FA134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C8C7-8D35-4707-9740-F950397DC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6D68-52B8-4189-8457-E5FB1890D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6ECE-BD7A-4693-82F1-B86419422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3406-0AB1-4D4F-B04D-98617AB3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1B7B-976F-4617-B7A6-20BBBF5BD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3E34-2B7C-4D6E-A9B8-95C4A5FE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97DB-982B-4014-B9B7-BEADB118E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F3E0-2B39-46FC-8C47-2BA01B049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AF79-F3E8-439B-9E59-61CA7108E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104D-DBCA-47D5-938D-5E1C6DA1E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B873-69A6-4241-B258-298A0E92C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4DB3-B459-4C09-B3A0-E8A3B485A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BCD3-8589-4D8E-8BFA-7EF856847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A411-E58C-4C7D-9B0E-19E82A1B8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827E-E90A-4968-9C2A-C956A5D38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47AE-E76C-44F1-8C60-EB29D60FF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35B4-DED6-4EE8-B23B-86617DD1E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7EAF-C184-4B06-A7F9-F734B9E52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FURNITURE REMAINS A WORD IF A "T" IS APPENDED TO THE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ACRONYM ON GRAVE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IVELY FOLK DANCE ORIGINATED IN ENGLAND, BUT IS MOSTLY ASSOCIATED WITH IR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LEETWOOD MAC HIT SONG DOES THE CHORUS START "AND IF YOU DON'T LOVE ME NOW, YOU WILL NEVER LOVE ME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CT TOURED WITH BOB DYLAN IN 1965, 1966, AND 1974, AND RECORDED 3 ALBUMS WITH HIM IN 1974 AND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T DOES A BISHOP OR SENIOR ABBOT W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THIN STRIP OF METAL EMBEDDED IN THE NECK OF A GUITAR THAT RAISES THE STR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TO USE A COMPUTER TO GAIN UNAUTHORIZED ACC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ACRONYM ON GRAVE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O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D IN ANCIENT EGYPT, WHAT DID PEOPLE WRITE ON BEFORE THE INVENTION OF BOOKS BY THE ROM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FURNITURE REMAINS A WORD IF A "T" IS APPENDED TO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IVELY FOLK DANCE ORIGINATED IN ENGLAND, BUT IS MOSTLY ASSOCIATED WITH IRE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LEETWOOD MAC HIT SONG DOES THE CHORUS START "AND IF YOU DON'T LOVE ME NOW, YOU WILL NEVER LOVE ME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CT TOURED WITH BOB DYLAN IN 1965, 1966, AND 1974, AND RECORDED 3 ALBUMS WITH HIM IN 1974 AND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T DOES A BISHOP OR SENIOR ABBOT W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THIN STRIP OF METAL EMBEDDED IN THE NECK OF A GUITAR THAT RAISES THE STR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TO USE A COMPUTER TO GAIN UNAUTHORIZED ACC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D IN ANCIENT EGYPT, WHAT DID PEOPLE WRITE ON BEFORE THE INVENTION OF BOOKS BY THE ROM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7:54:23Z</dcterms:created>
  <dc:creator>Jennifer Budzinski</dc:creator>
  <dc:description/>
  <dc:language>en-US</dc:language>
  <cp:lastModifiedBy>Erich Friedman</cp:lastModifiedBy>
  <dcterms:modified xsi:type="dcterms:W3CDTF">2020-08-26T14:53:53Z</dcterms:modified>
  <cp:revision>387</cp:revision>
  <dc:subject/>
  <dc:title>Slide 1</dc:title>
</cp:coreProperties>
</file>