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91E2-C519-420D-81F2-56B291208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4190-4013-45AF-95FE-B698DFDFC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342B-C4FE-4A31-9B14-E0FD46A1E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D3B5-1993-40C2-9B7B-2BB735D2E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7EED1-0DF5-44DF-A3F0-A9BD24026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8414-27F7-4F4A-A9B9-D14B93AAB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3424-3243-4482-A3AA-6B9946EDF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029F-F836-4842-916D-B87294DAB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B750E-E16E-4946-BD91-24AF22C35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09F8-EE59-46C9-9ED7-918CA5BF0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D7D0-1D7C-4DF9-9109-76E0AE13E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64B5-76AD-4DDA-B710-72525C43E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431E-0AA6-4064-AA73-5FF4DC645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F618-EF34-4401-9FA7-753F4B0E7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C753-E46D-4D04-9352-3F5444F7C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76CC-2142-44B0-8E49-935461B33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B942-58CF-4DFF-9007-88DB21384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03E1-8819-4BDC-867F-3B7C5BCA7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4643-F332-4661-936E-F6526E392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F6FA-FFEE-4075-B72C-8C1F3ACA7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F72E-07C1-4FE5-8AE5-E7309ADC6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8353-3C03-4D0E-A884-636A76A5D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15EA-52C1-4F8F-98E0-7232A7F82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SENTENCE OF A JOK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RADIO PROGRAM AND TV SHOW DID THE CHARACTER SERGEANT JOE FRIDAY APP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H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OWN IS CORNELL UNIVERSITY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EWSPAPER IN WASHINGTON,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F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PART OF DANTE ALIGHIERI'S MASTER WORK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A  VINCI 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DAN BROWN'S BEST-SELLING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6512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LLO 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70 ABORTED LUNAR LANDING MI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ADELP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DID THE FIRST CONTINENTAL CONGRESS M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RADIO PROGRAM AND TV SHOW DID THE CHARACTER SERGEANT JOE FRIDAY APP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NFIRE  OF  THE  VA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TIRICAL NOVEL BY TOM WOLFE HAS BEEN CALLED "THE QUINTESSENTIAL    NOVEL OF THE 1980'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NCH 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SENTENCE OF A JOK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876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TOM  HANKS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OWN IS CORNELL UNIVERSITY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EWSPAPER IN WASHINGTON,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PART OF DANTE ALIGHIERI'S MASTER WORK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DAN BROWN'S BEST-SELLING 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70 ABORTED LUNAR LANDING MI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DID THE FIRST CONTINENTAL CONGRESS M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TIRICAL NOVEL BY TOM WOLFE HAS BEEN CALLED "THE QUINTESSENTIAL NOVEL OF THE 1980'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04:47:34Z</dcterms:created>
  <dc:creator>Jennifer Budzinski</dc:creator>
  <dc:description/>
  <dc:language>en-US</dc:language>
  <cp:lastModifiedBy>Erich Friedman</cp:lastModifiedBy>
  <dcterms:modified xsi:type="dcterms:W3CDTF">2020-08-26T14:56:19Z</dcterms:modified>
  <cp:revision>410</cp:revision>
  <dc:subject/>
  <dc:title>Slide 1</dc:title>
</cp:coreProperties>
</file>