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D6CD-DFCB-4DCF-B720-7600511D1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9306-B8B6-4B51-9578-A3E1E50BE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F9B1-796A-44EE-B107-A8A85FFD3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86C1-2AAE-4B7E-90D0-C73FF986F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10AC-22FF-485A-BAC8-E834EF608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23CE-5553-4EC5-BDC9-E0C692D93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DADA-5EAE-4740-9078-5A1C1DD44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8F69-70E0-4804-9C5B-B525AFECF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2865-92EA-4E04-B414-83792B102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199A-49CF-4204-ACF0-0C4D173D0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A971-10AB-429A-B0B3-CBED86078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44F2-D620-43B9-BFA1-C13651A0C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CA23-B621-4C7F-9A05-CDAA337F9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74ED-F617-475C-BCA4-0E4509964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8E8E-9FEB-43CB-BAE4-6AED0AC79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AF38-31AD-49CF-A61B-DC2D3C0C3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0F1E-D61F-465B-9C0A-180199B78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63DB-BDB9-4875-A7B1-EFAE48D78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3C99-E1FE-4DC0-9979-AE94CF55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4614-FFE7-481C-9BE1-8A2568783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36B4-4123-4C04-B537-87E9C70B1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BD04-DCA6-4E6F-9077-A8EB76A96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5FB3-3C8A-44B6-8B24-51A233721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SENTENCE OF A JOK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RADIO PROGRAM AND TV SHOW DID THE CHARACTER SERGEANT JOE FRIDAY APP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H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OWN IS CORNELL UNIVERSITY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EWSPAPER IN WASHINGTON,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F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PART OF DANTE ALIGHIERI'S MASTER WORK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A  VINCI 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DAN BROWN'S BEST-SELLING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6512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LLO 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70 ABORTED LUNAR LANDING MI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ADELP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DID THE FIRST CONTINENTAL CONGRESS M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RADIO PROGRAM AND TV SHOW DID THE CHARACTER SERGEANT JOE FRIDAY APP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NFIRE  OF  THE  VA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TIRICAL NOVEL BY TOM WOLFE HAS BEEN CALLED "THE QUINTESSENTIAL    NOVEL OF THE 1980'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NCH 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SENTENCE OF A JOK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876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TOM  HANKS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OWN IS CORNELL UNIVERSITY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EWSPAPER IN WASHINGTON,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PART OF DANTE ALIGHIERI'S MASTER WORK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DAN BROWN'S BEST-SELLING 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70 ABORTED LUNAR LANDING MI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DID THE FIRST CONTINENTAL CONGRESS M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TIRICAL NOVEL BY TOM WOLFE HAS BEEN CALLED "THE QUINTESSENTIAL NOVEL OF THE 1980'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04:47:34Z</dcterms:created>
  <dc:creator>Jennifer Budzinski</dc:creator>
  <dc:description/>
  <dc:language>en-US</dc:language>
  <cp:lastModifiedBy>Erich Friedman</cp:lastModifiedBy>
  <dcterms:modified xsi:type="dcterms:W3CDTF">2020-08-26T14:56:19Z</dcterms:modified>
  <cp:revision>410</cp:revision>
  <dc:subject/>
  <dc:title>Slide 1</dc:title>
</cp:coreProperties>
</file>