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7A54-B1A4-42F4-989F-AE20CC769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721-5659-4F97-B683-F3D724D5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DC4D-FC85-4BA6-AE2A-652C5EA3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25C-CF50-41D3-A5EE-82EA5F4A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2B7-9BC5-4496-8935-7051954F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A32-AB9E-44AA-8C89-31481CB6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C387-211B-4A15-B0AD-6E3FD9B9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FD4-F3C1-49D2-A8DC-2EAF056F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1D18-9F0E-47BC-971E-42613A1E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4C1-5522-4A3E-A993-38E385A3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71F-B68E-49F5-8873-811B179D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82E-5460-4438-B3DD-BF7A1320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CA1-5DB6-47A1-8A61-1C433E7F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C48-C012-4D62-8C98-426B8889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042-509F-49D4-96A8-D1066AC68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B42-71B1-4B8E-95A5-0FF42CB4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2F0F-F2D9-41D6-A8C5-D6728FCFA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483D-FC5E-4E68-B2D2-05DA1C76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D6F-11F4-467C-8C90-EA7427809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8FF3-5AC9-4853-851A-B6E72965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94A8-D53D-47FC-960E-82A11880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D84-83A0-46B6-99B2-BAB77697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B243-2AD4-4C11-BD18-60736615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SENTENCE OF A JOK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RADIO PROGRAM AND TV SHOW DID THE CHARACTER SERGEANT JOE FRIDAY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H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IS CORNELL UNIVERSIT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EWSPAPER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ART OF DANTE ALIGHIERI'S MASTER WOR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  VINCI 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DAN BROWN'S BEST-SELLING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0 ABORTED LUNAR LANDING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THE FIRST CONTINENTAL CONGRESS M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RADIO PROGRAM AND TV SHOW DID THE CHARACTER SERGEANT JOE FRIDAY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NFIRE  OF  THE  VA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IRICAL NOVEL BY TOM WOLFE HAS BEEN CALLED "THE QUINTESSENTIAL    NOVEL OF THE 1980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CH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SENTENCE OF A JOK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TOM  HANK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IS CORNELL UNIVERSIT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EWSPAPER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ART OF DANTE ALIGHIERI'S MASTER WOR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DAN BROWN'S BEST-SELLING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0 ABORTED LUNAR LANDING M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THE FIRST CONTINENTAL CONGRESS M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IRICAL NOVEL BY TOM WOLFE HAS BEEN CALLED "THE QUINTESSENTIAL NOVEL OF THE 1980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4:47:34Z</dcterms:created>
  <dc:creator>Jennifer Budzinski</dc:creator>
  <dc:description/>
  <dc:language>en-US</dc:language>
  <cp:lastModifiedBy>Erich Friedman</cp:lastModifiedBy>
  <dcterms:modified xsi:type="dcterms:W3CDTF">2020-08-26T14:56:19Z</dcterms:modified>
  <cp:revision>410</cp:revision>
  <dc:subject/>
  <dc:title>Slide 1</dc:title>
</cp:coreProperties>
</file>