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F57A-4312-4EEA-A17D-B4DE8071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5AC2-C232-4092-B3A4-5625EEDA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AB18-DB65-4E17-BAEB-333A79008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5440-769D-4334-A0A7-50C385E3F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75AC-FDDE-4BCB-825E-56836EDE9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D020-3919-4505-8E75-39EE48C9E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F20B-02D8-4A15-A1F7-23DC3573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0547-2709-4169-80CB-3F47BB148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38C1-1E1A-4F76-BCF9-6F167439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EAB4-C1A1-4618-809D-60ACD9D05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4748-CCB8-4666-A96D-3C53126D3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61FC-C4C5-4CC5-BEBB-788D31DD4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116E-5CD7-4B80-AD71-EDD4DDB73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1AE7-905E-4BF0-B582-96F8E889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30BB-758D-415A-BAD6-EA95B3379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1095-8AA6-4CB9-B613-6612041A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E5AA-BFB2-4ADF-A671-4F0F1D751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0BF6-177F-4D98-8694-0D02A29FF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FB74-0952-415E-8536-45E8F7586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BA50-7ED4-4EB9-96DE-91383BF7C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A34D-044B-4EF2-832F-129B8C77B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4D8A-76EC-4740-A737-619B16E1D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9FF0-B9BA-4232-875C-A82BEC89C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OF IRAQ TOPPLED BY OPERATION IRAQI FREE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EGEND, WHO SLEW GOLI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.  SCOTT)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"THE GREAT GATS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0" y="1143000"/>
            <a:ext cx="4267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TITLE OF THIS REMBRAND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450px-DeMolenRembrandt.jpg"/>
          <p:cNvPicPr/>
          <p:nvPr/>
        </p:nvPicPr>
        <p:blipFill>
          <a:blip r:embed="rId1"/>
          <a:stretch/>
        </p:blipFill>
        <p:spPr>
          <a:xfrm>
            <a:off x="4191120" y="990720"/>
            <a:ext cx="46670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HUGH LAURIE PORTRAY A MISANTHROPIC MEDICAL GENI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DOL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28880" y="747720"/>
            <a:ext cx="7086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MOST FAMOUS REINDEER OF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PENING CREDITS OF A 2005-2009 TV SHOW ABOUT KARMA, ACTOR JASON LEE INTRODUCES HIMSELF BY SAYING "MY NAME I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VOLLEYBALL IN THE FILM "CAS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EGEND, WHO SLEW GOLIA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82692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ORIA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61BBBBCC-1DD8-B71B-0BE6AE5F4AAFE651.jpg"/>
          <p:cNvPicPr/>
          <p:nvPr/>
        </p:nvPicPr>
        <p:blipFill>
          <a:blip r:embed="rId1"/>
          <a:stretch/>
        </p:blipFill>
        <p:spPr>
          <a:xfrm>
            <a:off x="380880" y="1954080"/>
            <a:ext cx="835992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ADDAM)  HUSS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OF IRAQ TOPPLED BY OPERATION IRAQI FREE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04840" y="4343400"/>
            <a:ext cx="6934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DLE  NAMES  OF  RECENT  U.S.  PRES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"THE GREAT GATS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1219320"/>
            <a:ext cx="403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TITLE OF THIS REMBRAND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450px-DeMolenRembrandt.jpg"/>
          <p:cNvPicPr/>
          <p:nvPr/>
        </p:nvPicPr>
        <p:blipFill>
          <a:blip r:embed="rId1"/>
          <a:stretch/>
        </p:blipFill>
        <p:spPr>
          <a:xfrm>
            <a:off x="4191120" y="990720"/>
            <a:ext cx="4667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HUGH LAURIE PORTRAY A MISANTHROPIC MEDICAL GENI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MOST FAMOUS REINDEER OF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PENING CREDITS OF A 2005-2009 TV SHOW ABOUT KARMA, ACTOR JASON LEE INTRODUCES HIMSELF BY SAYING "MY NAME I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VOLLEYBALL IN THE FILM "CAST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692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ORIAL IS THIS? PRESIDENT PICTURED ON THE NICK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61BBBBCC-1DD8-B71B-0BE6AE5F4AAFE651.jpg"/>
          <p:cNvPicPr/>
          <p:nvPr/>
        </p:nvPicPr>
        <p:blipFill>
          <a:blip r:embed="rId1"/>
          <a:stretch/>
        </p:blipFill>
        <p:spPr>
          <a:xfrm>
            <a:off x="380880" y="2057400"/>
            <a:ext cx="83599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19:48:52Z</dcterms:created>
  <dc:creator>Jennifer Budzinski</dc:creator>
  <dc:description/>
  <dc:language>en-US</dc:language>
  <cp:lastModifiedBy>Erich Friedman</cp:lastModifiedBy>
  <dcterms:modified xsi:type="dcterms:W3CDTF">2020-08-26T14:58:46Z</dcterms:modified>
  <cp:revision>381</cp:revision>
  <dc:subject/>
  <dc:title>Slide 1</dc:title>
</cp:coreProperties>
</file>