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0F07-0392-496C-8336-D013FFDE2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FFE0-C9FF-4864-B6A0-4CA938C10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0314-0E05-4E30-B47E-2A81B7E6C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1089-C790-4325-BABB-E313C7164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7D24-E7DE-4D0A-BEC7-1C8E122F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A3D2-EF12-4144-8C43-FB90FE79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800D-8F1C-48EB-B594-DB6C431D4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E288-49A3-44BF-BA26-9D264B24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E91F-2073-4EC1-A716-4807F7741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0E0E-8A07-49A3-9E1B-9CFB1FF8A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0A1E-FFA0-4EDC-A605-3955A177E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4D25-4E3C-4735-8D2C-02A8E46C7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350D-6FCE-4D37-B867-2169E6057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8D0A-BCBB-4C56-81DC-3B184FA34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9252-62A6-45B4-A531-6FF0F732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4431-B26A-4B0D-AEB5-32FA32827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F26B-0388-4E03-B614-515FEAA98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2FA0-F98D-46D2-B483-4389D520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0FE9-2ED4-4C4C-AE7B-84E1A0C3E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D52C-6F15-4202-A070-C41DAE70F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65AA-34F3-41C1-B45A-346A34FE8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2A48-811C-4A33-8A9C-5A9DC3AD7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6A4-049A-4CD5-BDFA-72A74DB70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OF IRAQ TOPPLED BY OPERATION IRAQI FREE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EGEND, WHO SLEW GOLI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.  SCOTT)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"THE GREAT GATS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0" y="1143000"/>
            <a:ext cx="4267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TITLE OF THIS REMBRAND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450px-DeMolenRembrandt.jpg"/>
          <p:cNvPicPr/>
          <p:nvPr/>
        </p:nvPicPr>
        <p:blipFill>
          <a:blip r:embed="rId1"/>
          <a:stretch/>
        </p:blipFill>
        <p:spPr>
          <a:xfrm>
            <a:off x="4191120" y="990720"/>
            <a:ext cx="46670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HUGH LAURIE PORTRAY A MISANTHROPIC MEDICAL GENI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OL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28880" y="747720"/>
            <a:ext cx="7086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MOST FAMOUS REINDEER OF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PENING CREDITS OF A 2005-2009 TV SHOW ABOUT KARMA, ACTOR JASON LEE INTRODUCES HIMSELF BY SAYING "MY NAME I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VOLLEYBALL IN THE FILM "CAS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EGEND, WHO SLEW GOLIA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82692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ORIA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61BBBBCC-1DD8-B71B-0BE6AE5F4AAFE651.jpg"/>
          <p:cNvPicPr/>
          <p:nvPr/>
        </p:nvPicPr>
        <p:blipFill>
          <a:blip r:embed="rId1"/>
          <a:stretch/>
        </p:blipFill>
        <p:spPr>
          <a:xfrm>
            <a:off x="380880" y="1954080"/>
            <a:ext cx="835992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DDAM)  HUSS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OF IRAQ TOPPLED BY OPERATION IRAQI FREE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04840" y="4343400"/>
            <a:ext cx="6934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DLE  NAMES  OF  RECENT  U.S.  PRES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"THE GREAT GATS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1219320"/>
            <a:ext cx="403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TITLE OF THIS REMBRAND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450px-DeMolenRembrandt.jpg"/>
          <p:cNvPicPr/>
          <p:nvPr/>
        </p:nvPicPr>
        <p:blipFill>
          <a:blip r:embed="rId1"/>
          <a:stretch/>
        </p:blipFill>
        <p:spPr>
          <a:xfrm>
            <a:off x="4191120" y="990720"/>
            <a:ext cx="4667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HUGH LAURIE PORTRAY A MISANTHROPIC MEDICAL GENI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MOST FAMOUS REINDEER OF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PENING CREDITS OF A 2005-2009 TV SHOW ABOUT KARMA, ACTOR JASON LEE INTRODUCES HIMSELF BY SAYING "MY NAME I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VOLLEYBALL IN THE FILM "CAST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692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ORIAL IS THIS? PRESIDENT PICTURED ON THE NICK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61BBBBCC-1DD8-B71B-0BE6AE5F4AAFE651.jpg"/>
          <p:cNvPicPr/>
          <p:nvPr/>
        </p:nvPicPr>
        <p:blipFill>
          <a:blip r:embed="rId1"/>
          <a:stretch/>
        </p:blipFill>
        <p:spPr>
          <a:xfrm>
            <a:off x="380880" y="2057400"/>
            <a:ext cx="83599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19:48:52Z</dcterms:created>
  <dc:creator>Jennifer Budzinski</dc:creator>
  <dc:description/>
  <dc:language>en-US</dc:language>
  <cp:lastModifiedBy>Erich Friedman</cp:lastModifiedBy>
  <dcterms:modified xsi:type="dcterms:W3CDTF">2020-08-26T14:58:46Z</dcterms:modified>
  <cp:revision>381</cp:revision>
  <dc:subject/>
  <dc:title>Slide 1</dc:title>
</cp:coreProperties>
</file>