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8B49-DFB6-4E8E-BA49-5900DB261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B751-94CB-4F77-835B-0F76E6CD3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763C-367D-4644-B5A2-FC8A63BE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EFA2-E34B-4ADB-8E5B-760DB77E3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76AB-A877-4554-9923-A12747927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44D7-D25E-49E4-B107-9AB7E8432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41D8-D6F0-4D4C-8B2D-0E6AD087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E44D-8837-4DF2-A360-7A90A788D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9B5E-3F57-4702-BB84-00F09CC99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630A-8A3D-485B-9A68-7349D4FD0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449-E3E4-4FA0-8EA3-05E09E96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25B9-69B9-48D7-AFB5-A56085C9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65D-5BC1-443C-ACB0-36E25086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AE21-BE3F-4E5F-BA48-05EE62772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A2F4A-CDD5-462D-ADC9-1AB2ACAE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FB63-01C3-4E16-B288-CD726436C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E471-FEE4-4A2D-A614-2D1AB1AAF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4C117-A5B3-49BD-9593-5CB02040B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9344-245E-4155-B4BF-21FCE191C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FAD0-E129-4E8E-8860-702789DC0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9C9A-4482-4EEC-A30D-FE469BF68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4C259-D199-42A4-8B4B-37A46EF0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366-2C14-46AD-83B0-6FA285472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OF IRAQ TOPPLED BY OPERATION IRAQI FREED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WHO SLEW GOLI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.  SCOTT)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"THE GREAT GATS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0" y="1143000"/>
            <a:ext cx="42670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ITLE OF THIS REMBRAN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3" descr="450px-DeMolenRembrandt.jpg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HUGH LAURIE PORTRAY A MISANTHROPIC MEDICAL GENI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OL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1028880" y="74772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MOST FAMOUS REINDEER OF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PENING CREDITS OF A 2005-2009 TV SHOW ABOUT KARMA, ACTOR JASON LEE INTRODUCES HIMSELF BY SAYING "MY NAME IS ____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VOLLEYBALL IN THE FILM "CAST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LEGEND, WHO SLEW GOLIA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82692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ORIA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61BBBBCC-1DD8-B71B-0BE6AE5F4AAFE651.jpg"/>
          <p:cNvPicPr/>
          <p:nvPr/>
        </p:nvPicPr>
        <p:blipFill>
          <a:blip r:embed="rId1"/>
          <a:stretch/>
        </p:blipFill>
        <p:spPr>
          <a:xfrm>
            <a:off x="380880" y="1954080"/>
            <a:ext cx="835992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DDAM)  HUSS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PRESIDENT OF IRAQ TOPPLED BY OPERATION IRAQI FREE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104840" y="43434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DLE  NAMES  OF  RECENT  U.S.  PRES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 WROTE "THE GREAT GATS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0" y="1219320"/>
            <a:ext cx="403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-LETTER TITLE OF THIS REMBRAND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450px-DeMolenRembrandt.jpg"/>
          <p:cNvPicPr/>
          <p:nvPr/>
        </p:nvPicPr>
        <p:blipFill>
          <a:blip r:embed="rId1"/>
          <a:stretch/>
        </p:blipFill>
        <p:spPr>
          <a:xfrm>
            <a:off x="4191120" y="990720"/>
            <a:ext cx="4667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HUGH LAURIE PORTRAY A MISANTHROPIC MEDICAL GENI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MOST FAMOUS REINDEER OF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OPENING CREDITS OF A 2005-2009 TV SHOW ABOUT KARMA, ACTOR JASON LEE INTRODUCES HIMSELF BY SAYING "MY NAME IS __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VOLLEYBALL IN THE FILM "CAST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692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EMORIAL IS THIS? PRESIDENT PICTURED ON THE NICK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61BBBBCC-1DD8-B71B-0BE6AE5F4AAFE651.jpg"/>
          <p:cNvPicPr/>
          <p:nvPr/>
        </p:nvPicPr>
        <p:blipFill>
          <a:blip r:embed="rId1"/>
          <a:stretch/>
        </p:blipFill>
        <p:spPr>
          <a:xfrm>
            <a:off x="380880" y="2057400"/>
            <a:ext cx="8359920" cy="24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4T19:48:52Z</dcterms:created>
  <dc:creator>Jennifer Budzinski</dc:creator>
  <dc:description/>
  <dc:language>en-US</dc:language>
  <cp:lastModifiedBy>Erich Friedman</cp:lastModifiedBy>
  <dcterms:modified xsi:type="dcterms:W3CDTF">2020-08-26T14:58:46Z</dcterms:modified>
  <cp:revision>381</cp:revision>
  <dc:subject/>
  <dc:title>Slide 1</dc:title>
</cp:coreProperties>
</file>