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5798-EDC8-48A4-AB29-EAC73D01E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D9F8-5F9E-4D95-9F10-2212A6852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3D33-57E2-423A-AF84-E51AF5827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9417-3899-47E3-A79A-381EE7202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B929-5661-4ACA-ABA7-53D24AD6F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DFE2-1ACE-425B-9F63-DDCD06665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D5D2-AD46-4368-9A41-37007561B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2E87-8D0C-4B05-A347-2BD1704BB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D619-412C-44B2-A9E7-E4244E2C8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E3D8-1A6C-42E1-82F0-7E9F425FA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E2DA-F19E-4D92-93EC-47F860ED3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30C2-4126-4E1A-A9C7-E2527D014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9E2B-B9F8-4E2B-81AC-160ADA001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FD60-F522-427E-8A4E-9E9E84A2E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B12E-480C-406E-A8F8-3B045DA32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1F1A-6E3C-4AE9-81EF-51253E6C9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52BA-C408-4B6A-9A26-D4731968B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DB15-DB82-44CB-BA27-8B8C6C683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A670-A45C-4628-98E8-A1743A382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B514-ED5E-4346-8839-92AEA71B0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842A-4E66-40AD-AD2C-840B7D9CD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EF5F-6A50-4107-9563-535787428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64B8-BD08-4992-BDE4-53DB282E7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 WRITTEN BY BILL AMEND WAS DAILY FROM 1988 TO 2006, BUT IS NOW ONLY ON SUNDA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CONTAINS THE CITIES OF CHENNAI, BENGALURU, AND SUR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E  (P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VICE PRESIDENT 2017-202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62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U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714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ETHNIC GROUP IN SOUTH AFRICA, AND THE NAME OF A 1964 BRITISH WAR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PA  (DO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WORD IN THE NICKNAME OF HAITIAN RULER FRANÇOIS DUVA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B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ROVINCE IN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86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S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43000" y="762120"/>
            <a:ext cx="6858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UETTES GIVEN AT THE ACADEMY AWARDS ARE USUALLY CALLED BY WHA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X–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IAM RÖNTGEN WON THE 1901 NOBEL PRIZE FOR PHYSICS FOR DISCOVERING WHAT    TYPE OF RADI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CONTAINS THE CITIES OF CHENNAI, BENGALURU, AND SURA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NETWORK IS FAMOUS FOR "QUEER EYE FOR THE STRAIGHT GUY" AND "PROJECT RUN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XT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 WRITTEN BY BILL AMEND WAS DAILY FROM 1988 TO 2006, BUT IS NOW ONLY ON SUNDA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267080"/>
            <a:ext cx="7238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REPRESENT  LETTERS  IN  THE  MILITARY  ALPHAB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VICE PRESIDENT 2017-202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ETHNIC GROUP IN SOUTH AFRICA, AND THE NAME OF A 1964 BRITISH WAR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WORD IN THE NICKNAME OF HAITIAN RULER FRANÇOIS DUVALI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ROVINCE IN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UETTES GIVEN AT THE ACADEMY AWARDS ARE USUALLY CALLED BY WHA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IAM RÖNTGEN WON THE 1901 NOBEL PRIZE FOR PHYSICS FOR DISCOVERING WHAT   TYPE OF RADI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NETWORK IS FAMOUS FOR "QUEER EYE FOR THE STRAIGHT GUY" AND "PROJECT RUN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3:56:20Z</dcterms:created>
  <dc:creator>Jennifer Budzinski</dc:creator>
  <dc:description/>
  <dc:language>en-US</dc:language>
  <cp:lastModifiedBy>Erich Friedman</cp:lastModifiedBy>
  <dcterms:modified xsi:type="dcterms:W3CDTF">2020-08-23T18:33:58Z</dcterms:modified>
  <cp:revision>363</cp:revision>
  <dc:subject/>
  <dc:title>Slide 1</dc:title>
</cp:coreProperties>
</file>