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47AB-4FA5-477C-A004-CC7C5A0F5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6439-0584-4CDE-AF72-40D387653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07C5-95BE-4CF9-AA3D-B6AFA57CD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F295-BECD-423F-8BF7-5798B7975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A2C3-4B44-4450-AB57-A1E5701A6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3E3F-F399-4048-B201-383F4EF98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98A6-49E9-4E25-B252-0DCB8DEFC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5585-34D5-48D1-80AA-6AF42FCFC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F339-778C-49CD-8589-0613D006A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0B90-D30D-4683-9CDA-65DCF6CB1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EB5E-453E-49B2-AF82-604BE8B23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070A-D9C2-4FB7-A87E-75365401E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7250-8CED-4848-AB43-0214A4DB0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19AB-500F-49DF-AD82-51679B7B9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BF2B-5329-43BF-9E9E-4FAD7A2B2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2F58-6397-41E2-A95D-E774C2E56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453C-6CB1-4B43-9DE8-640D78C61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FC21-91A0-4312-A4EC-C3D33DC46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6F2F-6B4A-4563-8385-286F405BC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192A-4B68-402D-A8CB-E41C8CF6F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3D3A-9B58-4EF9-9FE7-EB6FCB684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C6E0-DE17-4138-91C3-AB9FA2477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FB25-C925-4B93-99AE-F75C03E08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 WRITTEN BY BILL AMEND WAS DAILY FROM 1988 TO 2006, BUT IS NOW ONLY ON SUNDA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CONTAINS THE CITIES OF CHENNAI, BENGALURU, AND SUR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KE  (PE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VICE PRESIDENT 2017-202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62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U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7148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ETHNIC GROUP IN SOUTH AFRICA, AND THE NAME OF A 1964 BRITISH WAR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PA  (DO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WORD IN THE NICKNAME OF HAITIAN RULER FRANÇOIS DUVAL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B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ROVINCE IN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862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S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43000" y="762120"/>
            <a:ext cx="6858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TUETTES GIVEN AT THE ACADEMY AWARDS ARE USUALLY CALLED BY WHA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X–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LIAM RÖNTGEN WON THE 1901 NOBEL PRIZE FOR PHYSICS FOR DISCOVERING WHAT    TYPE OF RADI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CONTAINS THE CITIES OF CHENNAI, BENGALURU, AND SURA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NETWORK IS FAMOUS FOR "QUEER EYE FOR THE STRAIGHT GUY" AND "PROJECT RUN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XTR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 WRITTEN BY BILL AMEND WAS DAILY FROM 1988 TO 2006, BUT IS NOW ONLY ON SUNDA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267080"/>
            <a:ext cx="7238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REPRESENT  LETTERS  IN  THE  MILITARY  ALPHAB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VICE PRESIDENT 2017-202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ETHNIC GROUP IN SOUTH AFRICA, AND THE NAME OF A 1964 BRITISH WAR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WORD IN THE NICKNAME OF HAITIAN RULER FRANÇOIS DUVALI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ROVINCE IN CANA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TUETTES GIVEN AT THE ACADEMY AWARDS ARE USUALLY CALLED BY WHA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LIAM RÖNTGEN WON THE 1901 NOBEL PRIZE FOR PHYSICS FOR DISCOVERING WHAT   TYPE OF RADI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NETWORK IS FAMOUS FOR "QUEER EYE FOR THE STRAIGHT GUY" AND "PROJECT RUN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13:56:20Z</dcterms:created>
  <dc:creator>Jennifer Budzinski</dc:creator>
  <dc:description/>
  <dc:language>en-US</dc:language>
  <cp:lastModifiedBy>Erich Friedman</cp:lastModifiedBy>
  <dcterms:modified xsi:type="dcterms:W3CDTF">2020-08-23T18:33:58Z</dcterms:modified>
  <cp:revision>363</cp:revision>
  <dc:subject/>
  <dc:title>Slide 1</dc:title>
</cp:coreProperties>
</file>