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A103-ECDA-4490-82C4-57F30EB4D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9E78-01CF-4DF9-9F1B-6037EC78D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89AD-6FEE-4449-8974-C0EA7BF4E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8555-FF87-4590-AE34-2C4F75B3C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A5D0-060D-42DB-95BC-DFF55B3C9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C7AE-E78A-4C9C-9AC4-A6A6B1F6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E4CE-6779-4446-A267-24F4CEAC0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5E92-1CA1-4D71-9026-5003B7DCF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2272-92D0-4B53-8E3C-867A7F32A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9353-9FA2-4AA8-AD3F-20BF25D38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4EC0-EE46-44AC-B439-0B9B53532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CCCF-DDEA-4DBB-939F-D35B096ED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C8C2-29A9-436B-8914-590B10C8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FAB7-0D64-4172-A0E5-C6419BE5D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DBB7-2C03-4E5B-8B30-01F909B01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0EA7-EA62-4C84-AD09-78EF81A4A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071A-C41C-436A-A016-94EAF6EC5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4404-1614-4FB3-B8B8-C639B2574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4243-9BD4-41E0-9B2D-A2EA9A093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8DD1-C5B9-4DBD-A420-58252DCB6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A4F3-A0B5-4F07-9FC5-3D5131070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C3AA-7EBC-433B-812C-4BC2E2DDD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D8C3-6F1A-4822-896C-315FB8191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WRITTEN BY BILL AMEND WAS DAILY FROM 1988 TO 2006, BUT IS NOW ONLY ON SUND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CITIES OF CHENNAI, BENGALURU, AND SUR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(P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VICE PRESIDENT 2017-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6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714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ETHNIC GROUP IN SOUTH AFRICA, AND THE NAME OF A 1964 BRITISH WA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A  (DO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ORD IN THE NICKNAME OF HAITIAN RULER FRANÇOIS DUVA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VINCE IN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86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S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TTES GIVEN AT THE ACADEMY AWARDS ARE USUALLY CALLED BY WHA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–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IAM RÖNTGEN WON THE 1901 NOBEL PRIZE FOR PHYSICS FOR DISCOVERING WHAT    TYPE OF RAD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CITIES OF CHENNAI, BENGALURU, AND SUR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NETWORK IS FAMOUS FOR "QUEER EYE FOR THE STRAIGHT GUY" AND "PROJECT RUN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T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WRITTEN BY BILL AMEND WAS DAILY FROM 1988 TO 2006, BUT IS NOW ONLY ON SUN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267080"/>
            <a:ext cx="7238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REPRESENT  LETTERS  IN  THE  MILITARY  ALPHA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VICE PRESIDENT 2017-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ETHNIC GROUP IN SOUTH AFRICA, AND THE NAME OF A 1964 BRITISH WA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ORD IN THE NICKNAME OF HAITIAN RULER FRANÇOIS DUVAL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VINCE IN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TTES GIVEN AT THE ACADEMY AWARDS ARE USUALLY CALLED BY WHA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IAM RÖNTGEN WON THE 1901 NOBEL PRIZE FOR PHYSICS FOR DISCOVERING WHAT   TYPE OF RADI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NETWORK IS FAMOUS FOR "QUEER EYE FOR THE STRAIGHT GUY" AND "PROJECT RUN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3:56:20Z</dcterms:created>
  <dc:creator>Jennifer Budzinski</dc:creator>
  <dc:description/>
  <dc:language>en-US</dc:language>
  <cp:lastModifiedBy>Erich Friedman</cp:lastModifiedBy>
  <dcterms:modified xsi:type="dcterms:W3CDTF">2020-08-23T18:33:58Z</dcterms:modified>
  <cp:revision>363</cp:revision>
  <dc:subject/>
  <dc:title>Slide 1</dc:title>
</cp:coreProperties>
</file>