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0DE0-B54C-4FDD-9153-BACB2A7696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C0F5-461B-44A9-B2E8-BAD6A4232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68A-3CBA-4982-B036-2F5BA3D3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B654-5D8C-4820-A31D-803A82303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8FEC-E881-488D-930D-8C181D81E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B9A7-F7F2-43ED-9C01-C58BD2FA3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0757-CB96-49E9-8615-A4131B9E7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85C3-AF5B-49E3-8C63-E5EE74ABC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91F9-C3A0-4C27-B11B-C6B6DE5F6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27FB-6933-4019-A0C5-362731842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462E-174B-4CE7-819D-BD2563A67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4B32-4F7F-4512-AA86-2F0DADF74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A083-B003-4E5B-AA81-2A9E83314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A6CD-89EF-4EF2-A4AD-71398AB3D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2C62-B396-44A0-8DD4-EBFE4A800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8BC2-1AE1-4521-B53F-490091234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ACCB-96F4-451E-B6F5-3693C801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7D96-A267-4ADF-9476-B1DCF145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6A25-F810-4E17-B621-BE45EB825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9301-77EB-4F4E-98A0-15DD35B1C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F134-7B0A-4FDE-B12E-CC96F6B9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BB8C-4539-4E3D-88F0-ADD829908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0CC7-17BF-4D7E-9651-257E4A1E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LANG FOR NUPTIALS THAT ARE RUSHED, POSSIBLY DUE TO UNINTENDED PREGNA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ING SUIT IN 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CE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TOUR DE FRANCE 7 YEARS IN A ROW, BUT WAS LATER STRIPPED OF THOSE TI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SELLS MORE CAMERAS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NTAINED "TAXMAN" AND "YELLOW SUBMAR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032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DSMOBILE MODEL WAS INTRODUCED IN THE 60'S AND BECAME ONE OF THE BEST-SELLING CARS IN THE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ZOO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GUM INCLUDED COMIC STRIPS FROM 1953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BY PAUL AND LINDA MCCARTNEY PICTURED A SHEEP ON THE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RANKING SUIT IN 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  AND  MOR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INDICATES THAT A BUSINESS IS NOT INTERNET-ON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TGUN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LANG FOR NUPTIALS THAT ARE RUSHED, POSSIBLY DUE TO UNINTENDED PREGNA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WEA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TOUR DE FRANCE 7 YEARS IN A ROW, BUT WAS LATER STRIPPED OF THOSE TI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SELLS MORE CAMERAS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NTAINED "TAXMAN" AND "YELLOW SUBMAR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DSMOBILE MODEL WAS INTRODUCED IN THE 60'S AND BECAME ONE OF THE BEST-SELLING CARS IN THE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GUM INCLUDED COMIC STRIPS FROM 1953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BY PAUL AND LINDA MCCARTNEY PICTURED A SHEEP ON THE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INDICATES THAT A BUSINESS IS NOT INTERNET-ON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39:09Z</dcterms:created>
  <dc:creator>Jennifer Budzinski</dc:creator>
  <dc:description/>
  <dc:language>en-US</dc:language>
  <cp:lastModifiedBy>Erich Friedman</cp:lastModifiedBy>
  <dcterms:modified xsi:type="dcterms:W3CDTF">2020-08-26T18:10:44Z</dcterms:modified>
  <cp:revision>379</cp:revision>
  <dc:subject/>
  <dc:title>Slide 1</dc:title>
</cp:coreProperties>
</file>