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8314-C44E-43AB-A471-F037F11BC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43D5-1206-4C46-9157-5F2B8A514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96CE-1DE1-49E8-A153-804AAA678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2C5F-2D98-4985-8039-5245E9786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70B5-4F29-46AB-AC8E-4EE38A0C5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542B-7A93-4916-913D-D43289176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743E-9577-459E-80E2-B072CEA47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49BA-AD55-40A7-939C-1F7CD9433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56AA-DAFC-486C-8BFB-B46DD4196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AEE2-FB3A-4B5D-99AC-0978E71A4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A0AE-124E-4249-963F-29FAD1EF4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406A-F549-4B15-864B-2624DA81E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4B4B-384B-40CE-8DDD-6F1BFFA37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C765-4D11-424F-908D-99CA51AFD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84AC-8699-4B80-834E-80A124D9F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D024-C6FA-4802-8A62-DEF091412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6329-76E1-4B2D-9F36-617E75F95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0CD9-E41A-42A7-9C8E-C01C6944C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97EE-9EC1-49AF-ACA3-F8BBCC83D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2222-5904-41D7-A0E6-3E5B4C910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FAC3-EAEA-4A21-A041-3D7AAEB24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273F-AEC8-4786-9BFC-88E87D2F8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7002-BBBB-4368-9EDD-3ED18B20D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LANG FOR NUPTIALS THAT ARE RUSHED, POSSIBLY DUE TO UNINTENDED PREGNANC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U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RANKING SUIT IN BRI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CE  ARMS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TOUR DE FRANCE 7 YEARS IN A ROW, BUT WAS LATER STRIPPED OF THOSE TI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16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SELLS MORE CAMERAS THAN ANY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O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CONTAINED "TAXMAN" AND "YELLOW SUBMAR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T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0320"/>
            <a:ext cx="7238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LDSMOBILE MODEL WAS INTRODUCED IN THE 60'S AND BECAME ONE OF THE BEST-SELLING CARS IN THE 7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ZO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GUM INCLUDED COMIC STRIPS FROM 1953 TO 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BUM BY PAUL AND LINDA MCCARTNEY PICTURED A SHEEP ON THE C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RANKING SUIT IN BRID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CK  AND  MOR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RASE INDICATES THAT A BUSINESS IS NOT INTERNET-ON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TGUN  WE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LANG FOR NUPTIALS THAT ARE RUSHED, POSSIBLY DUE TO UNINTENDED PREGNAN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WEAP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TOUR DE FRANCE 7 YEARS IN A ROW, BUT WAS LATER STRIPPED OF THOSE TIT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SELLS MORE CAMERAS THAN ANY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CONTAINED "TAXMAN" AND "YELLOW SUBMAR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LDSMOBILE MODEL WAS INTRODUCED IN THE 60'S AND BECAME ONE OF THE BEST-SELLING CARS IN THE 7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GUM INCLUDED COMIC STRIPS FROM 1953 TO 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BUM BY PAUL AND LINDA MCCARTNEY PICTURED A SHEEP ON THE C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RASE INDICATES THAT A BUSINESS IS NOT INTERNET-ON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01:39:09Z</dcterms:created>
  <dc:creator>Jennifer Budzinski</dc:creator>
  <dc:description/>
  <dc:language>en-US</dc:language>
  <cp:lastModifiedBy>Erich Friedman</cp:lastModifiedBy>
  <dcterms:modified xsi:type="dcterms:W3CDTF">2020-08-26T18:10:44Z</dcterms:modified>
  <cp:revision>379</cp:revision>
  <dc:subject/>
  <dc:title>Slide 1</dc:title>
</cp:coreProperties>
</file>