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8CCE-CA98-46EA-BCCF-7260E4356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49FC-5AFE-48A7-83EE-E69EDBFBE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221E-AB09-472D-AB27-542FC389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4961-8A69-45D2-8367-9D90CB0CC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E542-EACD-4E4B-B71C-7CC28DAE5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CE23-AAC5-4FB9-A6FE-5CBB1C14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19E8-CA88-4C6D-B175-D7AFB929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15BC-ADF5-42C4-961C-E4818FAD9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8DF5-E4C8-44B3-AEDE-A77F0E1FE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04EB-A724-4A48-A236-F3AA27B6D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97A5-77A3-4A64-848A-BE1A2851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C0E-8F1D-4162-8C6A-AF303EC2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F1A8-4AF5-4D16-96F2-FD1DBD2E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F572-C848-41B9-967E-9B9C5DB5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734A-AAEA-4C4F-B54B-8748E317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EE93-0A31-447C-BBAF-1D0A1464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7BDB-7AA3-4239-B684-09403D24A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7A5-57C0-4F93-9588-BD48D7983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9523-076F-4E93-BE22-AF5B1C1C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C23D-E2FE-4ADE-8E3F-939408C9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B35B-64F2-49EC-9264-4C962182D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AA3A-6E6B-4D2C-BC38-478F23E9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02AB-74BE-4A45-811F-FF2C26E3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LANG FOR NUPTIALS THAT ARE RUSHED, POSSIBLY DUE TO UNINTENDED PREGNAN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ING SUIT IN B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CE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TOUR DE FRANCE 7 YEARS IN A ROW, BUT WAS LATER STRIPPED OF THOSE TI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SELLS MORE CAMERAS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NTAINED "TAXMAN" AND "YELLOW SUBMAR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032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DSMOBILE MODEL WAS INTRODUCED IN THE 60'S AND BECAME ONE OF THE BEST-SELLING CARS IN THE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ZO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GUM INCLUDED COMIC STRIPS FROM 1953 TO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BY PAUL AND LINDA MCCARTNEY PICTURED A SHEEP ON THE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ING SUIT IN B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  AND  MOR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INDICATES THAT A BUSINESS IS NOT INTERNET-ON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TGUN  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LANG FOR NUPTIALS THAT ARE RUSHED, POSSIBLY DUE TO UNINTENDED PREGNA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WEA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TOUR DE FRANCE 7 YEARS IN A ROW, BUT WAS LATER STRIPPED OF THOSE TI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SELLS MORE CAMERAS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NTAINED "TAXMAN" AND "YELLOW SUBMAR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DSMOBILE MODEL WAS INTRODUCED IN THE 60'S AND BECAME ONE OF THE BEST-SELLING CARS IN THE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GUM INCLUDED COMIC STRIPS FROM 1953 TO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BY PAUL AND LINDA MCCARTNEY PICTURED A SHEEP ON THE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INDICATES THAT A BUSINESS IS NOT INTERNET-ON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39:09Z</dcterms:created>
  <dc:creator>Jennifer Budzinski</dc:creator>
  <dc:description/>
  <dc:language>en-US</dc:language>
  <cp:lastModifiedBy>Erich Friedman</cp:lastModifiedBy>
  <dcterms:modified xsi:type="dcterms:W3CDTF">2020-08-26T18:10:44Z</dcterms:modified>
  <cp:revision>379</cp:revision>
  <dc:subject/>
  <dc:title>Slide 1</dc:title>
</cp:coreProperties>
</file>