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E7B3-E2F4-4F9F-AA04-4E43E0323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BB63-8DC9-46CE-AD95-E4A9F7BA8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92E5-803F-4FA9-B304-59C32914D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BC84-24DD-4263-BC0E-45EC4C1C9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5E76-A7BB-4A7A-9C3E-2BE5DE95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3DC0-5407-4119-9821-F815352B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FD4-F81D-4D24-AEB0-4F55C866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FD62-86E3-4B8D-B094-09C37367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AAF7-1D40-46F8-9959-3FF443DC0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9334-06AF-4B70-A3F0-F623F580C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E10D-0915-47CD-B40D-48C3B0847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EB6F-8E66-4EC0-80FA-26AD9F5D1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7799-35B8-41E1-AAD9-A1612A8F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FC44-8F2F-4B3E-8D11-709EDC81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9F40-AA51-4DC9-B9AB-C60507FB2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70F6-3BD2-4373-8337-CDCB1829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8754-F50B-4FF7-A969-86E54098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D9CE-C8BD-4C87-A6F1-EBB1573B9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7ABB-8750-4460-933B-22726BDE3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04F-D99F-4D54-BE3C-5188C3F7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BD79-CE3D-402C-A299-0B11D7E19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E141-90F5-445B-9064-C0EF1D26D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33BB-7065-4AD9-B9E5-7E4E4FBF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FRANCE BEGIN BUILDING IN 1881, AND THE U.S. FINISH BUILDING IN 19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63560" y="762120"/>
            <a:ext cx="5867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VENEZUE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DOESN'T HAVE A STATE SALES TAX OR INDIVIDUAL INCOME T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PAIN CONTAINS THE ALHAM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6396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4916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ERT COUNTRY WILL HOST THE 2022 FIFA WORLD CUP OF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ARGEST SHOPPING MALL IN NORTH AME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K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URK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ERNEST HEMMINGWAY WRITE "FOR WHOM THE BELL TO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AND LARGEST CITY OF VENEZUE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H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ABIC WORD FOR "DES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  CA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FRANCE BEGIN BUILDING IN 1881, AND THE U.S. FINISH BUILDING IN 19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38360" y="4343400"/>
            <a:ext cx="586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THEY  CONTAIN  IS  "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DOESN'T HAVE A STATE SALES TAX OR INDIVIDUAL INCOME TA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PAIN CONTAINS THE ALHAM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ERT COUNTRY WILL HOST THE 2022 FIFA WORLD CUP OF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ARGEST SHOPPING MALL IN NORTH AMERIC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TURK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ERNEST HEMMINGWAY WRITE "FOR WHOM THE BELL TO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ABIC WORD FOR "DES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7T13:55:40Z</dcterms:created>
  <dc:creator>Jennifer Budzinski</dc:creator>
  <dc:description/>
  <dc:language>en-US</dc:language>
  <cp:lastModifiedBy>Erich Friedman</cp:lastModifiedBy>
  <dcterms:modified xsi:type="dcterms:W3CDTF">2020-08-26T18:12:47Z</dcterms:modified>
  <cp:revision>344</cp:revision>
  <dc:subject/>
  <dc:title>Slide 1</dc:title>
</cp:coreProperties>
</file>