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F6B0-99B9-472F-8063-EB03B8BCA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F5E0-D55C-42CB-AAC4-5A8D9E010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2D55-0BA6-441B-B752-9F300291B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5F82-4C1D-4ADD-877A-43E15CCC6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9425-FF16-4341-AF5B-956716282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E4B6-7614-49B5-B151-54A3F1E4D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D200-EA61-4435-81BE-F197D99E0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E53F-92B4-4D1F-8BAD-84C1EB5B1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4F47-E8BD-4E60-96B6-CFCF67647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1694-6F53-46A6-940F-6617AA8C3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21AE-3C7E-488C-91DC-A783738F4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BB73-103C-4BC0-B488-76447AFAE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38EC-3C57-4D98-8C39-290B9D041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1D2A-0E5E-4CDB-8D62-61F3F25A9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B443-D863-4910-94BE-A7263B608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8D66-A38C-4088-8C2C-A7A761F1C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B401-E941-4726-8FF7-12D0D14AA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7D42-0BFA-4C04-89ED-80545AD37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00F2-A22E-4A21-AF3B-F68335D8A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C1D4-17F0-4C5D-B06D-D3CDD1B3F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8B1B-DD3C-4F06-9660-1AD81059E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7B52-2FB2-4383-A01F-D8917FF54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FE9C-AEDD-4118-A1D0-535F635CB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0666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Y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FRANCE BEGIN BUILDING IN 1881, AND THE U.S. FINISH BUILDING IN 191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A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663560" y="762120"/>
            <a:ext cx="58676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AND LARGEST CITY OF VENEZUE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S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U.S. STATE THAT DOESN'T HAVE A STATE SALES TAX OR INDIVIDUAL INCOME TA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N SPAIN CONTAINS THE ALHAMB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63960"/>
            <a:ext cx="5639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A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4916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SERT COUNTRY WILL HOST THE 2022 FIFA WORLD CUP OF SOCC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THE LARGEST SHOPPING MALL IN NORTH AMERIC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K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562040" y="762120"/>
            <a:ext cx="6019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TURKE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V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DID ERNEST HEMMINGWAY WRITE "FOR WHOM THE BELL TOLL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638360" y="762120"/>
            <a:ext cx="5867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AND LARGEST CITY OF VENEZUEL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H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43000" y="762120"/>
            <a:ext cx="6858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RABIC WORD FOR "DESER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NAMA  CA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FRANCE BEGIN BUILDING IN 1881, AND THE U.S. FINISH BUILDING IN 191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638360" y="4343400"/>
            <a:ext cx="5867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ONLY  VOWEL  THEY  CONTAIN  IS  "A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U.S. STATE THAT DOESN'T HAVE A STATE SALES TAX OR INDIVIDUAL INCOME TA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N SPAIN CONTAINS THE ALHAMB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SERT COUNTRY WILL HOST THE 2022 FIFA WORLD CUP OF SOCC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THE LARGEST SHOPPING MALL IN NORTH AMERICA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447920" y="761760"/>
            <a:ext cx="6248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TURKE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DID ERNEST HEMMINGWAY WRITE "FOR WHOM THE BELL TOLL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RABIC WORD FOR "DESER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7T13:55:40Z</dcterms:created>
  <dc:creator>Jennifer Budzinski</dc:creator>
  <dc:description/>
  <dc:language>en-US</dc:language>
  <cp:lastModifiedBy>Erich Friedman</cp:lastModifiedBy>
  <dcterms:modified xsi:type="dcterms:W3CDTF">2020-08-26T18:12:47Z</dcterms:modified>
  <cp:revision>344</cp:revision>
  <dc:subject/>
  <dc:title>Slide 1</dc:title>
</cp:coreProperties>
</file>