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7A86-2891-4E8A-B4A8-A4305E99C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37AF-6ADF-45AE-8813-B7263C322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5D10-6DCF-459A-93F6-A7FA779BA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67CF-8A3A-4978-A4C6-F45DF94BC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1090-D4D2-44FC-A45E-DA4337D4D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7E59-E1BC-4710-ABB1-4F3D6AA19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F277-18D5-4C96-8A26-3575458D5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BB7E-D9BC-400E-B117-FAFC3E565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4B02-DB6A-4B03-B099-3B178EBED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F661-2965-4C7B-95AB-B1C2BE080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B2C8-C68E-4245-8547-EA4B0EBD0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62FC-95C1-46C6-B2D6-0F8EC6740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AA5E-D6F6-4909-AC40-9FC4B1E61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E209-E83E-4ECE-AF86-E90DBACD9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37E3-DD38-4B50-AA6B-85A30C185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31EC-B8ED-4366-83DA-F5AAF2411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4058-C8B2-479A-9ACF-A0119D3C8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923C-AB56-4112-A782-5FE161FC9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1C3D-F6C9-445D-81DE-34607A53A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3386-43F6-443A-BBA7-6FA9C51A9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2F8A-E918-4E61-81AE-5DE8D1939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3254-5087-493E-AF73-FEE345FEE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EFBD-3CEC-4832-A2DA-0DFBA8F1A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FRANCE BEGIN BUILDING IN 1881, AND THE U.S. FINISH BUILDING IN 19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A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663560" y="762120"/>
            <a:ext cx="5867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LARGEST CITY OF VENEZUE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THAT DOESN'T HAVE A STATE SALES TAX OR INDIVIDUAL INCOME TA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SPAIN CONTAINS THE ALHAMB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6396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A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4916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SERT COUNTRY WILL HOST THE 2022 FIFA WORLD CUP OF SOC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LARGEST SHOPPING MALL IN NORTH AMERIC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62040" y="76212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TURKE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DID ERNEST HEMMINGWAY WRITE "FOR WHOM THE BELL TOL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638360" y="762120"/>
            <a:ext cx="586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LARGEST CITY OF VENEZUE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H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43000" y="7621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ABIC WORD FOR "DESE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AMA  CA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FRANCE BEGIN BUILDING IN 1881, AND THE U.S. FINISH BUILDING IN 19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38360" y="4343400"/>
            <a:ext cx="5867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LY  VOWEL  THEY  CONTAIN  IS  "A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THAT DOESN'T HAVE A STATE SALES TAX OR INDIVIDUAL INCOME TA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SPAIN CONTAINS THE ALHAMB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SERT COUNTRY WILL HOST THE 2022 FIFA WORLD CUP OF SOC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LARGEST SHOPPING MALL IN NORTH AMERICA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TURKE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DID ERNEST HEMMINGWAY WRITE "FOR WHOM THE BELL TOL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ABIC WORD FOR "DESE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7T13:55:40Z</dcterms:created>
  <dc:creator>Jennifer Budzinski</dc:creator>
  <dc:description/>
  <dc:language>en-US</dc:language>
  <cp:lastModifiedBy>Erich Friedman</cp:lastModifiedBy>
  <dcterms:modified xsi:type="dcterms:W3CDTF">2020-08-26T18:12:47Z</dcterms:modified>
  <cp:revision>344</cp:revision>
  <dc:subject/>
  <dc:title>Slide 1</dc:title>
</cp:coreProperties>
</file>