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7588-0CB9-4826-AFEA-E556B3574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D69D-6D3E-4850-BAC8-5832BDB0B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16FB-14B1-4FAA-813C-B3142E13C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E6CF-9CD2-4633-8990-7ECA12B69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62F5-30C7-48B2-8B54-B7AA7E82F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BD63-17ED-435D-97DA-32FA118F2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FAAD-CDF3-46AA-969A-C6A3C9B0F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350D-78BE-4DE7-ABB6-7840A6889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27B8-D074-492E-A32B-B904DB648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FE87-B53C-4D32-B036-11EBE7B88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108C-D19B-45A2-9142-3DD9ED187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FA67-B0B3-489C-B1F5-0F1FBD694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334A-526A-4744-A94F-285FCA202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093B-8D64-4574-B079-9753BB88F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2ED9-ED77-4FDF-B847-2049C738E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408B-FF08-4EED-8BF4-B444DB1E9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8C19-E048-4B5E-BAD4-FCEAE55B5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B4B1-D7A8-4B9F-B4EE-C42113E35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785D-DCE8-4EED-B420-5F7008FA8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CD6D-E208-4E1A-879A-683A07D54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CCCB-39C8-4E9E-8A18-31A0E3350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207F-BB1C-4C29-AEDC-B646182A2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8D80-88FB-404A-9447-218C7D9BF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ERE THE FIRST ANIMATED CARTOON COUPLE TO SLEEP IN THE SAME B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BRIEF  HISTORY  OF 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STEPHEN HAWKING'S BEST-SELLING BOO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E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ANBERRIES HIT SONG BEGINS WITH THE LYRICS "OH MY LIFE IS CHANGING EVERYDAY, IN EVERY POSSIBLE 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WANNA  HOLD  YOUR  H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71680" y="762120"/>
            <a:ext cx="80010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BEATLES' FIRST AMERICAN HIT SONG, BEGINNING THE "BRITISH INVAS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808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PER 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'S LARGEST BUDGET HOTEL CHAIN, CONTAINING A NUMBER THAT INDICATED THE ORIGINAL ROOM R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WILIGHT  Z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0320"/>
            <a:ext cx="76197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NTASY ANTHOLOGY TV SERIES THAT RAN FROM 1959 TO 1964 WAS CREATED BY ROD SERL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4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93800"/>
            <a:ext cx="7925040" cy="27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DID THE JAPANESE BOMB PEARL HARB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N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HIRD MOST POPULATED CITY IN GERMANY, AFTER BERLIN AND HAMBUR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STEPHEN HAWKING'S BEST-SELLING BOO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NCOL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ONUMENT IN WASHINGTON D.C. IS THE LARGEST BY VOLU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LINTST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ERE THE FIRST ANIMATED CARTOON COUPLE TO SLEEP IN THE SAME B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38080" y="4343400"/>
            <a:ext cx="7391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STEVEN  SPIELBERG  MOV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ANBERRIES HIT SONG BEGINS WITH THE LYRICS "OH MY LIFE IS CHANGING EVERYDAY, IN EVERY POSSIBLE W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BEATLES' FIRST AMERICAN HIT SONG, BEGINNING THE "BRITISH INVAS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'S LARGEST BUDGET HOTEL CHAIN, CONTAINING A NUMBER THAT INDICATED THE ORIGINAL ROOM R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NTASY ANTHOLOGY TV SERIES THAT RAN FROM 1959 TO 1964 WAS CREATED BY ROD SERL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DID THE JAPANESE BOMB PEARL HARB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HIRD MOST POPULATED CITY IN GERMANY, AFTER BERLIN AND HAMBUR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ONUMENT IN WASHINGTON D.C. IS THE LARGEST BY VOLU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0T17:27:25Z</dcterms:created>
  <dc:creator>Jennifer Budzinski</dc:creator>
  <dc:description/>
  <dc:language>en-US</dc:language>
  <cp:lastModifiedBy>Erich Friedman</cp:lastModifiedBy>
  <dcterms:modified xsi:type="dcterms:W3CDTF">2020-08-26T18:15:13Z</dcterms:modified>
  <cp:revision>383</cp:revision>
  <dc:subject/>
  <dc:title>Slide 1</dc:title>
</cp:coreProperties>
</file>