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C6DE-F8C4-4BFB-B28C-988FF84FA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E6BF-13D8-4ABA-8973-C9F5C0123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7B9E-D64A-43F2-8187-679E1C33B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1B09-64E0-4C33-B50F-EBABF7FE6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6B4D-95A1-487A-B8F4-D91A06778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B374-9942-4CB6-8AB6-7DCB41AF0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BBBF-16F4-4B6A-B3A6-BA3491828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B831-162C-48B7-89EB-D0F2EA860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0950-9B5D-4AEB-AFB8-767E3A7E2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A924-8A78-4251-89CF-41CBD41AC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1F5E-3BD6-41F9-9A77-68BDCB3E3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9120-E51C-4F11-A564-83E0CA26D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2298-A5E7-45C2-B459-96C256D09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36AB-6BB2-417C-82CE-FF7D70533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5794-1CA0-4735-B7E4-D1B8C9A3D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9727-2DDF-4C05-AFD3-4E5CDDD48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E1A6-BD8F-4668-A8FD-A9A4D1573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5223-C62D-4249-A86E-9746C5083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C4C4-DDBC-440D-8370-BD2F82FA1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0181-F6E8-4F93-8420-E2D2632CB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EC19-09A3-40B5-B302-5A76E2B57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BD8E-7236-448D-8DFB-E02E8B968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28B8-8760-44E5-823B-BB5F2E610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ERE THE FIRST ANIMATED CARTOON COUPLE TO SLEEP IN THE SAME B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BRIEF  HISTORY  OF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TEPHEN HAWKING'S BEST-SELLING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ANBERRIES HIT SONG BEGINS WITH THE LYRICS "OH MY LIFE IS CHANGING EVERYDAY, IN EVERY POSSIBLE 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NA  HOLD  YOUR 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ATLES' FIRST AMERICAN HIT SONG, BEGINNING THE "BRITISH INVAS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BUDGET HOTEL CHAIN, CONTAINING A NUMBER THAT INDICATED THE ORIGINAL ROOM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WILIGHT  Z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0320"/>
            <a:ext cx="76197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NTASY ANTHOLOGY TV SERIES THAT RAN FROM 1959 TO 1964 WAS CREATED BY ROD SER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93800"/>
            <a:ext cx="792504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THE JAPANESE BOMB PEARL HARB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N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MOST POPULATED CITY IN GERMANY, AFTER BERLIN AND HAMBU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TEPHEN HAWKING'S BEST-SELLING 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ONUMENT IN WASHINGTON D.C. IS THE LARGEST BY VOLU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LINT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ERE THE FIRST ANIMATED CARTOON COUPLE TO SLEEP IN THE SAME B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391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STEVEN  SPIELBERG 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ANBERRIES HIT SONG BEGINS WITH THE LYRICS "OH MY LIFE IS CHANGING EVERYDAY, IN EVERY POSSIBLE 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ATLES' FIRST AMERICAN HIT SONG, BEGINNING THE "BRITISH INVAS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BUDGET HOTEL CHAIN, CONTAINING A NUMBER THAT INDICATED THE ORIGINAL ROOM R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NTASY ANTHOLOGY TV SERIES THAT RAN FROM 1959 TO 1964 WAS CREATED BY ROD SERL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THE JAPANESE BOMB PEARL HARB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MOST POPULATED CITY IN GERMANY, AFTER BERLIN AND HAMBUR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ONUMENT IN WASHINGTON D.C. IS THE LARGEST BY VOLU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17:27:25Z</dcterms:created>
  <dc:creator>Jennifer Budzinski</dc:creator>
  <dc:description/>
  <dc:language>en-US</dc:language>
  <cp:lastModifiedBy>Erich Friedman</cp:lastModifiedBy>
  <dcterms:modified xsi:type="dcterms:W3CDTF">2020-08-26T18:15:13Z</dcterms:modified>
  <cp:revision>383</cp:revision>
  <dc:subject/>
  <dc:title>Slide 1</dc:title>
</cp:coreProperties>
</file>