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E93A-B429-4F77-85ED-441B514D8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4154-0310-479F-8823-9C5FE25F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657-28C4-424A-BBCA-CB0026A3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4304-5664-4C2B-84B4-1108521D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B851-80F1-4103-830E-438D21C52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98EE-3FE6-43DC-AF53-FB55374D1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BCEA-66CC-49B1-B563-33531A485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EDB6-B57B-403E-8AE6-B0C1CC3DD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457-C9E6-4D54-BCAD-C664B9C1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B4D8-99F5-4CF7-A502-5FED3DD15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A4F8-BCC1-49E0-9C92-E3F7BAAED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914-56DD-4D68-A15E-CFCB6B4DC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888-760E-4365-9BCE-70108BD83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1B05-1570-4321-92BC-E7548CDD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EC1-54E1-4FD1-BFF2-C17B9215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9A61-C9D8-460C-BE83-EA3A5D1A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92FC-CDBD-4EF4-BC9E-976D6F414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5FD8-7779-4612-A6DC-48B3758D9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55D-91CD-4004-BFC3-83184EE1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F1C-7F5F-42CB-8177-BA341AF8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DDB2-4FBA-4353-A9B1-E67D9F1C2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1F3D-6AA7-4FEE-968C-4A47ECA0A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6999-ED43-4A09-87EF-4B0556A2C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RIEF  HISTORY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NA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LIGHT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032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93800"/>
            <a:ext cx="7925040" cy="27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N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TEPHEN HAWKING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FIRST ANIMATED CARTOON COUPLE TO SLEEP IN THE SAME B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TEVEN  SPIELBERG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ANBERRIES HIT SONG BEGINS WITH THE LYRICS "OH MY LIFE IS CHANGING EVERYDAY, IN EVERY POSSIBLE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AMERICAN HIT SONG, BEGINNING THE "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BUDGET HOTEL CHAIN, CONTAINING A NUMBER THAT INDICATED THE ORIGINAL ROOM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NTASY ANTHOLOGY TV SERIES THAT RAN FROM 1959 TO 1964 WAS CREATED BY ROD SE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JAPANESE BOMB PEARL HAR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POPULATED CITY IN GERMANY, AFTER BERLIN AND HAMBUR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NUMENT IN WASHINGTON D.C. IS THE LARGEST BY VOLU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27:25Z</dcterms:created>
  <dc:creator>Jennifer Budzinski</dc:creator>
  <dc:description/>
  <dc:language>en-US</dc:language>
  <cp:lastModifiedBy>Erich Friedman</cp:lastModifiedBy>
  <dcterms:modified xsi:type="dcterms:W3CDTF">2020-08-26T18:15:13Z</dcterms:modified>
  <cp:revision>383</cp:revision>
  <dc:subject/>
  <dc:title>Slide 1</dc:title>
</cp:coreProperties>
</file>