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0DFF-2272-411E-9B7E-3DC99B4A3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75BC-2A91-4A3E-840A-A95A93980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DBD4-48A6-422B-9347-3DA0F8B4B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0194-A43E-420C-873B-EF67059C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6223-2FE6-4D21-825D-F6BB3778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DCA-B624-44F7-94DF-D7E8CEC6F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37E1-1D85-4850-A345-D65B78C1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9C97-164D-4398-981B-55A92613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888A-685C-4F6D-AABA-FC0D7A85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EDE9-7D9D-4BDC-A1D4-F1F369C0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C3BF-DF0A-4F70-8192-9B488BE4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AF9C-9136-41EB-B9CB-4B80CE711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2D65-B3EC-46AA-B44D-470B57EC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0884-72E3-44E8-BD2F-3E1BFCAE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AE5-7F15-4442-816D-1E15B8F7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F335-ECEE-4672-9572-9DA00A35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2C4A-36A2-4268-9896-C7B14B9B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F5F-65E5-4BBA-B820-A2829144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26F4-B8F2-4FCA-AC6D-A9D1C8D1D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D495-3E26-41F2-8187-C699A586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0B8-407C-4246-B547-9ED9C7B37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AC51-A87E-4C6C-AB24-0D453DDD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C085-1F78-4AF5-A1BC-D8EFE78A7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-1975 COMIC STRIP DRAWN BY WALT KELLY WAS SET IN THE OKEFENOKEE SWA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SN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CHAMPION AWARDED THE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5096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KEITH MOON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064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BODY PARTS WITH 3 LETTERS: ARM, EAR, EYE, HIP, GUM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006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WAS ONCE DEFINED AS THE LENGTH OF 108 BARLEY GRAI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NICKNAME IS USED FOR BOTH MIAMI'S PROFESSIONAL FOOTBALL AND BASEBALL TEA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IS ONLY 3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CHAMPION AWARDED THE STANLEY C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Y  (BEH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ONGEST-SERVING CO-HOST OF "THE VI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-1975 COMIC STRIP DRAWN BY WALT KELLY WAS SET IN THE OKEFENOKEE SW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TI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KEITH MOON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   ARM, EAR, EYE, HIP, GUM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WAS ONCE DEFINED AS THE LENGTH OF 108 BARLEY GRAI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NICKNAME IS USED FOR BOTH MIAMI'S PROFESSIONAL FOOTBALL AND BASEBALL TEA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IS ONLY 3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ONGEST-SERVING CO-HOST OF "THE VIE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02:14:08Z</dcterms:created>
  <dc:creator>Jennifer Budzinski</dc:creator>
  <dc:description/>
  <dc:language>en-US</dc:language>
  <cp:lastModifiedBy>Erich Friedman</cp:lastModifiedBy>
  <dcterms:modified xsi:type="dcterms:W3CDTF">2020-08-26T18:18:09Z</dcterms:modified>
  <cp:revision>350</cp:revision>
  <dc:subject/>
  <dc:title>Slide 1</dc:title>
</cp:coreProperties>
</file>