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C8F2-2366-4BD1-AF9B-CB16AB1E3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0AAC-62E2-4BCF-96D1-A7B413FB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564-E555-4019-B19D-AA94B935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A9FC-8365-4F7C-A91E-C3EDB1CD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DAB-E35B-4572-9F4F-2DCEDF69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A7F1-5991-441A-9F1A-34CC8BF7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D9F2-4A33-43DB-A2EC-8CCFC2AF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34CD-27EE-458C-A6B9-CFBDD3B9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9A21-3FEE-4AFD-8CC1-FC42EAA0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B8C4-92FE-4326-B1E0-69C79919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8687-EA2F-483A-AC72-8536008C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A5D3-F9FF-4743-8CD9-BD29AF6E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D69C-E8E3-4E80-9F03-3D7082A9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F88-48B9-448A-A5F7-E0D47BC2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690-45F1-4248-A8C6-2B3AA397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0677-C9B0-409E-95C8-C07D0ECD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1D94-E687-468E-AB60-99FA36C4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981-3CDF-4F59-924C-215121F1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F01-D8C8-438E-815F-2B4633B4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7D10-1198-4ACE-A709-55F6D144F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B68D-AA69-4DD3-871E-1AC3F856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35AC-AB5C-4F41-8F8D-2875B86A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E3C-CD0C-4C60-A896-05AB8E21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-1975 COMIC STRIP DRAWN BY WALT KELLY WAS SET IN THE OKEFENOKEE SWA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SN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CHAMPION AWARDED THE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5096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KEITH MOON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064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BODY PARTS WITH 3 LETTERS: ARM, EAR, EYE, HIP, GUM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006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WAS ONCE DEFINED AS THE LENGTH OF 108 BARLEY GRAI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NICKNAME IS USED FOR BOTH MIAMI'S PROFESSIONAL FOOTBALL AND BASEBALL TEA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IS ONLY 3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CHAMPION AWARDED THE STANLEY C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Y  (BEH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ONGEST-SERVING CO-HOST OF "THE VI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-1975 COMIC STRIP DRAWN BY WALT KELLY WAS SET IN THE OKEFENOKEE SW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TI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KEITH MOON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   ARM, EAR, EYE, HIP, GUM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WAS ONCE DEFINED AS THE LENGTH OF 108 BARLEY GRAI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NICKNAME IS USED FOR BOTH MIAMI'S PROFESSIONAL FOOTBALL AND BASEBALL TEA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IS ONLY 3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ONGEST-SERVING CO-HOST OF "THE VIE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02:14:08Z</dcterms:created>
  <dc:creator>Jennifer Budzinski</dc:creator>
  <dc:description/>
  <dc:language>en-US</dc:language>
  <cp:lastModifiedBy>Erich Friedman</cp:lastModifiedBy>
  <dcterms:modified xsi:type="dcterms:W3CDTF">2020-08-26T18:18:09Z</dcterms:modified>
  <cp:revision>350</cp:revision>
  <dc:subject/>
  <dc:title>Slide 1</dc:title>
</cp:coreProperties>
</file>