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085F-0CB7-46DD-8695-4266CA944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6CCB-2040-4D6D-AED1-7F5BB67E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9BE-058D-4852-8ECD-9B0AAE98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B451-C324-482B-845A-4B8ADED3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854A-E020-468F-BE43-E22ADFF6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BF09-86A8-45B2-9770-7BEFA2607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EC9B-1797-46FC-94AE-E6FA2EC2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C409-4C3A-4DBF-8116-926978B3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1D3A-390C-4C79-A62F-6027DB32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D12-2054-47B5-9438-C23610CA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949D-F4B3-416C-A52D-67D18FDD8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0D18-21DC-4F5E-9A60-6F26ED493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3C7-357C-412E-9335-44D7907A3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640C-EA43-43F8-B92B-65B77B4E2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7194-2D6D-45DB-892A-591D60AF5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A1DD-6C92-401C-AD7F-833C7AF6B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32DF-E871-49C4-95ED-9DE1C0C5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EE73-45B0-4C7D-A36F-EA5423531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8C2D-3DA7-467B-B73B-BAC8A063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61BA-6C47-4EE3-AF83-C578BD21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9E4-321D-42D9-92B2-999D11A2E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D010-3857-48D5-AB57-9B3A254F3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033F-6792-4313-B4E0-32266182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SN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064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BODY PARTS WITH 3 LETTERS: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006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CHAMPION AWARDED THE STANLEY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Y  (BEH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8-1975 COMIC STRIP DRAWN BY WALT KELLY WAS SET IN THE OKEFENOKEE SW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I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KEITH MOON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   ARM, EAR, EYE, HIP, GUM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WAS ONCE DEFINED AS THE LENGTH OF 108 BARLEY GRA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NICKNAME IS USED FOR BOTH MIAMI'S PROFESSIONAL FOOTBALL AND BASEBALL TEA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IS ONLY 3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ONGEST-SERVING CO-HOST OF "THE VIE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02:14:08Z</dcterms:created>
  <dc:creator>Jennifer Budzinski</dc:creator>
  <dc:description/>
  <dc:language>en-US</dc:language>
  <cp:lastModifiedBy>Erich Friedman</cp:lastModifiedBy>
  <dcterms:modified xsi:type="dcterms:W3CDTF">2020-08-26T18:18:09Z</dcterms:modified>
  <cp:revision>350</cp:revision>
  <dc:subject/>
  <dc:title>Slide 1</dc:title>
</cp:coreProperties>
</file>