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ADB4-6B05-4250-A8DE-7B26BE8A9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8B36-4D74-49E2-8C8B-4EEB31B61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723-085E-4120-AC65-14F4501C3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921C-6D23-482F-951B-563B8670A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780-CDD2-4BFD-84D2-964134567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5F87-FEEF-439D-8195-7E1B05146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CA90-E5DE-48CC-B0A5-EB273DB59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213B-9B0E-4FE2-8481-955C4755A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6BE1-6486-41F6-966B-21A8278F4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B8EB-AB20-4D29-9D48-3398FA21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345F-8AB2-4EEB-A85B-B321E366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CAE-D40C-46BA-B29D-233D28D03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865-73D6-4DCB-BCC1-DE326AFBA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CEF5-AC96-491B-8E60-8F7EE4C5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BBC7-3ECA-4805-A64C-4058BB4CA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320-5D10-4856-BBF4-7D731E40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648A-549E-4F71-A148-58699E13D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5DBA-F3B0-438C-9060-A574FDE7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7ED-F2A3-4AB5-AA11-206780311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C517-94BF-4610-8E3C-05D05E970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5BB5-3F6A-467F-8D09-FA44032F1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7D1C-0CAB-4011-8047-6E9066C8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B5A-AC9E-4835-8DB0-AC595EFC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SOMEONE WHO SMUGGLES PEOPLE INTO THE U.S. ILLEG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WIMMING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  LE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CANADI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S  AND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ARE THE NAMES OF THE TWO RIVAL GA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00200" y="4876920"/>
            <a:ext cx="6019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D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WARZENEGGER HORROR FILM OF 1987 LED TO 3 SEQUELS IN 1990, 2010,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ALLEST CHESS PIEC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USIC DID BUDDY GUY AND JOHN LEE HOOKER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UXURY HOTEL "THE PEABODY MEMPHIS" KNOWN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WIMMING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ALDEBARAN, BETELGEUSE, AND CANO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SOMEONE WHO SMUGGLES PEOPLE INTO THE U.S. ILLEG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RO  HOCKEY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CANADI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EST SIDE STORY", WHAT ARE THE NAMES OF THE TWO RIVAL GA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WARZENEGGER HORROR FILM OF 1987 LED TO 3 SEQUELS IN 1990, 2010,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ALLEST CHESS PIEC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6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USIC DID BUDDY GUY AND JOHN LEE HOOKER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UXURY HOTEL "THE PEABODY MEMPHIS" KNOWN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ALDEBARAN, BETELGEUSE, AND CANO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6T23:49:04Z</dcterms:created>
  <dc:creator>Jennifer Budzinski</dc:creator>
  <dc:description/>
  <dc:language>en-US</dc:language>
  <cp:lastModifiedBy>Erich Friedman</cp:lastModifiedBy>
  <dcterms:modified xsi:type="dcterms:W3CDTF">2020-08-26T18:20:07Z</dcterms:modified>
  <cp:revision>359</cp:revision>
  <dc:subject/>
  <dc:title>Slide 1</dc:title>
</cp:coreProperties>
</file>