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8486-FD7D-4DB2-9867-F25673584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8B98-6CCC-49FD-9381-57A6F04D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9C96-DC1C-4A5D-836B-D2E68D1B8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24EF-E800-49F8-9A2B-CBDB6E81D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D971-5866-4C4F-921F-5004ABE3A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41C-2EF9-4D33-ADF1-C1F2D252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D34D-5F34-41DF-B95A-D0B412B8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F7A3-E142-4AA6-B5EF-673E0B4F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3A51-98EE-42F8-BC43-246C984D5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77AE-892C-4936-BA12-19C8577F1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D95F-C9E7-47BE-9964-623BD559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BBC0-BF0B-43F5-9DBA-A91067A3D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2230-8422-4335-B3B2-936FF1B0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C083-EF18-4F18-83AB-E6B66747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E71E-92FD-4211-A85E-30DCD9C9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942C-33E3-406C-B817-53278ACD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647-F70C-4177-874B-A2905C313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8897-3ED9-40E7-BACA-D1A11399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E8F7-E133-4A1C-B6EC-F0531D5C1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3133-6C1C-492F-8B61-C043F4954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41C2-25A5-49F1-90E0-CD7ED5689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DE06-18A3-4EB2-847F-9A095D17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C633-14C2-4384-90CD-8A9E2B9E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SOMEONE WHO SMUGGLES PEOPLE INTO THE U.S. ILLEG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WIMMING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  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CANADI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KS  AND  J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ARE THE NAMES OF THE TWO RIVAL GA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600200" y="4876920"/>
            <a:ext cx="601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D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WARZENEGGER HORROR FILM OF 1987 LED TO 3 SEQUELS IN 1990, 2010, AND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ALLEST CHESS PIEC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USIC DID BUDDY GUY AND JOHN LEE HOOKER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UXURY HOTEL "THE PEABODY MEMPHIS" KNOWN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WIMMING 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ALDEBARAN, BETELGEUSE, AND CANOP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SOMEONE WHO SMUGGLES PEOPLE INTO THE U.S. ILLEG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7692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RO  HOCKEY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CANADIAN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ARE THE NAMES OF THE TWO RIVAL GA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WARZENEGGER HORROR FILM OF 1987 LED TO 3 SEQUELS IN 1990, 2010, AND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ALLEST CHESS PIEC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6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USIC DID BUDDY GUY AND JOHN LEE HOOKER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UXURY HOTEL "THE PEABODY MEMPHIS" KNOWN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ALDEBARAN, BETELGEUSE, AND CANOP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6T23:49:04Z</dcterms:created>
  <dc:creator>Jennifer Budzinski</dc:creator>
  <dc:description/>
  <dc:language>en-US</dc:language>
  <cp:lastModifiedBy>Erich Friedman</cp:lastModifiedBy>
  <dcterms:modified xsi:type="dcterms:W3CDTF">2020-08-26T18:20:07Z</dcterms:modified>
  <cp:revision>359</cp:revision>
  <dc:subject/>
  <dc:title>Slide 1</dc:title>
</cp:coreProperties>
</file>