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1401-13F6-4DB5-8651-02330A133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2D2-6F36-4FDB-88F0-A6994A69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7642-64BA-4482-8549-A5B2BC1E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C350-F7D8-4474-9650-A4C0A11AB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D9E4-AAF7-4DAE-8AEF-F954F01A6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50A0-768D-4416-B65F-7C6FFCF4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B10C-388F-4048-85BE-EBBE83B3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F350-74EE-4B01-889D-8C75F877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EE77-C139-4D61-A6DD-6ED363FF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F027-49EA-4DC6-9725-5F385CBB8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EE5F-65DC-4744-8B14-D9360CCB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77D4-77B8-4807-BA6C-2AB270AEA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0AA-D658-405F-91DD-828F237A4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578C-C125-43DA-8504-B16DCC28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2CA4-69C0-4B27-BF90-55F6604BD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090B-A772-4B01-879C-D044793E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2AAC-88DA-470D-859F-2CA94133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45C6-9696-469E-89A6-16D4F472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F229-DDB6-4CD3-BF48-46CBA0F6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4301-8057-4AD3-A123-28131119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FB1F-27E2-4A31-AEAB-79DEF6AD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C88C-DAA7-4CD8-A904-8B7D0E8A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21AA-6AD3-425B-994D-F8FF7C1CF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SOMEONE WHO SMUGGLES PEOPLE INTO THE U.S. ILLEG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WIMMING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  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CANADI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S  AND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ARE THE NAMES OF THE TWO RIVAL GA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00200" y="4876920"/>
            <a:ext cx="601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D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WARZENEGGER HORROR FILM OF 1987 LED TO 3 SEQUELS IN 1990, 2010,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ALLEST CHESS PIEC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USIC DID BUDDY GUY AND JOHN LEE HOOKER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UXURY HOTEL "THE PEABODY MEMPHIS" KNOW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WIMMING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ALDEBARAN, BETELGEUSE, AND CANO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SOMEONE WHO SMUGGLES PEOPLE INTO THE U.S. ILLEG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RO  HOCKEY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CANADI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ARE THE NAMES OF THE TWO RIVAL GA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WARZENEGGER HORROR FILM OF 1987 LED TO 3 SEQUELS IN 1990, 2010,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ALLEST CHESS PIEC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6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USIC DID BUDDY GUY AND JOHN LEE HOOKER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UXURY HOTEL "THE PEABODY MEMPHIS" KNOWN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ALDEBARAN, BETELGEUSE, AND CANO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23:49:04Z</dcterms:created>
  <dc:creator>Jennifer Budzinski</dc:creator>
  <dc:description/>
  <dc:language>en-US</dc:language>
  <cp:lastModifiedBy>Erich Friedman</cp:lastModifiedBy>
  <dcterms:modified xsi:type="dcterms:W3CDTF">2020-08-26T18:20:07Z</dcterms:modified>
  <cp:revision>359</cp:revision>
  <dc:subject/>
  <dc:title>Slide 1</dc:title>
</cp:coreProperties>
</file>