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45253-DF93-4151-AA98-A97E6758AF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880CE-ECD3-45D4-B9C8-3050A4C80F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86A80-83D4-4D4E-B507-8E43124E19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9BBC5-8244-4E24-BACA-E156603A1A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AEE30-D4CC-44D1-8DB3-9249E17BF0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AEF5E-C38D-4B86-8AFA-72C90E7417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50539-58C9-405C-B5BA-A859467C1A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2F00D-38E0-445C-B45F-7142A10387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B9E17-62B5-45B1-9C5A-DDB2BF8C03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6B119-195C-479C-A99F-BD1BD81E81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14B34-E4D6-45A3-AF4A-990DCCE50E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725FC-B70B-4892-A9E0-72CECDBFB5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78834-BEFC-4035-A78F-7115792829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989D9-79BE-4F80-B260-30E87F670E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126B9-87C3-4F3B-80DD-8699F2EA2E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5A05E-5114-4669-B550-65B5543F66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110A3-76C0-4345-870C-CCC7BD03AC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8BE7F-0C58-4A8F-832A-C4F40781C2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62B86-AC41-440D-9C27-28150BCB7C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3F110-4B99-495E-935B-1ED835F6BE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9BF1E-D352-494A-B0C4-6B01FCABD7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CFA51-09BA-47CF-AD17-56001B6B96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14803-F6EB-433A-85BB-61844445E2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799920" y="15238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952560" y="761760"/>
            <a:ext cx="7238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RESPONSIBLE FOR THE CHARLESTON CHURCH MASS-SHOOTING IN 2015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3"/>
          <p:cNvSpPr/>
          <p:nvPr/>
        </p:nvSpPr>
        <p:spPr>
          <a:xfrm>
            <a:off x="1676520" y="4876920"/>
            <a:ext cx="57909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ELL'S  KITCH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990720" y="762120"/>
            <a:ext cx="71625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OKING COMPETITION TV SHOW IS HOSTED BY CELEBRITY CHEF GORDON RAMS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3"/>
          <p:cNvSpPr/>
          <p:nvPr/>
        </p:nvSpPr>
        <p:spPr>
          <a:xfrm>
            <a:off x="838080" y="4876920"/>
            <a:ext cx="74678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NNE  OF  GREEN  G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2"/>
          <p:cNvSpPr/>
          <p:nvPr/>
        </p:nvSpPr>
        <p:spPr>
          <a:xfrm>
            <a:off x="914400" y="762120"/>
            <a:ext cx="73152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LASSIC CHILDREN'S BOOK WAS WRITTEN IN 1908 BY LUCY MAUD MONTGOME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CKEY  MAN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2"/>
          <p:cNvSpPr/>
          <p:nvPr/>
        </p:nvSpPr>
        <p:spPr>
          <a:xfrm>
            <a:off x="533520" y="762120"/>
            <a:ext cx="8076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51-1968 NY YANKEE IS CONSIDERED BY MANY TO HAVE BEEN THE BEST SWITCH HITTER IN HISTO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3"/>
          <p:cNvSpPr/>
          <p:nvPr/>
        </p:nvSpPr>
        <p:spPr>
          <a:xfrm>
            <a:off x="1752480" y="4876920"/>
            <a:ext cx="56390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IN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2"/>
          <p:cNvSpPr/>
          <p:nvPr/>
        </p:nvSpPr>
        <p:spPr>
          <a:xfrm>
            <a:off x="1219320" y="762120"/>
            <a:ext cx="67053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OPERATING SYSTEM RUNS ON 83% OF COMPUT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UTTER  BA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2"/>
          <p:cNvSpPr/>
          <p:nvPr/>
        </p:nvSpPr>
        <p:spPr>
          <a:xfrm>
            <a:off x="819000" y="762120"/>
            <a:ext cx="75060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LANG TERM FOR A BOWLING ROLL THAT KNOCKS DOWN NO PIN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3"/>
          <p:cNvSpPr/>
          <p:nvPr/>
        </p:nvSpPr>
        <p:spPr>
          <a:xfrm>
            <a:off x="457200" y="49068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IMNEY  SWIF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2"/>
          <p:cNvSpPr/>
          <p:nvPr/>
        </p:nvSpPr>
        <p:spPr>
          <a:xfrm>
            <a:off x="990720" y="762120"/>
            <a:ext cx="7162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IRD IS THI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6" name="Picture 3" descr="75334281-1200px.jpg"/>
          <p:cNvPicPr/>
          <p:nvPr/>
        </p:nvPicPr>
        <p:blipFill>
          <a:blip r:embed="rId1"/>
          <a:stretch/>
        </p:blipFill>
        <p:spPr>
          <a:xfrm>
            <a:off x="2081160" y="1905120"/>
            <a:ext cx="4981680" cy="2895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981080" y="4876920"/>
            <a:ext cx="51818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ALL-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533520" y="762120"/>
            <a:ext cx="80769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8 ANIMATED FILM WAS ABOUT A TRASH COMPACTOR ROBO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914400" y="762120"/>
            <a:ext cx="73152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OKING COMPETITION TV SHOW IS HOSTED BY CELEBRITY CHEF GORDON RAMSA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LASS  CEI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USUAL METAPHOR FOR THE BARRIER KEEPING MINORITIES FROM ADVANCING THEIR CARE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22860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YLANN  ROO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952560" y="762120"/>
            <a:ext cx="723888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RESPONSIBLE FOR THE CHARLESTON CHURCH MASS-SHOOTING IN 2015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3"/>
          <p:cNvSpPr/>
          <p:nvPr/>
        </p:nvSpPr>
        <p:spPr>
          <a:xfrm>
            <a:off x="533520" y="4876920"/>
            <a:ext cx="8001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TAIN  PARTS  OF  A  HO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"/>
          <p:cNvSpPr/>
          <p:nvPr/>
        </p:nvSpPr>
        <p:spPr>
          <a:xfrm>
            <a:off x="503280" y="762120"/>
            <a:ext cx="807732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838080" y="761760"/>
            <a:ext cx="74678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LASSIC CHILDREN'S BOOK WAS WRITTEN IN 1908 BY LUCY MAUD MONTGOMER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380880" y="762120"/>
            <a:ext cx="8382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51-1968 NY YANKEE IS CONSIDERED BY MANY TO HAVE BEEN THE BEST SWITCH HITTER IN HISTO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1104840" y="762120"/>
            <a:ext cx="6934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OPERATING SYSTEM RUNS ON 83% OF COMPUTE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571320" y="7621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LANG TERM FOR A BOWLING ROLL THAT KNOCKS DOWN NO PINS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876240" y="761760"/>
            <a:ext cx="7391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IRD IS THI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8" name="Picture 2" descr="75334281-1200px.jpg"/>
          <p:cNvPicPr/>
          <p:nvPr/>
        </p:nvPicPr>
        <p:blipFill>
          <a:blip r:embed="rId1"/>
          <a:stretch/>
        </p:blipFill>
        <p:spPr>
          <a:xfrm>
            <a:off x="1989000" y="2057400"/>
            <a:ext cx="5166000" cy="300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8 ANIMATED FILM WAS ABOUT A TRASH COMPACTOR ROBO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380880" y="762120"/>
            <a:ext cx="83822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USUAL METAPHOR FOR THE BARRIER KEEPING MINORITIES FROM ADVANCING THEIR CAREE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27T22:45:36Z</dcterms:created>
  <dc:creator>Jennifer Budzinski</dc:creator>
  <dc:description/>
  <dc:language>en-US</dc:language>
  <cp:lastModifiedBy>Erich Friedman</cp:lastModifiedBy>
  <dcterms:modified xsi:type="dcterms:W3CDTF">2020-08-26T18:22:37Z</dcterms:modified>
  <cp:revision>362</cp:revision>
  <dc:subject/>
  <dc:title>Slide 1</dc:title>
</cp:coreProperties>
</file>