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0CF0-5B68-49D7-8970-94F06258F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B629-6F5D-4B39-B61E-6E69A8037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CD20-91A9-495A-9E9D-6C1FE23D4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D683-F89B-409C-B960-7F8F86448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D589-973B-427A-A8E3-717796F0C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B16A-45BD-468A-B129-20179DCA1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BB01-09B4-4828-80C2-CB9A6AFCB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A073-6E33-4A2C-934D-3515A93B4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6101-BA5E-46BF-9A14-DC175F318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B7B2-7648-477B-8D12-81989E377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3EA5-6920-483B-95C1-4678745E38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1953-3DB2-45A6-8350-377AD51ED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EDDF-0C6E-45A0-A2CF-2DA774555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35588-F60B-4694-9871-6F8AE0954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B729-1826-436C-993B-DA95EBDF1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A3E4-FFB2-44CB-8588-9DFE2FA4E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3FF8-8396-4630-BDD0-3429E0DEE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3780-0A74-4EC7-B963-9708B1954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3A9D-3B78-49E1-BF3C-61AD7767B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7CFD-C751-4C3C-AD7A-8660548A0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9A06-A8AB-4D1D-9F5D-4CB9291E4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51EC-E3F2-46EA-B300-07A1A537B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5E02-9630-4F00-8167-8A50DA17B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RESPONSIBLE FOR THE CHARLESTON CHURCH MASS-SHOOTING IN 201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LL'S  KITC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990720" y="762120"/>
            <a:ext cx="7162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OKING COMPETITION TV SHOW IS HOSTED BY CELEBRITY CHEF GORDON RAMS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838080" y="4876920"/>
            <a:ext cx="7467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E  OF  GREEN  G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LASSIC CHILDREN'S BOOK WAS WRITTEN IN 1908 BY LUCY MAUD MONTGOME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KEY  MAN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1-1968 NY YANKEE IS CONSIDERED BY MANY TO HAVE BEEN THE BEST SWITCH HITTER IN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PERATING SYSTEM RUNS ON 83% OF COMPU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TTER  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819000" y="762120"/>
            <a:ext cx="7506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LANG TERM FOR A BOWLING ROLL THAT KNOCKS DOWN NO PIN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9068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MNEY  SW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990720" y="76212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RD IS TH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3" descr="75334281-1200px.jpg"/>
          <p:cNvPicPr/>
          <p:nvPr/>
        </p:nvPicPr>
        <p:blipFill>
          <a:blip r:embed="rId1"/>
          <a:stretch/>
        </p:blipFill>
        <p:spPr>
          <a:xfrm>
            <a:off x="2081160" y="1905120"/>
            <a:ext cx="498168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981080" y="4876920"/>
            <a:ext cx="5181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L-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ANIMATED FILM WAS ABOUT A TRASH COMPACTOR ROB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OKING COMPETITION TV SHOW IS HOSTED BY CELEBRITY CHEF GORDON RAMS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ASS  CEI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USUAL METAPHOR FOR THE BARRIER KEEPING MINORITIES FROM ADVANCING THEIR CARE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YLANN  RO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52560" y="762120"/>
            <a:ext cx="72388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RESPONSIBLE FOR THE CHARLESTON CHURCH MASS-SHOOTING IN 20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53352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PARTS  OF  A  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03280" y="762120"/>
            <a:ext cx="8077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LASSIC CHILDREN'S BOOK WAS WRITTEN IN 1908 BY LUCY MAUD MONTGOME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1-1968 NY YANKEE IS CONSIDERED BY MANY TO HAVE BEEN THE BEST SWITCH HITTER IN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PERATING SYSTEM RUNS ON 83% OF COMPU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LANG TERM FOR A BOWLING ROLL THAT KNOCKS DOWN NO PIN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RD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2" descr="75334281-1200px.jpg"/>
          <p:cNvPicPr/>
          <p:nvPr/>
        </p:nvPicPr>
        <p:blipFill>
          <a:blip r:embed="rId1"/>
          <a:stretch/>
        </p:blipFill>
        <p:spPr>
          <a:xfrm>
            <a:off x="1989000" y="2057400"/>
            <a:ext cx="5166000" cy="30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ANIMATED FILM WAS ABOUT A TRASH COMPACTOR ROBO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USUAL METAPHOR FOR THE BARRIER KEEPING MINORITIES FROM ADVANCING THEIR CARE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7T22:45:36Z</dcterms:created>
  <dc:creator>Jennifer Budzinski</dc:creator>
  <dc:description/>
  <dc:language>en-US</dc:language>
  <cp:lastModifiedBy>Erich Friedman</cp:lastModifiedBy>
  <dcterms:modified xsi:type="dcterms:W3CDTF">2020-08-26T18:22:37Z</dcterms:modified>
  <cp:revision>362</cp:revision>
  <dc:subject/>
  <dc:title>Slide 1</dc:title>
</cp:coreProperties>
</file>