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9FB5-F345-4617-9AF7-F4F02D8C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FEA-8D12-4831-8F7F-C790523C1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8B9-AB64-499E-8780-26100396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9A4-F44B-4553-993A-38F8F70C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97DE-EC7B-4864-84FB-A8E8D82D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A69-AFD1-4503-8183-D61EA007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8C2-CC79-441F-8AD0-E937107C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EFE-1B29-4EB8-9550-B5BF0398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A2BC-6594-487E-98D5-3943531C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0B08-7423-4AEA-9500-D41C4A79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0FB-AF8B-4F67-B57C-1E3E7A170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2CB1-A777-497A-A554-8AEDE238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CEEC-34EC-44A5-98CC-F0902CA9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94C-C3E2-4542-BCDB-32ADA4E2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57B8-2487-4F43-966E-C16CBAEC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7D4D-654E-427A-BA57-567F42F5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1720-BB65-4C2C-B8F1-F7478B24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7791-3732-4EB5-B8E4-6121BF3D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2354-DF8F-425F-9BEB-00470D56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3E0-B69B-4684-A820-3AF88134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BFC-89AC-4CD7-B773-AA8CE308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A22D-2326-4F80-BF0C-B3558CC1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116-AD66-479E-B618-FEF792E3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CHARLESTON CHURCH MASS-SHOOTING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'S 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COMPETITION TV SHOW IS HOSTED BY CELEBRITY CHEF GORDON RAM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OF  GREEN  G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CHILDREN'S BOOK WAS WRITTEN IN 1908 BY LUCY MAUD MONTGOM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-1968 NY YANKEE IS CONSIDERED BY MANY TO HAVE BEEN THE BEST SWITCH HIT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83% OF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TTER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BOWLING ROLL THAT KNOCKS DOWN NO PI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06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MNEY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75334281-1200px.jpg"/>
          <p:cNvPicPr/>
          <p:nvPr/>
        </p:nvPicPr>
        <p:blipFill>
          <a:blip r:embed="rId1"/>
          <a:stretch/>
        </p:blipFill>
        <p:spPr>
          <a:xfrm>
            <a:off x="2081160" y="1905120"/>
            <a:ext cx="4981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-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ANIMATED FILM WAS ABOUT A TRASH COMPACTOR ROB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COMPETITION TV SHOW IS HOSTED BY CELEBRITY CHEF GORDON RAMS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  CE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USUAL METAPHOR FOR THE BARRIER KEEPING MINORITIES FROM ADVANCING THEIR CAR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LAN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CHARLESTON CHURCH MASS-SHOOTING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PARTS  OF  A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032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CHILDREN'S BOOK WAS WRITTEN IN 1908 BY LUCY MAUD MONTGOM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-1968 NY YANKEE IS CONSIDERED BY MANY TO HAVE BEEN THE BEST SWITCH HIT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83% OF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BOWLING ROLL THAT KNOCKS DOWN NO PI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75334281-1200px.jpg"/>
          <p:cNvPicPr/>
          <p:nvPr/>
        </p:nvPicPr>
        <p:blipFill>
          <a:blip r:embed="rId1"/>
          <a:stretch/>
        </p:blipFill>
        <p:spPr>
          <a:xfrm>
            <a:off x="1989000" y="2057400"/>
            <a:ext cx="51660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ANIMATED FILM WAS ABOUT A TRASH COMPACTOR ROB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USUAL METAPHOR FOR THE BARRIER KEEPING MINORITIES FROM ADVANCING THEIR CAR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22:45:36Z</dcterms:created>
  <dc:creator>Jennifer Budzinski</dc:creator>
  <dc:description/>
  <dc:language>en-US</dc:language>
  <cp:lastModifiedBy>Erich Friedman</cp:lastModifiedBy>
  <dcterms:modified xsi:type="dcterms:W3CDTF">2020-08-26T18:22:37Z</dcterms:modified>
  <cp:revision>362</cp:revision>
  <dc:subject/>
  <dc:title>Slide 1</dc:title>
</cp:coreProperties>
</file>