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C67B-97BB-484D-8A50-04FDA766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5611-AD7F-4760-9B58-180C9E756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8B6B-8B1C-47AA-A5C0-F14CF7C78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4762-0DEA-4AC4-BC3F-8BFAF99F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6418-5899-44FA-9FD9-8E095DD4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4C8B-3818-46DD-B502-F355B7D02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1847-67AA-48A0-883A-D7BDDC10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34D6-83B4-4487-B1F6-B07D208FC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7895-C259-41B7-9446-CE26A93BE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D45-78EC-4AC8-B7F9-179BF6066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80B-6B36-487D-8008-9CC89C50A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CAC3-4A6B-40CA-9F4C-690179E1A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6DB4-E943-4623-A078-A31EE47D3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B10D-FB48-4100-8721-83F13D0AD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AF75-55D7-4C21-83D8-2A021B0BA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3FB4-A1A3-46DE-96C9-B52AEE5A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151D-3B06-47A5-8AB6-DAFA5A9F5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A10F-44F6-474B-A8CA-BFA864099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0E23-AF36-4829-839A-4BC94D2B7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BF5C-C4D7-41E4-AA58-EF7FB46D0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CE5A-4138-4A09-9A31-9D3FAC56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39B7-6796-437F-9D89-3071EA27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ECDB-198B-4426-A53B-014EDC3D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MAINLAND AFRICA IS CLOSEST TO MADAG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ING,  GOING,  G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WHAT ARE THE LAST 3 WORDS AN AUCTIONEER SAYS DURING AN A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Z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-1966 SIT-COM  WAS ABOUT A LIVE-IN MAID PLAYED BY SHIRLEY BO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' 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RADITIONAL LOUISIANA SANDWICH CONSISTING OF FRIED SEAFOOD ON A BAGU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5420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ANGEROUS TERRORIST GROUP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ECONOMY IS LARGER THAN THAT OF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CENSE  TO  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JAMES BOND FILM'S TITLE WAS DESCRIPTIVE OF HIS CREDENTIALS AND NOT AN IAN FLEMING BOOK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ZAMB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MAINLAND AFRICA IS CLOSEST TO MADAG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BOB  DYLA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DITIONALLY, WHAT ARE THE LAST 3 WORDS AN AUCTIONEER SAYS DURING AN A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-1966 SIT-COM  WAS ABOUT A LIVE-IN MAID PLAYED BY SHIRLEY BOO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RADITIONAL LOUISIANA SANDWICH CONSISTING OF FRIED SEAFOOD ON A BAGU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DANGEROUS TERRORIST GROUP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ECONOMY IS LARGER THAN THAT OF THE UNITED KING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JAMES BOND FILM'S TITLE WAS DESCRIPTIVE OF HIS CREDENTIALS AND NOT AN IAN FLEMING BOOK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01:17Z</dcterms:created>
  <dc:creator>Jennifer Budzinski</dc:creator>
  <dc:description/>
  <dc:language>en-US</dc:language>
  <cp:lastModifiedBy>Erich Friedman</cp:lastModifiedBy>
  <dcterms:modified xsi:type="dcterms:W3CDTF">2020-08-26T18:24:24Z</dcterms:modified>
  <cp:revision>414</cp:revision>
  <dc:subject/>
  <dc:title>Slide 1</dc:title>
</cp:coreProperties>
</file>