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4CBF-C5CE-4CE6-AA65-8B61B7581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D41-5410-4AA5-B3DF-8FE2F0D7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D64-416E-4316-9494-C32E824A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46B9-C80D-423C-B11A-DF5C62F7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563-C4CB-47A5-B0DB-528CF8398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7CF-889E-4449-948D-D40A81D43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2AB-F4F7-4D20-BFE8-35C76B1E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4039-3148-467C-803D-93CEE87E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6B8-D184-4521-BF9D-8AEBAD28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BD10-C3F0-466F-B445-73F9CF47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123C-36F9-4E4A-B81C-B99814D98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41EB-877F-4BDC-969E-44514C19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17E1-7A0A-4231-8FB5-4260ED86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B3B-FFC3-4A00-A391-C732A53D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49C-E32E-4080-901F-254C26C82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33E0-3D21-424E-9AA3-50DF3F56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E5E6-4778-4654-ABC5-A4FD54BC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C44-C3C2-40E6-8338-54CA75D7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E92-F3C2-4B35-B439-DA3A961C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34A-2B9B-4DC8-8C24-96A057FB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1FCB-AC73-40C7-84D7-D7F036A0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977-7E6D-4829-A8B3-E627F157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526-8F54-44C1-9D79-037AE977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ING,  GOING,  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Z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' 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420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CENSE  TO  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ZAMB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OB  DYLA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01:17Z</dcterms:created>
  <dc:creator>Jennifer Budzinski</dc:creator>
  <dc:description/>
  <dc:language>en-US</dc:language>
  <cp:lastModifiedBy>Erich Friedman</cp:lastModifiedBy>
  <dcterms:modified xsi:type="dcterms:W3CDTF">2020-08-26T18:24:24Z</dcterms:modified>
  <cp:revision>414</cp:revision>
  <dc:subject/>
  <dc:title>Slide 1</dc:title>
</cp:coreProperties>
</file>