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E10D-73E4-401A-A48A-1D5AB25A9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B65F-CC71-4E1C-87C1-E960D54C5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41C8-2E9C-40F4-A984-C441E53AE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3799-827B-4473-BD2F-B6F2CAC5F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980A-A9CD-4376-B4C2-7B9A29397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3120-B884-4F77-8D4F-D0A8A59D7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25D6-56FC-4B5E-8E33-C488043F4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2C49-9838-4F29-B937-830610676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9708-B908-4C6C-A1E5-0C2ED60C5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C598-38B9-4C75-B572-E87FA9405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8D26-BA48-438A-8E4B-99F03837C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15F4-2243-4B69-A682-E2D6B72D4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33FA-AE59-46FF-BC07-973125A45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F23F-8F19-49C1-BEB3-6DB26AD32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43C1-ADD5-4B71-971B-9DBB106F7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C458-228B-4CF4-9277-9722D8D18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605E-8A1E-4663-A092-2AE244334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6F4B-AE88-4693-9856-ADD5D417B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50BD-2454-4407-BC0E-DCFE0EA34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33D2-B58C-4477-A10F-56DF8A359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A852-4F39-440C-9067-B93F62D24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45F4-8985-4170-B1C4-5FF458F4A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1614-1C43-4035-94DD-AD04D62C2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N MAINLAND AFRICA IS CLOSEST TO MADAGA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  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ING,  GOING,  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DITIONALLY, WHAT ARE THE LAST 3 WORDS AN AUCTIONEER SAYS DURING AN A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Z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1-1966 SIT-COM  WAS ABOUT A LIVE-IN MAID PLAYED BY SHIRLEY BOO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' 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RADITIONAL LOUISIANA SANDWICH CONSISTING OF FRIED SEAFOOD ON A BAGUET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5420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ANGEROUS TERRORIST GROUP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'S ECONOMY IS LARGER THAN THAT OF THE UNITED KING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CENSE  TO  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JAMES BOND FILM'S TITLE WAS DESCRIPTIVE OF HIS CREDENTIALS AND NOT AN IAN FLEMING BOOK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85720" y="762120"/>
            <a:ext cx="6172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MEX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ILM WITH AN ALL-BLACK CAST TO WIN THE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ZAMB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N MAINLAND AFRICA IS CLOSEST TO MADAGA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BOB  DYLA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DITIONALLY, WHAT ARE THE LAST 3 WORDS AN AUCTIONEER SAYS DURING AN A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1-1966 SIT-COM  WAS ABOUT A LIVE-IN MAID PLAYED BY SHIRLEY BOO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RADITIONAL LOUISIANA SANDWICH CONSISTING OF FRIED SEAFOOD ON A BAGUET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ANGEROUS TERRORIST GROUP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'S ECONOMY IS LARGER THAN THAT OF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JAMES BOND FILM'S TITLE WAS DESCRIPTIVE OF HIS CREDENTIALS AND NOT AN IAN FLEMING BOOK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ILM WITH AN ALL-BLACK CAST TO WIN THE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12:01:17Z</dcterms:created>
  <dc:creator>Jennifer Budzinski</dc:creator>
  <dc:description/>
  <dc:language>en-US</dc:language>
  <cp:lastModifiedBy>Erich Friedman</cp:lastModifiedBy>
  <dcterms:modified xsi:type="dcterms:W3CDTF">2020-08-26T18:24:24Z</dcterms:modified>
  <cp:revision>414</cp:revision>
  <dc:subject/>
  <dc:title>Slide 1</dc:title>
</cp:coreProperties>
</file>