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4A1-9409-4026-98C8-E2A3F2024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A7B9-DEF2-47DD-905E-570479AEA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7976-036C-474B-93F7-BA1F5F47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075C-50A9-41A1-9529-93598939B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122E-AEF2-415E-8E80-C163F226F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4577-6BA3-45AE-B3BD-35CCEC6FA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E71C-4B88-4FFF-943C-BA93CD300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2FE4-2AC6-4E5B-97DF-FB2B5650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611D-77BA-4022-A6D3-9CFD2B6B0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2078-5BFF-42B6-86A3-3E040C23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474D-40DF-40FA-A6CB-E3382CDE4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6764-968B-4E8F-B5FC-689566241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0C0C-5966-4D46-840A-26EDEE88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A5E7-AB10-483D-97CD-C5E6E0D43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6FEA-15D4-4C0F-B959-C2D86E4B8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27E3-FA4E-4A78-AE5D-60B4DA70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6D80-5DFC-4C42-8255-B6A9DE833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73DC-FC62-48A6-81E8-008D8880F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BCA-5E6C-42AA-BE4C-98C133571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E310-DC9C-4923-9817-34503EBC4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016F-591A-48E5-B703-A7218B3F8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9FE6-7C42-4F10-9EEA-3C617342A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6159-B0B8-46F3-B860-ABF80EE7F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4 LARGEST MAMMALS ALL BELONG TO WHAT INFORMAL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LOS ANGELES BESIDES THE DOD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HL TEAM IS LOCATED IN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DETRO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TEAM IS LOCATED IN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6800"/>
            <a:ext cx="76197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ILORS EAT DURING THE MIDDLE AGES TO PREVENT SCUR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"CHECK 'N GO", "ADVANCE AMERICA" AND "ONEMAIN FINANCIAL" O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CAN RUN 40 MPH BUT CAN'T SEE THE COLOR O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LOS ANGELES BESIDES THE DODG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FLASH", "INDEX", OR "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4 LARGEST MAMMALS ALL BELONG TO WHAT INFORMAL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H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HL TEAM IS LOCATED IN ST. LOU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DETRO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TEAM IS LOCATED IN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ILORS EAT DURING THE MIDDLE AGES TO PREVENT SCUR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"CHECK 'N GO", "ADVANCE AMERICA" AND "ONEMAIN FINANCIAL" O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CAN RUN 40 MPH BUT CAN'T SEE THE COLOR O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FLASH", "INDEX", OR "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8:38:03Z</dcterms:created>
  <dc:creator>Jennifer Budzinski</dc:creator>
  <dc:description/>
  <dc:language>en-US</dc:language>
  <cp:lastModifiedBy>Erich Friedman</cp:lastModifiedBy>
  <dcterms:modified xsi:type="dcterms:W3CDTF">2020-08-26T18:26:24Z</dcterms:modified>
  <cp:revision>387</cp:revision>
  <dc:subject/>
  <dc:title>Slide 1</dc:title>
</cp:coreProperties>
</file>