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F2A39-0EE1-4D88-B264-2B0539DC67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06B56-5F5F-491A-8FAD-6DEAC649A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5DE07-E358-4A82-8488-5F73EBABD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DA401-8E2A-41D4-928A-9E751E1E3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0E977-D99A-4B7D-B082-625BC667B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A405A-D239-4B6B-8FE2-2FC1950E5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670E1-1C58-4733-9FE5-DBF3DFE11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77050-7B61-4A14-B0D1-E4D237AA59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AED22-45E6-4E62-9B71-481610EF5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F568F-903C-4B4D-9D9E-23E5B30E4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7C38B-62FF-4E67-ADEF-5E192D50E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98FAA-EC8C-45BF-8A88-CA1E8793A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DC27E-E293-4914-888B-1D9809908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CBC6E-F9A2-4DF1-B6A8-845DA964A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2F7DE-51B2-42F3-9507-977014CE2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21B50-016D-4BD8-8269-BA24B1D57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954D7-8A7C-412E-A621-805BF0A78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00520-0440-400C-A554-8DC4EDCEF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15DB3-A1AD-4269-9739-E72FB51AA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9874E-CFA0-41F5-B43F-BF34DE767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EBD49-81F2-4CE8-AFC9-1FF18BFE4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73B62-43D7-4327-AE57-526D75953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F35B8-2E94-42CC-8BA6-3C6AF761C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OP 4 LARGEST MAMMALS ALL BELONG TO WHAT INFORMAL GROU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G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76240" y="762120"/>
            <a:ext cx="739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LB TEAM IS LOCATED IN LOS ANGELES BESIDES THE DODG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HL TEAM IS LOCATED IN ST. LOU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G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219320" y="762120"/>
            <a:ext cx="67053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LB TEAM IS LOCATED IN DETRO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160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BA TEAM IS LOCATED IN CHICA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M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62120" y="766800"/>
            <a:ext cx="761976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SAILORS EAT DURING THE MIDDLE AGES TO PREVENT SCURV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62120"/>
            <a:ext cx="82296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"CHECK 'N GO", "ADVANCE AMERICA" AND "ONEMAIN FINANCIAL" OFF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ZEB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RIPED CREATURE CAN RUN 40 MPH BUT CAN'T SEE THE COLOR ORAN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LB TEAM IS LOCATED IN LOS ANGELES BESIDES THE DODG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FOLLOW "FLASH", "INDEX", OR "WIL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71680" y="762120"/>
            <a:ext cx="8001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OP 4 LARGEST MAMMALS ALL BELONG TO WHAT INFORMAL GROU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762120" y="4876920"/>
            <a:ext cx="7619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YPES  OF  SHAR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HL TEAM IS LOCATED IN ST. LOU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295280" y="762120"/>
            <a:ext cx="65534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LB TEAM IS LOCATED IN DETRO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BA TEAM IS LOCATED IN CHICAG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SAILORS EAT DURING THE MIDDLE AGES TO PREVENT SCURV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"CHECK 'N GO", "ADVANCE AMERICA" AND "ONEMAIN FINANCIAL" OFF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RIPED CREATURE CAN RUN 40 MPH BUT CAN'T SEE THE COLOR ORANG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FOLLOW "FLASH", "INDEX", OR "WIL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0T18:38:03Z</dcterms:created>
  <dc:creator>Jennifer Budzinski</dc:creator>
  <dc:description/>
  <dc:language>en-US</dc:language>
  <cp:lastModifiedBy>Erich Friedman</cp:lastModifiedBy>
  <dcterms:modified xsi:type="dcterms:W3CDTF">2020-08-26T18:26:24Z</dcterms:modified>
  <cp:revision>387</cp:revision>
  <dc:subject/>
  <dc:title>Slide 1</dc:title>
</cp:coreProperties>
</file>