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71D1-B692-439F-93BB-4F2405C9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D2478-56ED-49A0-AA0B-DA00494C0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89DD-AA4B-4B05-A2C3-FB8C95AB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3545-EE1A-4C6C-BFA3-093C8A91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A189-E411-4D1D-89DD-1844C39C7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BD3C-7863-4CB0-8862-6A2D0EB51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0C69-CAFA-4323-9E5F-8846197D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9BC0-8B6B-411B-B81D-F4402D276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6788-0ABF-4648-9CB4-C12A7D6E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D12-CF08-473C-A72C-3023F321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129-E9D0-46EC-9A1E-C970A0B5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59F-4139-4973-963E-E268AB25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6422-33E7-4E64-A7C8-1DA29998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F793-75F5-4E3E-9F8B-E4F9145B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B0A-19A0-4B22-A685-A60ADBA48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DBD2-8AF6-4553-94C3-5AC825384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177B-B14F-4B3E-A815-108D43926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1674-48CC-48B4-A09A-5BF340305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97B4-A00B-48C2-A9B5-E535B2FD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1930-A21E-49AE-93F1-20772C627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0611-45B0-4BE6-B037-39DFB39D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15AA-A4B3-450A-A119-50A59BF6F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ADF-B56F-401F-8F62-2698438F8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680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LOS ANGELES BESIDES THE DOD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 IS LOCATED IN ST. LOU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IS LOCATED IN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LOCATED IN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ILORS EAT DURING THE MIDDLE AGES TO PREVENT SCUR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"CHECK 'N GO", "ADVANCE AMERICA" AND "ONEMAIN FINANCIAL"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CAN RUN 40 MPH BUT CAN'T SEE THE COLOR O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FLASH", "INDEX", OR "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8:38:03Z</dcterms:created>
  <dc:creator>Jennifer Budzinski</dc:creator>
  <dc:description/>
  <dc:language>en-US</dc:language>
  <cp:lastModifiedBy>Erich Friedman</cp:lastModifiedBy>
  <dcterms:modified xsi:type="dcterms:W3CDTF">2020-08-26T18:26:24Z</dcterms:modified>
  <cp:revision>387</cp:revision>
  <dc:subject/>
  <dc:title>Slide 1</dc:title>
</cp:coreProperties>
</file>