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5992-E15D-434D-8D3E-2963433DC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16B3-E987-48FB-A884-3A9BF5EC8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5677-C5B8-47FE-9FE5-D82ED88EC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ADF3-5DA3-4685-BE68-3CD292FC9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DD80-1E8E-41F6-BD68-0D0D7C86B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4447-D1CF-43C4-AAEF-992EEA394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9CA-035F-44DA-9226-C9CE08DB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CC6-BB19-4755-8F2D-582428112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E8C-653A-4B69-8CC6-E3792E710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203B-775A-48B1-BEC6-C5992C3F9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5F9F-3A50-4635-8DD9-7F6DE231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6ADB-E0B1-4E0E-A5EA-8CB469B5A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2420-57D7-4E01-9288-F7907366D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8277-2F5E-4102-9D95-EC80A313B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DD70-B4D7-463A-B91E-7535B9542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1EB9B-9FC0-4E72-B918-811FB55EE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4F35-ACC7-4FA0-8CCD-2FB266012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71B3-F41C-4EFE-B39D-80A76BD8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48A8-738A-402B-B301-F2FAEDFB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D7912-3CDE-44D2-8686-4627506B0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EB80-5D42-418C-9181-8128D8DD7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A4DD4-0A90-44AA-9D64-682391E04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A8FF-8F56-42D9-9441-D6588116A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M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57480" y="762120"/>
            <a:ext cx="6629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SON DID SOCRATES DIED FR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CHEST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HAN'S HOT DOG EATING CONTEST 10 OF THE LAST 11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777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I RESORT TOWN HAS THE HIGHEST REAL ESTATE PRICES IN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NIGHTMARE  ON  ELM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DDY KRUEGER IS THE SLASHER IN WHAT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BIRCH  SOCI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DVOCACY GROUP FORMED IN 1958 IS FIERCELY ANTI-COMMUN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  BO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MALL, RED, SPHERICAL, EXPLODING FIREWORK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PLE  LEA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676520" y="762120"/>
            <a:ext cx="5790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ORONTO'S PRO HOCKEY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ISON DID SOCRATES DIED FRO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AKLAND,  CALIFOR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2888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FL RAI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H  WEDN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86080" y="762120"/>
            <a:ext cx="6172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DAY OF LEN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NAMES  OF  T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NATHAN'S HOT DOG EATING CONTEST 10 OF THE LAST 11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KI RESORT TOWN HAS THE HIGHEST REAL ESTATE PRICES IN COLORA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EDDY KRUEGER IS THE SLASHER I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ADVOCACY GROUP FORMED IN 1958 IS FIERCELY ANTI-COMMUN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SMALL, RED, SPHERICAL, EXPLODING FIREWORK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47920" y="7617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ORONTO'S PRO HOCKEY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HOME TO THE NFL RAID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0:51:07Z</dcterms:created>
  <dc:creator>Jennifer Budzinski</dc:creator>
  <dc:description/>
  <dc:language>en-US</dc:language>
  <cp:lastModifiedBy>Erich Friedman</cp:lastModifiedBy>
  <dcterms:modified xsi:type="dcterms:W3CDTF">2020-08-26T18:32:10Z</dcterms:modified>
  <cp:revision>341</cp:revision>
  <dc:subject/>
  <dc:title>Slide 1</dc:title>
</cp:coreProperties>
</file>