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7B59-7447-4896-B6DA-126425FAB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6990-807D-4FC5-8988-4A9BAAFB7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723C-F448-4D80-BE31-BE3C53DB2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C19E-5468-40D4-8813-EB9480BC6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9A67-0D2F-4D57-90DE-338723C57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5676-33F4-4D88-9FFE-02F3DD21F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EA0D-BD64-40D0-B01F-3AF2C8011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F69D-F9CA-4B26-9150-FB890AB86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CA50-ABF7-4329-BF4C-0BECFC0D1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14AE-302F-4E38-AA1F-36C856E77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FA62-56F0-498F-99D7-5E40DF76B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1459-7753-4265-831B-27A0C5201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0A1B-DBF5-4332-8EEE-68D4FB7CA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7DF2-4A9C-4BDF-A82B-6BA3B961A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F222-6916-4C3F-A2B9-983E6DD14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2F28-0D7F-4A93-8105-BC5F22E25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87C4-7480-4D40-B445-400B3CE15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50E7-D255-4BA5-89D4-8362FE9C8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7D73-E424-4B7A-B347-F9589E73A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6EDF-D630-4CAC-999F-085AA8B7E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77A8-442F-4D41-A775-05B70C2F9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2845-3ADF-4D12-9B4D-F91B94759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63C1-C262-4144-B136-2238BEC5F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DAY OF LEN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M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57480" y="762120"/>
            <a:ext cx="6629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ISON DID SOCRATES DIED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Y  CHESTN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NATHAN'S HOT DOG EATING CONTEST 10 OF THE LAST 11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777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KI RESORT TOWN HAS THE HIGHEST REAL ESTATE PRICES IN COLOR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NIGHTMARE  ON  ELM 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EDDY KRUEGER IS THE SLASHER IN WHAT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IRCH  SOCI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ADVOCACY GROUP FORMED IN 1958 IS FIERCELY ANTI-COMMUN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RY  BO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MALL, RED, SPHERICAL, EXPLODING FIREWORKS USUALL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PLE  LEA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676520" y="762120"/>
            <a:ext cx="5790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ORONTO'S PRO HOCKEY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ISON DID SOCRATES DIED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AKLAND,  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2888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NFL RAI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H  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86080" y="762120"/>
            <a:ext cx="6172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DAY OF LE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TR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NATHAN'S HOT DOG EATING CONTEST 10 OF THE LAST 11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KI RESORT TOWN HAS THE HIGHEST REAL ESTATE PRICES IN COLOR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EDDY KRUEGER IS THE SLASHER I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ADVOCACY GROUP FORMED IN 1958 IS FIERCELY ANTI-COMMUN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MALL, RED, SPHERICAL, EXPLODING FIREWORKS USUALL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ORONTO'S PRO HOCKEY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NFL RAI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20:51:07Z</dcterms:created>
  <dc:creator>Jennifer Budzinski</dc:creator>
  <dc:description/>
  <dc:language>en-US</dc:language>
  <cp:lastModifiedBy>Erich Friedman</cp:lastModifiedBy>
  <dcterms:modified xsi:type="dcterms:W3CDTF">2020-08-26T18:32:10Z</dcterms:modified>
  <cp:revision>341</cp:revision>
  <dc:subject/>
  <dc:title>Slide 1</dc:title>
</cp:coreProperties>
</file>