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641-79AC-4D47-8D69-889FD6ECA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B14D-A70F-475F-AEE7-E03EABBD2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FED1-2405-4D7B-9C46-12C791B8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AEFA-B37E-4958-BDCC-C3DEA1D13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8D5B-B2BB-44D7-B977-C0BAF3E76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7EE3-6506-4EF8-976E-6311974A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BEFF-1500-4FF5-8546-F7074D37D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DB6B-E08F-46EB-8292-73E3B16BC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C056-4F1A-466F-BDBE-17DF923B4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D8B0-B22C-4E18-B9C7-626A0EEE4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EF12-59E9-462D-AA4B-A26B32292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4285-A3A5-4EA3-989A-E42810461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B642-147C-4B0B-9AFA-D2EF706A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3183-FB02-423C-8E96-20A69BDC1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7F68-5A4D-4419-9590-52821A033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A08-55B4-43D4-A0EE-0035829D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F70A-E41A-467A-B92F-94D0443C6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86C9-1055-433D-AAD2-24C7DA47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4F6D-518B-4AEE-BC03-52EC1A73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4356-F35D-4031-8F86-32F87CB7D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5CF8-E313-48DA-9057-BF2D39368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B853-317D-449B-8CC9-BA3CEA3F0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B694-A512-4D5C-8487-9DFD90FC3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M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SON DID SOCRATES DIED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CHEST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HAN'S HOT DOG EATING CONTEST 10 OF THE LAST 11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777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I RESORT TOWN HAS THE HIGHEST REAL ESTATE PRICES IN COLOR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NIGHTMARE  ON  ELM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DDY KRUEGER IS THE SLASHER IN WHA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IRCH  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DVOCACY GROUP FORMED IN 1958 IS FIERCELY ANTI-COMMUN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  BO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MALL, RED, SPHERICAL, EXPLODING FIREWORKS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  LEA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76520" y="762120"/>
            <a:ext cx="5790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ORONTO'S PRO HOCKEY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SON DID SOCRATES DIED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LAND,  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FL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 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86080" y="762120"/>
            <a:ext cx="6172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T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HAN'S HOT DOG EATING CONTEST 10 OF THE LAST 11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I RESORT TOWN HAS THE HIGHEST REAL ESTATE PRICES IN COLOR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DDY KRUEGER IS THE SLASHER I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DVOCACY GROUP FORMED IN 1958 IS FIERCELY ANTI-COMMUN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MALL, RED, SPHERICAL, EXPLODING FIREWORKS USU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ORONTO'S PRO HOCKEY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FL RAI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0:51:07Z</dcterms:created>
  <dc:creator>Jennifer Budzinski</dc:creator>
  <dc:description/>
  <dc:language>en-US</dc:language>
  <cp:lastModifiedBy>Erich Friedman</cp:lastModifiedBy>
  <dcterms:modified xsi:type="dcterms:W3CDTF">2020-08-26T18:32:10Z</dcterms:modified>
  <cp:revision>341</cp:revision>
  <dc:subject/>
  <dc:title>Slide 1</dc:title>
</cp:coreProperties>
</file>