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B832-563C-46B5-8A6B-3D88D9B1D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B096-71AF-4617-8511-386AB035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6B68C-001E-47DE-B571-1EB9696E92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29CF-EF6A-41DF-B320-2F46A52B4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80E87-750F-4647-ABE0-A13F6D02C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040E-733F-4678-B579-DD7AFB45E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5B98-C321-4612-A2E7-2DD5AA070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5399-7B44-4E12-98C2-D83650991C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72EC-FAB4-4739-A734-3224E270D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31575-6911-4C23-A9EC-A52B1B18D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8574-67CE-4D7A-A186-9F1CA110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7524-0B34-46DC-92EE-488D6731F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583B-154C-4934-B020-C983FA723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25F99-4BF5-480F-8021-22300B74B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7856-B557-4AB5-8DD4-DD9206147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0E676-92E5-4665-97DC-837028464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3A7-5456-477B-B152-7AAC7DE40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7FEF-9062-4552-A306-0F035E8B5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7221-83B7-4A03-A28B-135C9575C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322ED-A310-4A4D-ABDB-030F5F51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1035-92C0-4264-A6A5-03CBD9CCA1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7115-8FDE-4702-ABA2-5C9E37F54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EFCE-2BF5-4D09-A085-3473A7053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5238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NK ROBBER LESTER JOSEPH GILLIS, KNOWN BY THE ALIAS GEORGE NELSON, WAS KNOWN BY WHAT NICK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  INNOCENT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723960" y="762120"/>
            <a:ext cx="7696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83 BILLY JOEL ALBUM WAS A TRIBUTE TO 50'S AND 60'S MUS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GREEN  BER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38080" y="762120"/>
            <a:ext cx="74678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E TO THEIR DISTINCTIVE HEADGEAR, WHAT ARE   THE U.S. ARMY SPECIAL FORCES ALSO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04920" y="4876920"/>
            <a:ext cx="8610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COWBO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676520" y="762120"/>
            <a:ext cx="57909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04920" y="4876920"/>
            <a:ext cx="8458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IO  GRAN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SERVES AS THE BOUNDARY BETWEEN TEXAS AND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7816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ÍO  BRA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XICAN NAME FOR THE PREVIOUS ANSWER, OR A TEX-MEX RESTAURANT CHAIN THAT CLOSED IN 201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ALAM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3352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RATED ATTRACTION IN TEX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AK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333440" y="762120"/>
            <a:ext cx="64771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S IN 1889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1983 BILLY JOEL ALBUM WAS A TRIBUTE TO 50'S AND 60'S MUS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GEC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343080" y="762120"/>
            <a:ext cx="8458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FORM OF PUBLIC TRANSPORT IN THE AMERICAN WEST BEFORE RAILROA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BY  F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67760" indent="-167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914400" y="762120"/>
            <a:ext cx="7315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NK ROBBER LESTER JOSEPH GILLIS, KNOWN BY THE ALIAS GEORGE NELSON, WAS KNOWN BY WHAT NICK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762120" y="4876920"/>
            <a:ext cx="7848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AMES  OF  JOHN  WAYNE  FIL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E TO THEIR DISTINCTIVE HEADGEAR, WHAT ARE THE U.S. ARMY SPECIAL FORCES ALSO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48608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FL TEAM HAD 20 CONSECUTIVE WINNING SEAS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RIVER SERVES AS THE BOUNDARY BETWEEN TEXAS AND MEXIC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XICAN NAME FOR THE PREVIOUS ANSWER, OR A TEX-MEX RESTAURANT CHAIN THAT CLOSED IN 2017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TOP-RATED ATTRACTION IN TEX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U.S. TERRITORY BECAME THE 39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AND 40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STATES IN 1889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2120"/>
            <a:ext cx="83059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MOST POPULAR FORM OF PUBLIC TRANSPORT IN THE AMERICAN WEST BEFORE RAILROA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9T17:15:29Z</dcterms:created>
  <dc:creator>Jennifer Budzinski</dc:creator>
  <dc:description/>
  <dc:language>en-US</dc:language>
  <cp:lastModifiedBy>Erich Friedman</cp:lastModifiedBy>
  <dcterms:modified xsi:type="dcterms:W3CDTF">2020-08-26T18:33:40Z</dcterms:modified>
  <cp:revision>406</cp:revision>
  <dc:subject/>
  <dc:title>Slide 1</dc:title>
</cp:coreProperties>
</file>