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EF70-60A6-40D4-86D2-F5E81CEB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E6F2-814E-44CE-BFEA-2684AEA0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61A-EE7D-43CD-9659-6438DA979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CC46-2408-4A07-AFFD-3CF0A8E0B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A6B9-4C0F-4BE7-9D00-21E475A3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643A-3D41-45A9-A121-35B5224C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B5A7-1E80-4B95-B08B-D561BAD38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3FEC-88CA-4A23-A74B-4EDE773C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5C62-4887-4EBC-81DD-3EF053DDD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687C-2D9A-49D2-8887-88224E45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60A3-41D0-4A28-923B-28EB5BDD6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80DF-898A-4D65-963C-F433BD91E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245-D1AE-4733-B39E-602924A4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F876-9ED8-4F2F-9D9F-C1CA1067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C9E7-C194-4E27-A755-D636D7A0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867C-103E-47A5-A9A2-8CABD34A3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4B9A-0764-468D-B7C5-D8FDABEF0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279E-304A-4B1F-8E43-D59C1539E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987A-7006-4851-BADE-23BDC2EF2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E42-6211-4CBD-BA10-B7B79E67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6153-AA08-4BAD-BA9E-1C5642E9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2FB5-EC30-4420-BC8D-97F191A2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27E4-F536-4CA0-AAE9-6E01F87C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NK ROBBER LESTER JOSEPH GILLIS, KNOWN BY THE ALIAS GEORGE NELSON, WAS KNOWN BY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  INNOCENT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83 BILLY JOEL ALBUM WAS A TRIBUTE TO 50'S AND 60'S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BER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E TO THEIR DISTINCTIVE HEADGEAR, WHAT ARE   THE U.S. ARMY SPECIAL FORCES ALSO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676520" y="762120"/>
            <a:ext cx="5790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O 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SERVES AS THE BOUNDARY BETWEEN TEXAS AND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ÍO  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XICAN NAME FOR THE PREVIOUS ANSWER, OR A TEX-MEX RESTAURANT CHAIN THAT CLOSED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RATED ATTRACTION IN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S IN 18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83 BILLY JOEL ALBUM WAS A TRIBUTE TO 50'S AND 60'S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E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FORM OF PUBLIC TRANSPORT IN THE AMERICAN WEST BEFORE RAILRO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NK ROBBER LESTER JOSEPH GILLIS, KNOWN BY THE ALIAS GEORGE NELSON, WAS KNOWN BY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JOHN  WAYNE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E TO THEIR DISTINCTIVE HEADGEAR, WHAT ARE THE U.S. ARMY SPECIAL FORCES ALSO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8608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SERVES AS THE BOUNDARY BETWEEN TEXAS AND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XICAN NAME FOR THE PREVIOUS ANSWER, OR A TEX-MEX RESTAURANT CHAIN THAT CLOSED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RATED ATTRACTION IN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S IN 18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FORM OF PUBLIC TRANSPORT IN THE AMERICAN WEST BEFORE RAILRO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7:15:29Z</dcterms:created>
  <dc:creator>Jennifer Budzinski</dc:creator>
  <dc:description/>
  <dc:language>en-US</dc:language>
  <cp:lastModifiedBy>Erich Friedman</cp:lastModifiedBy>
  <dcterms:modified xsi:type="dcterms:W3CDTF">2020-08-26T18:33:40Z</dcterms:modified>
  <cp:revision>406</cp:revision>
  <dc:subject/>
  <dc:title>Slide 1</dc:title>
</cp:coreProperties>
</file>