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EF59-FF33-402D-A249-4187B93C6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0085-AE98-4E88-8601-6499B8605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FCEE-A791-44F2-B115-E09C59667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AA2F-83FC-47D5-A983-1A934C092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8464-C920-4AD1-B34B-53AEF4EAD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A315-35E3-49BB-89DF-CB3087A7A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8043-B591-4E6B-9B45-D87EA382A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3EB3-7A4B-435D-9353-01EAEB1D9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3366-48AE-4B13-B907-F10780766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5418-FEB8-4679-9D4A-39F738F58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F501-4D6A-4B8A-BFF0-B29D32437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3CBE-01B0-403F-8522-7377E1219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BA87-BB6C-4A84-AFA3-E0A92AF7C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A6B2-8F9A-4BAF-8029-45F26A743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BF17-6958-4F0E-B683-98C798598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E018-94F9-4F13-B8D4-705255AAE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DC86-EE33-46A9-BA59-DBC87FB7D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9B12-C0BA-47B5-95AE-10B9B9E00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1445-4270-4D13-B24C-CA1591F3D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FCCF-2CAB-42C7-B848-724408A0C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8FC9-B4B6-4DA4-82A6-09E1517F9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4819-C79B-4D97-9781-BAB7883F9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9827-41AA-48D0-A368-424131FD1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ANK ROBBER LESTER JOSEPH GILLIS, KNOWN BY THE ALIAS GEORGE NELSON, WAS KNOWN BY WHAT NICK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  INNOCENT  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1983 BILLY JOEL ALBUM WAS A TRIBUTE TO 50'S AND 60'S MUSI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REEN  BER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E TO THEIR DISTINCTIVE HEADGEAR, WHAT ARE   THE U.S. ARMY SPECIAL FORCES ALSO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04920" y="487692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OWBO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676520" y="762120"/>
            <a:ext cx="5790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TEAM HAD 20 CONSECUTIVE WINNING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O  GRA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IVER SERVES AS THE BOUNDARY BETWEEN TEXAS AND MEXI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781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ÍO  BRA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EXICAN NAME FOR THE PREVIOUS ANSWER, OR A TEX-MEX RESTAURANT CHAIN THAT CLOSED IN 201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ALA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OP-RATED ATTRACTION IN TEX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K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333440" y="762120"/>
            <a:ext cx="6477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TERRITORY BECAME THE 3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4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TATES IN 188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1983 BILLY JOEL ALBUM WAS A TRIBUTE TO 50'S AND 60'S MUSI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GEC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43080" y="762120"/>
            <a:ext cx="8458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ST POPULAR FORM OF PUBLIC TRANSPORT IN THE AMERICAN WEST BEFORE RAILROA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BY  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14400" y="762120"/>
            <a:ext cx="7315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ANK ROBBER LESTER JOSEPH GILLIS, KNOWN BY THE ALIAS GEORGE NELSON, WAS KNOWN BY WHAT NICK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62120" y="4876920"/>
            <a:ext cx="7848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JOHN  WAYNE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E TO THEIR DISTINCTIVE HEADGEAR, WHAT ARE THE U.S. ARMY SPECIAL FORCES ALSO KNOWN 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486080" y="762120"/>
            <a:ext cx="6172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TEAM HAD 20 CONSECUTIVE WINNING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IVER SERVES AS THE BOUNDARY BETWEEN TEXAS AND MEXIC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EXICAN NAME FOR THE PREVIOUS ANSWER, OR A TEX-MEX RESTAURANT CHAIN THAT CLOSED IN 201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OP-RATED ATTRACTION IN TEX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TERRITORY BECAME THE 3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4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TATES IN 188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ST POPULAR FORM OF PUBLIC TRANSPORT IN THE AMERICAN WEST BEFORE RAILROA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9T17:15:29Z</dcterms:created>
  <dc:creator>Jennifer Budzinski</dc:creator>
  <dc:description/>
  <dc:language>en-US</dc:language>
  <cp:lastModifiedBy>Erich Friedman</cp:lastModifiedBy>
  <dcterms:modified xsi:type="dcterms:W3CDTF">2020-08-26T18:33:40Z</dcterms:modified>
  <cp:revision>406</cp:revision>
  <dc:subject/>
  <dc:title>Slide 1</dc:title>
</cp:coreProperties>
</file>