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66E-FB32-4180-924F-6BE27C1D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5B4-F779-49EE-9232-E591D888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266-038A-4AB3-92AC-59F81EB9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B653-FC69-45ED-9C58-2F529229D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7D3-9804-47C1-A763-56B7913C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0C2-A143-4118-9133-734E7622F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FC45-E255-4E69-B789-49286C74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984-C1D7-414B-81DE-4460BF8E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3C01-A6FA-4015-9FD0-5DE0C06F4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6F2-B13D-45CC-82AC-E3D156C0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4A19-053B-49B7-B653-A2BA76C1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A41-955E-40AC-938E-895548167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9FAC-178E-4A67-AD7B-273082E0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356-6FA1-4826-8B8E-A78708C2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99D5-FC1E-4F4D-BA13-157B930C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E670-D467-4557-ADCD-E36568E9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266-4600-4523-B2A8-D70C35C2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F29-274C-4D26-8BA6-F675A188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26F-F7A0-4DCF-BD8D-3CE1B2E4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B902-05ED-4A98-97C5-3BCBE613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B98-61E7-481C-9F89-C0C9E24E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1EE9-BDFB-4B40-9B72-CC65B908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190-B235-49CB-B3FF-0BE68EF30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HANK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REST  G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PRIVATE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LESS  IN  SE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ER  AND  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VERSUS  THE  VOLC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3:26:31Z</dcterms:created>
  <dc:creator>Jennifer Budzinski</dc:creator>
  <dc:description/>
  <dc:language>en-US</dc:language>
  <cp:lastModifiedBy>Erich Friedman</cp:lastModifiedBy>
  <dcterms:modified xsi:type="dcterms:W3CDTF">2020-08-30T14:36:24Z</dcterms:modified>
  <cp:revision>287</cp:revision>
  <dc:subject/>
  <dc:title>Slide 1</dc:title>
</cp:coreProperties>
</file>