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D46E-C35D-4822-9951-75525A3A9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7C33-A488-4632-9683-E2D3C487D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1448-9F95-461C-A6BD-7F469E27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F629-0774-425A-86AD-95761D85F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E07C-2048-43B6-B979-E9087ABE6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6176-DE35-434B-9741-B940D23CA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FF47-DB67-45B1-93CD-CA4CB418A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A21B-C8FB-43AD-BB53-2D45C686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591C-EDEF-4C22-B3E4-A3BB480E7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8161-488C-42F0-A59B-6C4B95E4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68A3-0F9D-48E9-859F-A4AC4C2CE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036-590F-4FC8-9F1E-4D7DDF28B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D7D7-1F1F-45B0-BA32-9047CB3BD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91A9-2B47-4613-B692-5A153337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5F27-B4FA-41CD-A472-851D697B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08B1-ED62-4D69-98C2-3C053DA42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0159-E867-49B3-82E0-0B93E4EF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1F97-3752-43A0-B6A6-31756B079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ECE2-37DC-486C-9772-B6F74BE4C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0243-6039-4DC0-B85E-891403BA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18E2-250D-40AB-BB66-F353A765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5577-7C57-4FF8-9F83-B3E10655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71B1-0792-41ED-9EB3-1A5D1B9C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ONE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RING MICHELLE PFEIFFER AND GEORGE CLOONEY CONTAINS THE WORD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47800" y="762120"/>
            <a:ext cx="7448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THAT WON AN OSCAR FOR BEST PICTURE CONTAINS THE WORD "ONE"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HAPPENED  ON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4 FILM THAT WON AN OSCAR FOR BEST PICTURE CONTAINS THE WORD "ONE"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  FORC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ARRISON FORD FILM CONTAINING THE WORD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HOUR  PH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OBIN WILLIAMS FILM CONTAINING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371600" y="43434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THE  WILD  ONE"  OR  "ONE–EYED  JACK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66840" y="762120"/>
            <a:ext cx="6610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ARLON BRANDO FILMS THAT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CRAZY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ROMANTIC COMEDY STARRING JOHN CUSACK, DEMI MOORE, AND BOBCAT GOLDTHWAIT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ALSE  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THRILLER STARRING BILLY BOB THORNTON AND BILL PAXTON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RICORN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AMES BROLIN, SAM WATERSTON, AND O.J. SIMPSON AS ASTRONAUTS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4 FILM THAT WON AN OSCAR FOR BEST PICTURE CONTAINS THE WORD "ONE"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U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90840" y="762120"/>
            <a:ext cx="5962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FILM CONTAINS "ONE" IN THE TIT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6480" y="4876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IN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RING MICHELLE PFEIFFER AND GEORGE CLOONEY CONTAINS THE WORD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LEW  OVER  THE  CUCKOO'S  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8800" y="762120"/>
            <a:ext cx="7286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THAT WON AN OSCAR FOR BEST PICTURE CONTAINS THE WORD "ONE"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ARRISON FORD FILM CONTAINING THE WORD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OBIN WILLIAMS FILM CONTAINING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ARLON BRANDO FILMS THAT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ROMANTIC COMEDY STARRING JOHN CUSACK, DEMI MOORE, AND BOBCAT GOLDTHWAIT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THRILLER STARRING BILLY BOB THORNTON AND BILL PAXTON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AMES BROLIN, SAM WATERSTON, AND O.J. SIMPSON AS ASTRONAUTS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FILM CONTAINS "ONE" IN THE TITL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22:34:55Z</dcterms:created>
  <dc:creator>Jennifer Budzinski</dc:creator>
  <dc:description/>
  <dc:language>en-US</dc:language>
  <cp:lastModifiedBy>Erich Friedman</cp:lastModifiedBy>
  <dcterms:modified xsi:type="dcterms:W3CDTF">2020-08-30T16:54:33Z</dcterms:modified>
  <cp:revision>373</cp:revision>
  <dc:subject/>
  <dc:title>Slide 1</dc:title>
</cp:coreProperties>
</file>