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6263-B0DC-4915-9564-5A51F54A6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790-124F-4B1C-A45B-881DD3B1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4D41-C24D-4FCB-A8D8-92CE99A0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0980-7C6B-4D50-9B8A-E68D5574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603C-7037-4FCE-A2D2-66330222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C9AF-4EA9-49CE-ADCE-021B0DCFF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8F80-BB03-4F2E-BDBD-DD1BC56F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A66-DD36-4C5E-B3D4-93B9D8D42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BF32-C62E-451D-BCA2-59AAFA97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53D0-5961-4C76-A62D-842A2C65A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E39C-E958-4736-B148-260C4D91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72A5-8F08-4AEB-A6A8-5D64D151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56EC-6D05-4FF6-8206-E95CCEFD0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DE45-896B-48AE-BC09-DFCF767EF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94DE-1541-473B-8688-FDC8C9EE3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5358-B8E4-4A9F-A40E-3847FF6B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A9DD-0E5C-4720-A504-4E223809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50C7-9268-428E-BE05-BF05717DC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9B2F-4FE0-42BF-9811-A052EC98F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62DF-7B53-4758-A1A1-F7C4EB5AF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A85B-BC1C-4E8B-AF66-0C272154F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4AC0-6895-460F-A0A2-8033AF1C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5B1F-9F26-4269-8F8E-B69CD2B44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ON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47800" y="762120"/>
            <a:ext cx="7448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HAPPENED  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HOUR  PH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71600" y="43434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HE  WILD  ONE"  OR  "ONE–EYED  JACK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66840" y="762120"/>
            <a:ext cx="661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CRAZY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ALSE  M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RICORN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4 FILM THAT WON AN OSCAR FOR BEST PICTURE CONTAINS THE WORD "ONE"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U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90840" y="762120"/>
            <a:ext cx="5962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6480" y="4876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INE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RING MICHELLE PFEIFFER AND GEORGE CLOONEY CONTAINS THE WORD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8800" y="762120"/>
            <a:ext cx="7286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THAT WON AN OSCAR FOR BEST PICTURE CONTAINS THE WORD "ONE"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ARRISON FORD FILM CONTAINING THE WORD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OBIN WILLIAMS FILM CONTAINING "ON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ARLON BRANDO FILMS THA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ROMANTIC COMEDY STARRING JOHN CUSACK, DEMI MOORE, AND BOBCAT GOLDTHWAIT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THRILLER STARRING BILLY BOB THORNTON AND BILL PAXTON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JAMES BROLIN, SAM WATERSTON, AND O.J. SIMPSON AS ASTRONAUTS CONTAINS "ON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FILM CONTAINS "ON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4:33Z</dcterms:modified>
  <cp:revision>373</cp:revision>
  <dc:subject/>
  <dc:title>Slide 1</dc:title>
</cp:coreProperties>
</file>