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5476-6C74-4707-BE55-204A8B693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B123-E5A4-40C8-9045-7A7591304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16FE-7EF1-41FE-859F-53DF0D047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A049-8EB0-439A-9608-CA724B134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E23E-3C3C-4ABC-9AD5-27C28A0A3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13C4-C2EE-4D2E-800B-A4C1597B8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94B2-2EEC-4DF0-83BF-4CE4590A2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8673-B849-4384-A142-1802C6DFA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770A-573C-4FEC-B15C-31BD5D955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899C-30B1-4474-8AB2-7511E7E89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D09E-FF68-47EF-8720-B91CBD78D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0BC7-D7CA-4FFA-81DF-B631BDBC9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D898-D985-4B3E-93DF-C5DFBC393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E31D-963A-4716-B54D-57B9C1AE7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BF95-88EF-4C92-9B3C-8432DA103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CB7B-5705-4517-945D-4B42B45EF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0C39-F7D1-481D-BD3A-4889E0E70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4587-923E-4C13-9029-6D2D0B7DF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65FF-4194-4F87-84E4-E7C7928E5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474B-9CB6-44AE-8911-0313CF6EC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ECA4-EDE0-47FA-A0F5-D337446F2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8C52-BFAB-4838-AEB6-72F78F585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2E31-A92E-4A80-A2F7-D6CF605F0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"ONE" FIL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FILM STARRING MICHELLE PFEIFFER AND GEORGE CLOONEY CONTAINS THE WORD "ON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47800" y="762120"/>
            <a:ext cx="7448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FILM THAT WON AN OSCAR FOR BEST PICTURE CONTAINS THE WORD "ONE"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  HAPPENED  ONE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4 FILM THAT WON AN OSCAR FOR BEST PICTURE CONTAINS THE WORD "ONE"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  FORCE 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HARRISON FORD FILM CONTAINING THE WORD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HOUR  PH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ROBIN WILLIAMS FILM CONTAINING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371600" y="43434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"THE  WILD  ONE"  OR  "ONE–EYED  JACK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66840" y="762120"/>
            <a:ext cx="6610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EITHER OF THE TWO MARLON BRANDO FILMS THAT CONTAINS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CRAZY  S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ROMANTIC COMEDY STARRING JOHN CUSACK, DEMI MOORE, AND BOBCAT GOLDTHWAIT CONTAINS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FALSE  M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THRILLER STARRING BILLY BOB THORNTON AND BILL PAXTON CONTAINS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RICORN 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JAMES BROLIN, SAM WATERSTON, AND O.J. SIMPSON AS ASTRONAUTS CONTAINS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4 FILM THAT WON AN OSCAR FOR BEST PICTURE CONTAINS THE WORD "ONE" IN ITS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UE 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590840" y="762120"/>
            <a:ext cx="5962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TAR WARS" FILM CONTAINS "ONE" IN THE TIT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6480" y="48769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FINE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FILM STARRING MICHELLE PFEIFFER AND GEORGE CLOONEY CONTAINS THE WORD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3434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FLEW  OVER  THE  CUCKOO'S  N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28800" y="762120"/>
            <a:ext cx="7286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FILM THAT WON AN OSCAR FOR BEST PICTURE CONTAINS THE WORD "ONE"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HARRISON FORD FILM CONTAINING THE WORD "ON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ROBIN WILLIAMS FILM CONTAINING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EITHER OF THE TWO MARLON BRANDO FILMS THAT CONTAINS "ON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ROMANTIC COMEDY STARRING JOHN CUSACK, DEMI MOORE, AND BOBCAT GOLDTHWAIT CONTAINS "ON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THRILLER STARRING BILLY BOB THORNTON AND BILL PAXTON CONTAINS "ON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JAMES BROLIN, SAM WATERSTON, AND O.J. SIMPSON AS ASTRONAUTS CONTAINS "ON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TAR WARS" FILM CONTAINS "ONE" IN THE TITL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8T22:34:55Z</dcterms:created>
  <dc:creator>Jennifer Budzinski</dc:creator>
  <dc:description/>
  <dc:language>en-US</dc:language>
  <cp:lastModifiedBy>Erich Friedman</cp:lastModifiedBy>
  <dcterms:modified xsi:type="dcterms:W3CDTF">2020-08-30T16:54:33Z</dcterms:modified>
  <cp:revision>373</cp:revision>
  <dc:subject/>
  <dc:title>Slide 1</dc:title>
</cp:coreProperties>
</file>