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1344-31E2-4F50-97C3-B04542860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E15D-9F81-42BE-94F4-9F063486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F120-93AD-435A-9337-27BC3D8AC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E97E-F5F4-423D-969A-F32902180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D10C-0E83-478B-AB6B-984351E98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F779-933E-420E-BAF1-3747965A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7A6D-A03E-4349-B8B4-27656321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784-6B94-4990-9735-25E859A9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D047-3D43-416E-B854-B2FC0FA44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2395-7A87-4DBC-8E9A-3E8CB8F04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DD7-8E4B-40F8-B80B-ED92BA4B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6FBC-470F-4A7D-8781-6D355262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935B-0FBD-4835-9027-CFF6A5072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33F1-8B94-4F12-AE82-E5E4EC9AC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5185-EB34-42F6-81C1-E120A7FB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0A42-A90E-41E2-8851-C86168729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95F0-1F73-4BE4-8145-CAF98E7A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A7A2-87ED-44D1-918B-C1D2D72A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4249-808F-452A-B0B6-9BE1058E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96DF-E1B3-4B24-8680-74202EE0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957-E494-462D-92B9-8CC9573F0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F177-B014-434C-8440-1773FE299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4291-15FF-466B-9670-D867CBA1E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LMS DO THESE QUOTES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CENSUS TAKER ONCE TRIED TO TEST ME.  I ATE HIS LIVER WITH SOME FAVA BEANS AND A NICE CHIANT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'T HANDLE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REST  G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MA ALWAYS SAID LIFE WAS LIKE A BOX OF CHOCOLA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XTH 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SEE DEAD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REETCAR  NAMED 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ELLA!  HEY, STELLA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TY  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9056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VE GOT TO ASK YOURSELF ONE QUESTION: 'DO I FEEL LUCKY?' WELL, DO YA, PUNK?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EAGUE  OF  THEIR  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562040" y="7621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'S NO CRYING IN BASE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62120"/>
            <a:ext cx="60199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BOY'S BEST FRIEND IS HIS M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752480" y="762120"/>
            <a:ext cx="56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Y 'HELLO' TO MY LITTLE FRI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MA ALWAYS SAID LIFE WAS LIKE A BOX OF CHOCOLA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, ADR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LENCE  OF  THE  LA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CENSUS TAKER ONCE TRIED TO TEST ME.  I ATE HIS LIVER WITH SOME FAVA BEANS AND A NICE CHIANT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EW  GOO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86080" y="762120"/>
            <a:ext cx="6172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'T HANDLE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SEE DEAD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ELLA!  HEY, STELLA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VE GOT TO ASK YOURSELF ONE QUESTION: 'DO I FEEL LUCKY?' WELL, DO YA, PUNK?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'S NO CRYING IN BASEB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BOY'S BEST FRIEND IS HIS MO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Y 'HELLO' TO MY LITTLE FRIE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, ADR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8:32:55Z</dcterms:created>
  <dc:creator>Jennifer Budzinski</dc:creator>
  <dc:description/>
  <dc:language>en-US</dc:language>
  <cp:lastModifiedBy>Erich Friedman</cp:lastModifiedBy>
  <dcterms:modified xsi:type="dcterms:W3CDTF">2020-08-30T16:55:21Z</dcterms:modified>
  <cp:revision>338</cp:revision>
  <dc:subject/>
  <dc:title>Slide 1</dc:title>
</cp:coreProperties>
</file>