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EAFC-6492-4656-942D-6410AD440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37FE-AB0B-46B6-87BE-D28540751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123C-14A7-4E0C-BF01-711079E88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14D8-4C98-4A9B-8AD5-3A766F4BA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46DF-15CA-452E-AE68-F6A11D534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44730-71CD-46A9-BF96-A8264D592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347C-0C67-4979-8655-8EA63DD62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4436-0EED-49B2-A4A5-78180AB88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6DD3-C77E-474A-8EF2-09916D0DF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C512-FB8A-4312-9C34-F8CC5B6AD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594C-E32E-4843-9F55-6BBE11298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867F-0897-496D-8085-F38E5F97C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FF07-9B12-4B16-82D7-1710C88CE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3D12-B0B9-44A5-ACF3-FA4020724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1FE4-5003-454F-8CA2-EDCBAD049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A82A-28AA-4510-BE24-CD0F6DA23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2A99-1257-4E00-94E6-287960FF4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DB8A-EA1F-4CFE-8F02-82BD8C30E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3D5B-ECF6-4E7F-BA9C-0C37683B7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02EB-9895-455F-9FB8-101BA8B79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1478-5C53-4A94-BB25-563F44493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4427-DF1E-42CE-B7D7-77E78FDBB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2F09-F235-4BCA-99CB-493998F5F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0666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FILMS DO THESE QUOTES COME FROM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CENSUS TAKER ONCE TRIED TO TEST ME.  I ATE HIS LIVER WITH SOME FAVA BEANS AND A NICE CHIANT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486080" y="762120"/>
            <a:ext cx="6172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CAN'T HANDLE THE TRU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REST  G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MA ALWAYS SAID LIFE WAS LIKE A BOX OF CHOCOLAT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IXTH  S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SEE DEAD PEOP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STREETCAR  NAMED  DES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TELLA!  HEY, STELLA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RTY  HA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62120" y="79056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'VE GOT TO ASK YOURSELF ONE QUESTION: 'DO I FEEL LUCKY?' WELL, DO YA, PUNK?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LEAGUE  OF  THEIR  OW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562040" y="7621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RE'S NO CRYING IN BASEB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SY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62040" y="762120"/>
            <a:ext cx="60199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BOY'S BEST FRIEND IS HIS MOTH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AR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752480" y="762120"/>
            <a:ext cx="5639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Y 'HELLO' TO MY LITTLE FRIE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MAMA ALWAYS SAID LIFE WAS LIKE A BOX OF CHOCOLAT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, ADRI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ILENCE  OF  THE  LA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CENSUS TAKER ONCE TRIED TO TEST ME.  I ATE HIS LIVER WITH SOME FAVA BEANS AND A NICE CHIANT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FEW  GOOD  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486080" y="762120"/>
            <a:ext cx="6172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 CAN'T HANDLE THE TRU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SEE DEAD PEOP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TELLA!  HEY, STELLA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U'VE GOT TO ASK YOURSELF ONE QUESTION: 'DO I FEEL LUCKY?' WELL, DO YA, PUNK?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62040" y="761760"/>
            <a:ext cx="6019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RE'S NO CRYING IN BASEB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485720" y="761760"/>
            <a:ext cx="6172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A BOY'S BEST FRIEND IS HIS MOTH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828800" y="761760"/>
            <a:ext cx="5486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Y 'HELLO' TO MY LITTLE FRIE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YO, ADRI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05T18:32:55Z</dcterms:created>
  <dc:creator>Jennifer Budzinski</dc:creator>
  <dc:description/>
  <dc:language>en-US</dc:language>
  <cp:lastModifiedBy>Erich Friedman</cp:lastModifiedBy>
  <dcterms:modified xsi:type="dcterms:W3CDTF">2020-08-30T16:55:21Z</dcterms:modified>
  <cp:revision>338</cp:revision>
  <dc:subject/>
  <dc:title>Slide 1</dc:title>
</cp:coreProperties>
</file>