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881A-531B-41AA-9BD7-C491AC6B5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4562-93CA-4E69-A14F-0167668D1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51D3-2948-4B9B-B433-F6A60A3F8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6CAE-38B9-462A-83FD-695F17E5B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087C-55CE-427B-96A3-D3D811CD6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7037-3D73-4281-B72F-D09992D70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2E74-B845-4EC6-AA6F-E85C7AB33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0570-4DC3-4A3B-BC4C-240E74858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244A-F026-460C-8F38-414E117A6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CCF8-E656-42BA-9871-76E429870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BFC4-67B4-496E-9056-16B8AF7F1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A866-8991-4301-B0B4-C54FAB97D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4FC7-76B7-4462-86E4-D2C0AFC1A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0118-1FA8-4C17-94DC-A54E4BDB9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3C2C-B13A-4506-AC66-C04308D9D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459D-CA45-4BAF-8ED6-C98113C92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11A4-FB10-458C-8EB9-33CD75C2B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52B5-4F9D-4CEB-9B65-89E93A7E4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57D0-C96D-4F88-9871-A61588470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3E36-064E-4E04-B730-FD27D8136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2BB1-985C-4612-9DB9-20B6CC42E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13CA-0A80-44FD-98D7-F2B1E3D59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7733-4E8B-4517-8670-4677DFEB5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847880" y="1066680"/>
            <a:ext cx="5448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ROPRIATE FILM ANAGRA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43080" y="762120"/>
            <a:ext cx="665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ASSIC 1946 FILM HAS ANAGRAM "WIFE,    I LOST REAL FU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4 DISASTER FILM HAS ANAGRAM "NOT WORTH FIRE ENG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CTOBER  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FILM HAS ANAGRAM "ROCKET BOY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ING  TO  AME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 EDDIE MURPHY FILM HAS ANAGRAM "A CINEMATIC GROO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  AL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MACAULAY CULKIN FILM HAS ANAGRAM "OH, ONE MA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TURN  OF  THE  JE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98440" y="762120"/>
            <a:ext cx="67471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-FI FILM HAS THE ANAGRAM "FETT INJURED HER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H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95320" y="762120"/>
            <a:ext cx="7353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0 JACK NICHOLSON FILM HAS ANAGRAM "HIGHEST IN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HAWSHANK  REDEM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TIM ROBBINS FILM HAS ANAGRAM "TIM TAKEN, SHOWED HARSH P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952560" y="4876920"/>
            <a:ext cx="7238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DERS  OF  THE   LOST  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9640" y="762120"/>
            <a:ext cx="7524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 ADVENTURE  FILM HAS ANAGRAM "FORD, THE REAL STAR, IS O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FILM HAS ANAGRAM "ROCKET BOY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ILENCE  OF  THE  LAM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52320" y="762120"/>
            <a:ext cx="7839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THRILLER FILM HAS ANAGRAM "THE CON BITES MALE FLES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'S  A  WONDERFUL 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95280" y="762120"/>
            <a:ext cx="6553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ASSIC 1946 FILM HAS ANAGRAM "WIFE,    I LOST REAL FU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OWERING  INFER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19000" y="762120"/>
            <a:ext cx="7506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4 DISASTER FILM HAS ANAGRAM "NOT WORTH FIRE ENG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 EDDIE MURPHY FILM HAS ANAGRAM "A CINEMATIC GROO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MACAULAY CULKIN FILM HAS ANAGRAM "OH, ONE MA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362240" y="762120"/>
            <a:ext cx="64195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-FI FILM HAS THE ANAGRAM "FETT INJURED HER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61840" y="762120"/>
            <a:ext cx="742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0 JACK NICHOLSON FILM HAS ANAGRAM "HIGHEST IN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TIM ROBBINS FILM HAS ANAGRAM "TIM TAKEN, SHOWED HARSH P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28720" y="762120"/>
            <a:ext cx="7486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 ADVENTURE FILM HAS ANAGRAM "FORD, THE REAL STAR, IS O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THRILLER FILM HAS ANAGRAM "THE CON BITES MALE FLES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08-30T16:55:59Z</dcterms:modified>
  <cp:revision>427</cp:revision>
  <dc:subject/>
  <dc:title>Slide 1</dc:title>
</cp:coreProperties>
</file>