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C0D4-85A4-4B8E-A3B8-7CD157357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EBCB-7F13-4114-A2D9-BF510B0C6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1417-A1BF-4584-A181-0E9578AAB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E994-B2FB-423F-98F5-E2AB715F1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0788-3A2E-48EB-B3C0-37CE3B8D1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ECF5-F12C-4D0B-9B01-9B61DF0C3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BA2C-F2D7-4497-8617-3D5CCF3B8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B92D-6ABA-46A9-8BD4-7EF30059A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5A40-F296-44D0-BF46-C7DD9CC6B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E9F6-3FC5-4ED1-A6BA-9408384F1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90D1-6A6A-4C50-B4DE-8E3455D03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4765-DB87-4FED-A498-D5B2FE192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2F94-B606-4DD1-B073-44A9F4C76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7A5E-E227-4C1A-8B48-4CE47B5F0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593C-17B5-4D2E-904D-63AAC17A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EA38-D705-4107-A1D9-47D33C2D9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E118-E109-45AA-BC6C-19AACE92E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6C75-2B90-40BD-A696-828E9E8ED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8622-698E-4261-A0A0-483C57978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ED4E-00BE-4CE4-887E-B8CD2CEF0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A920-49D6-4B22-9928-65EE9B4FF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2A03-02CD-49EB-9CE2-64A710A75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CB30-5CDC-4CCA-AF1A-E38616C5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47880" y="1066680"/>
            <a:ext cx="5448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ROPRIATE FILM ANA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43080" y="762120"/>
            <a:ext cx="665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C 1946 FILM HAS ANAGRAM "WIFE,    I LOST REAL FU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DISASTER FILM HAS ANAGRAM "NOT WORTH FIRE ENG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OBER 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HAS ANAGRAM "ROCKET BO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ING  TO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EDDIE MURPHY FILM HAS ANAGRAM "A CINEMATIC GRO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 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MACAULAY CULKIN FILM HAS ANAGRAM "OH, ONE M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TURN  OF  THE  J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98440" y="762120"/>
            <a:ext cx="6747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-FI FILM HAS THE ANAGRAM "FETT INJURED H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JACK NICHOLSON FILM HAS ANAGRAM "HIGHEST IN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AWSHANK  REDE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TIM ROBBINS FILM HAS ANAGRAM "TIM TAKEN, SHOWED HARSH P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52560" y="4876920"/>
            <a:ext cx="723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9640" y="762120"/>
            <a:ext cx="7524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ADVENTURE  FILM HAS ANAGRAM "FORD, THE REAL STAR, IS O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HAS ANAGRAM "ROCKET BO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LENCE  OF  THE  LA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2320" y="762120"/>
            <a:ext cx="7839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THRILLER FILM HAS ANAGRAM "THE CON BITES MALE FLE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A  WONDERFUL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C 1946 FILM HAS ANAGRAM "WIFE,    I LOST REAL F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WERING  INF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19000" y="762120"/>
            <a:ext cx="7506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DISASTER FILM HAS ANAGRAM "NOT WORTH FIRE ENG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EDDIE MURPHY FILM HAS ANAGRAM "A CINEMATIC GRO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MACAULAY CULKIN FILM HAS ANAGRAM "OH, ONE M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62240" y="762120"/>
            <a:ext cx="64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-FI FILM HAS THE ANAGRAM "FETT INJURED HE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JACK NICHOLSON FILM HAS ANAGRAM "HIGHEST IN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TIM ROBBINS FILM HAS ANAGRAM "TIM TAKEN, SHOWED HARSH P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28720" y="762120"/>
            <a:ext cx="74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ADVENTURE FILM HAS ANAGRAM "FORD, THE REAL STAR, IS O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THRILLER FILM HAS ANAGRAM "THE CON BITES MALE FLE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30T16:55:59Z</dcterms:modified>
  <cp:revision>427</cp:revision>
  <dc:subject/>
  <dc:title>Slide 1</dc:title>
</cp:coreProperties>
</file>