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C0B-615C-4C7E-9172-DB94FE01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9DD-1D56-4DA8-B348-2829D0A3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EE6-F9F3-4002-B8C0-05C87F4D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5CE-5A11-46B2-AC99-4BDBDD56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D9AB-7260-4E31-9FC6-0E21D722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3F3-8966-479B-99A5-6683FAFC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1915-76E6-4B40-B56A-9B087E17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FE4-6404-4EE0-B5FD-6E624CA5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1C9-66A8-4D05-866F-BAA2128A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C860-2B02-493A-869B-F008D01A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DEE-7AA5-4933-BCB4-E7EB39F3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7F99-AF4F-43FA-BFBD-46178B72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98E8-36F7-47F4-8E0C-FAEBEC421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4058-1910-4B6B-80C1-EB6123A6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0CC-732B-4C7D-ABDF-8928E30D0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9D2-23CC-4DEE-8115-E8A63DEE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6B71-8CE9-4B8D-81FF-CB334E33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F282-B867-4C57-8C09-CF469BAD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C40D-A864-471A-AE38-E1300291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79D0-964A-44DD-A24A-7B2872EA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C62-7141-439C-ADB3-11AD94875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997-AF07-41B0-8713-57117E11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448-39E5-4902-8062-7647AC4F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43080" y="762120"/>
            <a:ext cx="665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BER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ING  TO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  OF  THE  J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WSHANK  REDE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 FILM HAS ANAGRAM "FORD, THE REAL STAR, IS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  WONDERFUL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WERING  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62240" y="762120"/>
            <a:ext cx="64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FILM HAS ANAGRAM "FORD, THE REAL STAR, IS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5:59Z</dcterms:modified>
  <cp:revision>427</cp:revision>
  <dc:subject/>
  <dc:title>Slide 1</dc:title>
</cp:coreProperties>
</file>