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BEDD1-3A3C-4A70-B5F9-AC0508A78B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C717D-D7B2-4822-9BDE-D7E06261CA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0F5D3-CD74-4639-AA7D-349AD06AF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3D23D-91BC-44D0-A76E-96B20C823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053D9-23F7-4A12-A349-9075E847E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66D82-EEB2-45BA-9CEE-D74995CBB3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FD601-422B-4AC2-919F-A123E97739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E0EF3-C2BE-4488-AF2A-F94909F9B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99E54-18B9-43A4-9F71-CA1C3390F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8439B-BEDA-48D1-9AC9-78777D25C1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D50BF-FFE0-4191-9D13-A37EF7276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9FF62-5BCE-4EE1-BD7C-DD8B655A7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AE36B-AC34-4AE9-A347-5DB78DD84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67B1D-FA28-49A6-9A82-346213F01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7FA0B-5F7E-4DF1-A98D-5083C2A14D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C861D-1C29-47CD-8629-B2E80087B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ACDA6-884C-44EC-A4E3-AD0872AC35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90536-F1F0-4847-A847-465CAFD7CB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E8B04-1D23-4F25-A255-00068A7FA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00A80-82AF-4924-9904-E979EBF8B3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642C1-652C-45AF-95F1-DA57E0E4B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12086-BB50-4163-9EA0-DE1D2BAD1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553F4-4873-4E73-A08C-D497A3316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847880" y="1066680"/>
            <a:ext cx="5448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PPROPRIATE FILM ANAGRA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420920" y="762120"/>
            <a:ext cx="6300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2 QUENTIN TARANTINO HEIST FILM HAS ANAGRAM "DRESS GROOVI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0 CHRISTOPHER GUEST MOCKUMENTARY HAS ANAGRAM "WHITE SNOB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MALTESE  FALC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14440" y="762120"/>
            <a:ext cx="8115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SCAR-NOMINATED 1941 FILM NOIR HAS ANAGRAM "SAM, LOCATE LEFT HE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DE  RUN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76280" y="762120"/>
            <a:ext cx="81914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2 HARRISON FORD SCI-FI BOX OFFICE BOMB HAS ANAGRAM "NEAR BLUND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AVENG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552600" y="762120"/>
            <a:ext cx="80388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2 SUPERHERO FILM WITH LOTS OF ACTION HAS ANAGRAM "SEVENTH GEA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XTEEN  CAND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198440" y="762120"/>
            <a:ext cx="67471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4 JOHN HUGHES FILM HAS THE ANAGRAM "CLANDESTINE SEX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838080" y="4886280"/>
            <a:ext cx="74678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PASSION  OF  THE  CHR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95320" y="762120"/>
            <a:ext cx="73533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IGHEST-GROSSING R-RATED FILM OF ALL TIME HAS ANAGRAM "FATHER-SON THEISTIC SHOP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MERICAN  PSYC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33520" y="762120"/>
            <a:ext cx="8076960" cy="31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0 CHRISTIAN BALE HORROR FILM HAS ANAGRAM "MAY I SCARE 'N' CHOP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952560" y="4876920"/>
            <a:ext cx="7238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MAGEDD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42880" y="762120"/>
            <a:ext cx="80582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8 BRUCE WILLIS DISASTER FILM HAS ANAGRAM "DEAR GOD, M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SCAR-NOMINATED 1941 FILM NOIR HAS ANAGRAM "SAM, LOCATE LEFT HE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77720" y="762120"/>
            <a:ext cx="8186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1 ROBIN WILLIAMS FILM HAS ANAGRAM "OH, O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SERVOIR  DO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447920" y="762120"/>
            <a:ext cx="6248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2 QUENTIN TARANTINO HEIST FILM HAS ANAGRAM "DRESS GROOVI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10484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ST  IN  SH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61960" y="762120"/>
            <a:ext cx="80200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0 CHRISTOPHER GUEST MOCKUMENTARY HAS ANAGRAM "WHITE SNOB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2 HARRISON FORD SCI-FI BOX OFFICE BOMB HAS ANAGRAM "NEAR BLUND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571680" y="762120"/>
            <a:ext cx="8001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2 SUPERHERO FILM WITH LOTS OF ACTION HAS ANAGRAM "SEVENTH GEA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138320" y="762120"/>
            <a:ext cx="686736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4 JOHN HUGHES FILM HAS THE ANAGRAM "CLANDESTINE SEX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61840" y="762120"/>
            <a:ext cx="7420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IGHEST-GROSSING R-RATED FILM OF ALL TIME HAS ANAGRAM "FATHER-SON THEISTIC SHOP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14440" y="761760"/>
            <a:ext cx="8115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0 CHRISTIAN BALE HORROR FILM HAS ANAGRAM "MAY I SCARE 'N' CHOP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66640" y="762120"/>
            <a:ext cx="8010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8 BRUCE WILLIS DISASTER FILM HAS ANAGRAM "DEAR GOD, MA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28760" y="762120"/>
            <a:ext cx="8286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1 ROBIN WILLIAMS FILM HAS ANAGRAM "OH, O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0T18:45:38Z</dcterms:created>
  <dc:creator>Jennifer Budzinski</dc:creator>
  <dc:description/>
  <dc:language>en-US</dc:language>
  <cp:lastModifiedBy>Erich Friedman</cp:lastModifiedBy>
  <dcterms:modified xsi:type="dcterms:W3CDTF">2020-08-30T16:56:37Z</dcterms:modified>
  <cp:revision>429</cp:revision>
  <dc:subject/>
  <dc:title>Slide 1</dc:title>
</cp:coreProperties>
</file>