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A6A3-A08F-4724-AB77-332FD32AA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C656-27E5-443B-88CB-E6C57ADF4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C225-78D8-46DD-87EA-51EC8C18C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3D7B-0E41-4A3D-90C0-883634584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F59E-08F7-40DF-B1F9-82243B948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1056-321D-4D1F-B688-08EF616A0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AAF0-51E2-4D9A-A107-2C27B94F9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A53C-EE1C-49E3-B46C-6F0B6CFE4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F6F0-D838-4C00-8E9A-D7774B6C1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DC91-EB3C-409A-B2CA-A4011688B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86AC-E6CB-449A-BBE5-E12DE66BD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64A3-3A60-420F-A9E6-0E9929C04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FD6B-CFFE-43FC-8F82-C0FB127AF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0C71-7A2B-41DC-944B-84B54DAA4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93C8-739C-4CFB-BD1D-331EAFDD4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AA36-F2E8-42CF-BBC1-635080009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5BF5-2CA1-4F4A-9C2C-909888697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D70E-3938-4490-A695-BEB8594EC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7147-7565-4524-A147-E6A9C6987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1A33-2C5D-4330-A91E-43B7B177B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3CCA-E3D4-4C0A-8E8A-35812CFBB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7905-1734-4B67-819F-F07FFF409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08F2-8B2E-4F26-86CB-D143BB1B5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847880" y="1066680"/>
            <a:ext cx="5448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PPROPRIATE FILM ANAGRA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420920" y="762120"/>
            <a:ext cx="6300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QUENTIN TARANTINO HEIST FILM HAS ANAGRAM "DRESS GROOVI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CHRISTOPHER GUEST MOCKUMENTARY HAS ANAGRAM "WHITE SNOB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ALTESE  FALC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14440" y="762120"/>
            <a:ext cx="8115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SCAR-NOMINATED 1941 FILM NOIR HAS ANAGRAM "SAM, LOCATE LEFT H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DE  RU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76280" y="762120"/>
            <a:ext cx="8191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2 HARRISON FORD SCI-FI BOX OFFICE BOMB HAS ANAGRAM "NEAR BLUND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VEN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52600" y="762120"/>
            <a:ext cx="8038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2 SUPERHERO FILM WITH LOTS OF ACTION HAS ANAGRAM "SEVENTH GE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XTEEN  CAND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98440" y="762120"/>
            <a:ext cx="67471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JOHN HUGHES FILM HAS THE ANAGRAM "CLANDESTINE SEX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838080" y="4886280"/>
            <a:ext cx="7467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ASSION  OF  THE  CHR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95320" y="762120"/>
            <a:ext cx="7353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GHEST-GROSSING R-RATED FILM OF ALL TIME HAS ANAGRAM "FATHER-SON THEISTIC SHO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N  PSY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1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CHRISTIAN BALE HORROR FILM HAS ANAGRAM "MAY I SCARE 'N' CHO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952560" y="4876920"/>
            <a:ext cx="7238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MAGEDD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42880" y="762120"/>
            <a:ext cx="8058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BRUCE WILLIS DISASTER FILM HAS ANAGRAM "DEAR GOD,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SCAR-NOMINATED 1941 FILM NOIR HAS ANAGRAM "SAM, LOCATE LEFT H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77720" y="762120"/>
            <a:ext cx="8186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ROBIN WILLIAMS FILM HAS ANAGRAM "OH, O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SERVOIR  DO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447920" y="762120"/>
            <a:ext cx="6248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QUENTIN TARANTINO HEIST FILM HAS ANAGRAM "DRESS GROOVI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ST  IN  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61960" y="762120"/>
            <a:ext cx="8020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CHRISTOPHER GUEST MOCKUMENTARY HAS ANAGRAM "WHITE SNOB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2 HARRISON FORD SCI-FI BOX OFFICE BOMB HAS ANAGRAM "NEAR BLUND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71680" y="762120"/>
            <a:ext cx="800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2 SUPERHERO FILM WITH LOTS OF ACTION HAS ANAGRAM "SEVENTH GE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38320" y="762120"/>
            <a:ext cx="68673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JOHN HUGHES FILM HAS THE ANAGRAM "CLANDESTINE SEX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61840" y="762120"/>
            <a:ext cx="7420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GHEST-GROSSING R-RATED FILM OF ALL TIME HAS ANAGRAM "FATHER-SON THEISTIC SHO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14440" y="761760"/>
            <a:ext cx="8115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CHRISTIAN BALE HORROR FILM HAS ANAGRAM "MAY I SCARE 'N' CHO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66640" y="762120"/>
            <a:ext cx="8010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BRUCE WILLIS DISASTER FILM HAS ANAGRAM "DEAR GOD,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28760" y="762120"/>
            <a:ext cx="8286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ROBIN WILLIAMS FILM HAS ANAGRAM "OH, O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8:45:38Z</dcterms:created>
  <dc:creator>Jennifer Budzinski</dc:creator>
  <dc:description/>
  <dc:language>en-US</dc:language>
  <cp:lastModifiedBy>Erich Friedman</cp:lastModifiedBy>
  <dcterms:modified xsi:type="dcterms:W3CDTF">2020-08-30T16:56:37Z</dcterms:modified>
  <cp:revision>429</cp:revision>
  <dc:subject/>
  <dc:title>Slide 1</dc:title>
</cp:coreProperties>
</file>