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6F2B-5741-4F95-983D-343D2905B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DA30-60C3-4062-AECA-A6B97B333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1BED-892D-4F0A-8FB3-1F5964543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0DF7-F9A5-47F4-A50E-99E42342D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C2B5-EDAE-4DCE-BE3A-0724259D4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967C-C4DD-4F57-A2E7-4BCAD081C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A91C-CCBE-4EE3-84C5-04C1B8ABD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6326-AFDD-409E-93C6-0738B8B43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4DDD-3D92-4E05-9D16-7E6DF32DC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CAEF0-BF52-486C-A8D5-68EB5B9A4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1B12-1592-4F29-9195-D6E522EEA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09ED-040A-4792-9C05-D6DAFB9AA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CB90-B5AD-4C0C-8905-6034FCEC6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84BA-F650-4467-98A1-6AAB85A9B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8EF5-E0E0-4F2F-91A3-16934AB83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F5A6-36D0-497F-A0A6-7A458C8C4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4F5C-C913-4D12-AA6E-911888696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0AAD-5B11-46A7-A70C-379E30ADE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6115-0EC5-45FB-8B0A-E2DB4232A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F295-C017-4AE8-8379-97D5E4092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F439-885C-4D6D-8C1B-FB4969A24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4233-2BD6-4BC9-864B-3405415B4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9AFE-0A18-4A8B-9681-7FC9E9694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47880" y="1066680"/>
            <a:ext cx="5448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PROPRIATE FILM ANAGRA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20920" y="762120"/>
            <a:ext cx="63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QUENTIN TARANTINO HEIST FILM HAS ANAGRAM "DRESS GROOVI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HRISTOPHER GUEST MOCKUMENTARY HAS ANAGRAM "WHITE SNO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LTESE  FAL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14440" y="762120"/>
            <a:ext cx="811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NOMINATED 1941 FILM NOIR HAS ANAGRAM "SAM, LOCATE LEFT H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DE  RU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76280" y="762120"/>
            <a:ext cx="8191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HARRISON FORD SCI-FI BOX OFFICE BOMB HAS ANAGRAM "NEAR BLUN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VEN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52600" y="762120"/>
            <a:ext cx="8038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SUPERHERO FILM WITH LOTS OF ACTION HAS ANAGRAM "SEVENTH GE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XTEEN  CAND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98440" y="762120"/>
            <a:ext cx="67471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JOHN HUGHES FILM HAS THE ANAGRAM "CLANDESTINE SEX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838080" y="4886280"/>
            <a:ext cx="7467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SSION  OF  THE 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GHEST-GROSSING R-RATED FILM OF ALL TIME HAS ANAGRAM "FATHER-SON THEISTIC SH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PSY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1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HRISTIAN BALE HORROR FILM HAS ANAGRAM "MAY I SCARE 'N' CH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52560" y="4876920"/>
            <a:ext cx="7238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AGED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42880" y="762120"/>
            <a:ext cx="805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BRUCE WILLIS DISASTER FILM HAS ANAGRAM "DEAR GOD,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-NOMINATED 1941 FILM NOIR HAS ANAGRAM "SAM, LOCATE LEFT H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7720" y="762120"/>
            <a:ext cx="8186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ROBIN WILLIAMS FILM HAS ANAGRAM "OH, O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SERVOIR  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QUENTIN TARANTINO HEIST FILM HAS ANAGRAM "DRESS GROOVI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ST  IN  S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61960" y="762120"/>
            <a:ext cx="8020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HRISTOPHER GUEST MOCKUMENTARY HAS ANAGRAM "WHITE SNO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HARRISON FORD SCI-FI BOX OFFICE BOMB HAS ANAGRAM "NEAR BLUN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SUPERHERO FILM WITH LOTS OF ACTION HAS ANAGRAM "SEVENTH GE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38320" y="762120"/>
            <a:ext cx="68673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JOHN HUGHES FILM HAS THE ANAGRAM "CLANDESTINE SEX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61840" y="762120"/>
            <a:ext cx="742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GHEST-GROSSING R-RATED FILM OF ALL TIME HAS ANAGRAM "FATHER-SON THEISTIC SH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HRISTIAN BALE HORROR FILM HAS ANAGRAM "MAY I SCARE 'N' CH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66640" y="762120"/>
            <a:ext cx="8010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BRUCE WILLIS DISASTER FILM HAS ANAGRAM "DEAR GOD,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28760" y="762120"/>
            <a:ext cx="8286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ROBIN WILLIAMS FILM HAS ANAGRAM "OH, O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08-30T16:56:37Z</dcterms:modified>
  <cp:revision>429</cp:revision>
  <dc:subject/>
  <dc:title>Slide 1</dc:title>
</cp:coreProperties>
</file>