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DF9C-58F3-4729-9D1F-A07AF047B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BD25-BFDE-4A26-9D89-FC4EA6EB6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9DAD-86CA-41EF-92B2-45DED5846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DADD-B9D9-4B7D-8A01-547EF8104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EA4F-9AF2-4EFD-8F02-589BB36D2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F4EC-35C6-4AE1-9C3A-E5BC4AB00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8A26-A5B2-41C8-A60E-595872F8C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5A81-7EA4-4702-A2F1-77966109B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EE93-C36B-4E19-8C88-8E9FA08D8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6BF3-E21E-4470-B259-3D3210A85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3AC3-F4A2-4BA1-AAF0-249973155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73DD-1E45-4392-BC34-F8AB46464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E303-D312-44F7-98F7-A8125C465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C0FE-65E6-4D29-B88F-CBE56136E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6250-4435-4E7A-A084-E40A3C211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343A-B596-4E81-8469-CA54DA38B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E999-BC07-47C8-9722-840584688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6D88-DD7F-47E3-916E-A2B8A8330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02BB-8046-416E-9A35-095BB85A4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B298-AA39-49BE-A77B-7793F3E56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7DC7-242C-4E7D-B916-C20C107E1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F877-0C1B-4319-975A-AFF3550E5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BB2F-8D1B-4BEF-8767-EAF08A73D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714320" y="1523880"/>
            <a:ext cx="5715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"RUN" FIL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52520" y="761760"/>
            <a:ext cx="643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FILM WITH "RUN" IN THE TITLE IS ABOUT THE JAMAICAN BOBSLED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FILM WITH "RUN" IN THE TITLE STARRED BILLY CRYSTAL AND GREGORY HINES AS CHICAGO POLICE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ME  CAME  RU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66720" y="762120"/>
            <a:ext cx="7810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8 FILM WITH "RUN" IN THE TITLE STARRED DEAN MARTIN, FRANK SINATRA,   AND SHIRLEY MACLA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UNNING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WITH "RUN" IN THE TITLE DOES ARNOLD SCHWARZENEGGER ESCAPE A DEADLY GAM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8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NNONBALL 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FILM WITH "RUN" IN THE TITLE STARRED BURT REYNOLDS, ROGER MOORE, AND FARAH FAWCE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484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RIVER  RUNS  THROUGH 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WITH "RUN" IN THE TITLE STARRED BRAD PITT AS A REBELLIOUS SON IN THE 192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KEN 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46120" y="762120"/>
            <a:ext cx="8051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FILM WITH "RUN" IN THE TITLE ABOUT ESCAPING A FARM WAS THE HIGHEST GROSSING STOP ACTION ANIMATED FILM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GAN'S 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66720" y="762120"/>
            <a:ext cx="7810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6 FILM WITH "RUN" IN THE TITLE WAS ABOUT ESCAPING A FUTURISTIC SOCIETY WHERE EVERYONE IS KILLED AT AGE 3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  ALL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85760" y="762120"/>
            <a:ext cx="6972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MOB MOVIE WITH "RUN" IN THE TITLE STARRED LIAM NEESON AND ED HARR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8 FILM WITH "RUN" IN THE TITLE STARRED DEAN MARTIN, FRANK SINATRA,    AND SHIRLEY MACLA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,  LOLA, 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GERMAN FILM WITH "RUN" IN THE TITLE SHOWS 3 SCENARIOS OF A WOMAN WHO NEEDS 100,000 MARKS IN 20 MINU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OL  RUNN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33440" y="762120"/>
            <a:ext cx="647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FILM WITH "RUN" IN THE TITLE IS ABOUT THE JAMAICAN BOBSLED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NING  SCA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FILM WITH "RUN" IN THE TITLE STARRED BILLY CRYSTAL AND GREGORY HINES AS CHICAGO POLICE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WITH "RUN" IN THE TITLE DOES ARNOLD SCHWARZENEGGER ESCAPE A DEADLY GAME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FILM WITH "RUN" IN THE TITLE STARRED BURT REYNOLDS, ROGER MOORE, AND FARAH FAWCE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WITH "RUN" IN THE TITLE STARRED BRAD PITT AS A REBELLIOUS SON IN THE 192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FILM WITH "RUN" IN THE TITLE ABOUT ESCAPING A FARM WAS THE HIGHEST GROSSING STOP ACTION ANIMATED FILM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6 FILM WITH "RUN" IN THE TITLE WAS ABOUT ESCAPING A FUTURISTIC SOCIETY WHERE EVERYONE IS KILLED AT AGE 3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MOB MOVIE WITH "RUN" IN THE TITLE  STARRED LIAM NEESON AND ED HARR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GERMAN FILM WITH "RUN" IN THE TITLE SHOWS 3 SCENARIOS OF A WOMAN WHO NEEDS 100,000 MARKS IN 20 MINU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1T14:34:00Z</dcterms:created>
  <dc:creator>Jennifer Budzinski</dc:creator>
  <dc:description/>
  <dc:language>en-US</dc:language>
  <cp:lastModifiedBy>Erich Friedman</cp:lastModifiedBy>
  <dcterms:modified xsi:type="dcterms:W3CDTF">2020-08-30T16:57:54Z</dcterms:modified>
  <cp:revision>348</cp:revision>
  <dc:subject/>
  <dc:title>Slide 1</dc:title>
</cp:coreProperties>
</file>