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CD91-8F13-4EAF-A552-FB717A8F6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B764-0E30-4927-93D5-C3B80B766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0B465-AE1E-44AB-A5D0-0FFF2B0BC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0E1B-85AC-43F9-88D6-5CB62C5AE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19A4-D80A-4B10-ADB0-82A6D7FD7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A2EA-18C5-4062-B68E-EA5A3E4B6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D821-017D-4713-BD39-C23A7FD10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811C-D6CE-4612-A852-5D74222C4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314FC-04AE-446E-8E61-041110DA2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06AE-9565-493B-98F0-80942F344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5F9F-9D9F-42F1-A536-02FBAC440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F0EF-F9A0-43D9-AF08-F196A444B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D2A1-DDEA-4335-ACFD-B877435AD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E861-6BAC-4EB3-8165-2F1323515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C2A4-917F-4B04-B482-05EBC3CA9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2DED-0CFC-4A66-9E6C-F54B6AF41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6157-AC92-4D6F-B9BF-84CC90E0B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9993-D4F0-4206-9A6E-C8AF9102F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0DDF6-6CB5-406A-8222-66FE7D9B8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683CD-CFD9-459E-8896-39C52544E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6499-0587-429B-A1C0-0415AB0EF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6ECC3-DF26-4461-9E5B-0377D8620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79C0-56F4-466C-B691-E1642A14A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714320" y="1523880"/>
            <a:ext cx="5715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"RUN" FIL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52520" y="761760"/>
            <a:ext cx="6438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FILM WITH "RUN" IN THE TITLE IS ABOUT THE JAMAICAN BOBSLED T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343080" y="762120"/>
            <a:ext cx="8458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FILM WITH "RUN" IN THE TITLE STARRED BILLY CRYSTAL AND GREGORY HINES AS CHICAGO POLICE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ME  CAME  RU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66720" y="762120"/>
            <a:ext cx="7810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8 FILM WITH "RUN" IN THE TITLE STARRED DEAN MARTIN, FRANK SINATRA,   AND SHIRLEY MACLA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UNNING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WITH "RUN" IN THE TITLE DOES ARNOLD SCHWARZENEGGER ESCAPE A DEADLY GAM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83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ANNONBALL 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FILM WITH "RUN" IN THE TITLE STARRED BURT REYNOLDS, ROGER MOORE, AND FARAH FAWCE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RIVER  RUNS  THROUGH  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WITH "RUN" IN THE TITLE STARRED BRAD PITT AS A REBELLIOUS SON IN THE 192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KEN 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46120" y="762120"/>
            <a:ext cx="8051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FILM WITH "RUN" IN THE TITLE ABOUT ESCAPING A FARM WAS THE HIGHEST GROSSING STOP ACTION ANIMATED FILM E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GAN'S 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66720" y="762120"/>
            <a:ext cx="78105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6 FILM WITH "RUN" IN THE TITLE WAS ABOUT ESCAPING A FUTURISTIC SOCIETY WHERE EVERYONE IS KILLED AT AGE 3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  ALL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85760" y="762120"/>
            <a:ext cx="6972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MOB MOVIE WITH "RUN" IN THE TITLE STARRED LIAM NEESON AND ED HARR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58 FILM WITH "RUN" IN THE TITLE STARRED DEAN MARTIN, FRANK SINATRA,    AND SHIRLEY MACLA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,  LOLA,  R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7168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GERMAN FILM WITH "RUN" IN THE TITLE SHOWS 3 SCENARIOS OF A WOMAN WHO NEEDS 100,000 MARKS IN 20 MINU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OL  RUNN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33440" y="762120"/>
            <a:ext cx="6477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FILM WITH "RUN" IN THE TITLE IS ABOUT THE JAMAICAN BOBSLED T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NING  SCA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43080" y="762120"/>
            <a:ext cx="8458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6 FILM WITH "RUN" IN THE TITLE STARRED BILLY CRYSTAL AND GREGORY HINES AS CHICAGO POLICE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FILM WITH "RUN" IN THE TITLE DOES ARNOLD SCHWARZENEGGER ESCAPE A DEADLY GAME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1 FILM WITH "RUN" IN THE TITLE STARRED BURT REYNOLDS, ROGER MOORE, AND FARAH FAWCET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WITH "RUN" IN THE TITLE STARRED BRAD PITT AS A REBELLIOUS SON IN THE 192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 FILM WITH "RUN" IN THE TITLE ABOUT ESCAPING A FARM WAS THE HIGHEST GROSSING STOP ACTION ANIMATED FILM E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6 FILM WITH "RUN" IN THE TITLE WAS ABOUT ESCAPING A FUTURISTIC SOCIETY WHERE EVERYONE IS KILLED AT AGE 3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5 MOB MOVIE WITH "RUN" IN THE TITLE  STARRED LIAM NEESON AND ED HARR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8 GERMAN FILM WITH "RUN" IN THE TITLE SHOWS 3 SCENARIOS OF A WOMAN WHO NEEDS 100,000 MARKS IN 20 MINU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1T14:34:00Z</dcterms:created>
  <dc:creator>Jennifer Budzinski</dc:creator>
  <dc:description/>
  <dc:language>en-US</dc:language>
  <cp:lastModifiedBy>Erich Friedman</cp:lastModifiedBy>
  <dcterms:modified xsi:type="dcterms:W3CDTF">2020-08-30T16:57:54Z</dcterms:modified>
  <cp:revision>348</cp:revision>
  <dc:subject/>
  <dc:title>Slide 1</dc:title>
</cp:coreProperties>
</file>