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5E91E-FB11-4BF3-AC05-B362623A7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A8A79-B917-433D-AFC8-F5E9E0B06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B5CAD-75FE-4A6F-88FE-83BFBE41E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FE22B-7C22-4E9D-A1F7-3D14F58D4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E420E-4519-4AB9-85AC-2A3FB9A05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4AD9B-5634-4E2E-B06F-47EF2D6DF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B0965-EF74-4652-9470-4F315B918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2D8FA-266C-4954-B628-0009C896E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4576A-693E-4D2B-96E5-C9246AF2F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DA7C-09CB-4804-86B4-3C01B6E3D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0DB42-4CE2-46C0-93F5-0D829A85A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D7863-2FA4-42F1-A5B8-2FE7F0598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4990E-0288-42EC-A019-F9CE6CD4D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CBFD4-7E15-4DD8-8F2D-72B5FB332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28305-A974-495B-BEC4-23C2C821D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79917-16B0-4165-8AC9-9EEE8E002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0738E-B75F-4425-8BEC-051A103E8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A8DF2-2140-4223-A28B-F066D2B46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74E44-D130-41BB-9EBA-3DEFD967E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80A4E-6D61-4408-89C1-E299FBFD0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3BAF9-7B54-41D5-8B42-48AA0B6C2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B8C28-0885-49B1-9435-2D3342712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42749-4B73-49EE-9CEF-7659FF199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714320" y="1523880"/>
            <a:ext cx="5715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"RUN" FIL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352520" y="761760"/>
            <a:ext cx="6438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3 FILM WITH "RUN" IN THE TITLE IS ABOUT THE JAMAICAN BOBSLED TEA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343080" y="762120"/>
            <a:ext cx="8458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6 FILM WITH "RUN" IN THE TITLE STARRED BILLY CRYSTAL AND GREGORY HINES AS CHICAGO POLICEM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ME  CAME  RU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66720" y="762120"/>
            <a:ext cx="78105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8 FILM WITH "RUN" IN THE TITLE STARRED DEAN MARTIN, FRANK SINATRA,   AND SHIRLEY MACLA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RUNNING  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71680" y="762120"/>
            <a:ext cx="80010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FILM WITH "RUN" IN THE TITLE DOES ARNOLD SCHWARZENEGGER ESCAPE A DEADLY GAME SH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836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CANNONBALL  R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47640" y="762120"/>
            <a:ext cx="78487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1 FILM WITH "RUN" IN THE TITLE STARRED BURT REYNOLDS, ROGER MOORE, AND FARAH FAWCET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484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RIVER  RUNS  THROUGH  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2 FILM WITH "RUN" IN THE TITLE STARRED BRAD PITT AS A REBELLIOUS SON IN THE 1920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066680" y="4876920"/>
            <a:ext cx="7010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CKEN  R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46120" y="762120"/>
            <a:ext cx="8051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0 FILM WITH "RUN" IN THE TITLE ABOUT ESCAPING A FARM WAS THE HIGHEST GROSSING STOP ACTION ANIMATED FILM E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GAN'S  R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66720" y="762120"/>
            <a:ext cx="78105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6 FILM WITH "RUN" IN THE TITLE WAS ABOUT ESCAPING A FUTURISTIC SOCIETY WHERE EVERYONE IS KILLED AT AGE 3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N  ALL  N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085760" y="762120"/>
            <a:ext cx="6972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5 MOB MOVIE WITH "RUN" IN THE TITLE STARRED LIAM NEESON AND ED HARR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8 FILM WITH "RUN" IN THE TITLE STARRED DEAN MARTIN, FRANK SINATRA,    AND SHIRLEY MACLAI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8484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N,  LOLA,  R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7168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8 GERMAN FILM WITH "RUN" IN THE TITLE SHOWS 3 SCENARIOS OF A WOMAN WHO NEEDS 100,000 MARKS IN 20 MINU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OL  RUNN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333440" y="762120"/>
            <a:ext cx="64771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3 FILM WITH "RUN" IN THE TITLE IS ABOUT THE JAMAICAN BOBSLED TE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NNING  SCA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343080" y="762120"/>
            <a:ext cx="8458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6 FILM WITH "RUN" IN THE TITLE STARRED BILLY CRYSTAL AND GREGORY HINES AS CHICAGO POLICEM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FILM WITH "RUN" IN THE TITLE DOES ARNOLD SCHWARZENEGGER ESCAPE A DEADLY GAME SH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1 FILM WITH "RUN" IN THE TITLE STARRED BURT REYNOLDS, ROGER MOORE, AND FARAH FAWCET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28560" y="762120"/>
            <a:ext cx="7886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2 FILM WITH "RUN" IN THE TITLE STARRED BRAD PITT AS A REBELLIOUS SON IN THE 1920'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14440" y="761760"/>
            <a:ext cx="8115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0 FILM WITH "RUN" IN THE TITLE ABOUT ESCAPING A FARM WAS THE HIGHEST GROSSING STOP ACTION ANIMATED FILM EV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28560" y="761760"/>
            <a:ext cx="7886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6 FILM WITH "RUN" IN THE TITLE WAS ABOUT ESCAPING A FUTURISTIC SOCIETY WHERE EVERYONE IS KILLED AT AGE 3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5 MOB MOVIE WITH "RUN" IN THE TITLE  STARRED LIAM NEESON AND ED HARR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8 GERMAN FILM WITH "RUN" IN THE TITLE SHOWS 3 SCENARIOS OF A WOMAN WHO NEEDS 100,000 MARKS IN 20 MINUT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1T14:34:00Z</dcterms:created>
  <dc:creator>Jennifer Budzinski</dc:creator>
  <dc:description/>
  <dc:language>en-US</dc:language>
  <cp:lastModifiedBy>Erich Friedman</cp:lastModifiedBy>
  <dcterms:modified xsi:type="dcterms:W3CDTF">2020-08-30T16:57:54Z</dcterms:modified>
  <cp:revision>348</cp:revision>
  <dc:subject/>
  <dc:title>Slide 1</dc:title>
</cp:coreProperties>
</file>