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EDA1-2957-43F7-ADF0-F9BE28D5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D13E-BEF7-4BA7-A2E0-D5989BCE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4CBE-AACC-45B6-922D-508822A4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1A8-0B9A-420B-AA1E-42DC5A14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D51-CC7F-4799-9D80-502421516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A35E-8700-4584-8DD1-59B33763C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32C6-E104-41A6-97B1-741DE972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7E62-D69B-4D00-98CC-48C38204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EF3-2A28-4EA7-8107-8EF7F6A3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6D52-44D4-4990-BB89-62ED5A8D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E5E-075A-41A6-8DF2-75912169F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1A78-5DD5-485E-B04B-C32008A0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AB6B-8C8D-4399-8828-208CFDA1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F98-AD3E-4B43-A0AF-2822D1EE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01FE-36EB-4DEC-876B-91F733E81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EBD-E3ED-48E4-AA39-A171F04B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DE00-1C4F-4DC5-81C5-620FFDCB4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B9BC-D15F-4450-A2EA-4A1FE20D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5AC-4870-45CD-9C20-F9219A2E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961-BD78-48C5-9DB8-56300BD8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F83-C384-4DE6-909B-1EAE9F164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AE2-006F-43D9-9930-5D1A021C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59B7-C495-489A-9B77-3774D0C2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UMBERS ARE MISSING FROM THESE MOVIE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STRICT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BILLBOARDS OUTSIDE EBBING, MISSOUR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42920" y="7617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NOW WHITE AND THE __ DWARF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R FORC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CAND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98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A SL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IN __ SECO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7304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AST __ Y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W TO LOSE A GUY IN __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14320" y="762120"/>
            <a:ext cx="5715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NOW WHITE AND THE __ DWARF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ONKEY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762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STRICT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BILLBOARDS OUTSIDE EBBING, MISSOUR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R FORC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CAND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A SL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IN __ SECO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AST __ Y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W TO LOSE A GUY IN __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ONKEY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3:27:32Z</dcterms:created>
  <dc:creator>Jennifer Budzinski</dc:creator>
  <dc:description/>
  <dc:language>en-US</dc:language>
  <cp:lastModifiedBy>Erich Friedman</cp:lastModifiedBy>
  <dcterms:modified xsi:type="dcterms:W3CDTF">2020-08-30T13:34:01Z</dcterms:modified>
  <cp:revision>283</cp:revision>
  <dc:subject/>
  <dc:title>Slide 1</dc:title>
</cp:coreProperties>
</file>