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FCDB-2531-424A-94D2-D94B19AAB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58A7-38B7-4FBB-BDD8-0FB80813B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2444-2F4E-47B2-A040-B5DD31240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736A-6699-4096-861C-1DD6EDAB7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A6AD-B2C9-4B7F-84F4-D3E150B72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C502-B4BD-4B9D-AFE9-506202F1D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EDD0-3EF9-427F-8BEA-203962C7D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CED5-C362-4FB0-8D92-F59427FCA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8B4A-CF8B-4E4D-B34F-93A49A93A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4621-F3A2-4618-B30A-98F4317B9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1A52-2C41-4342-8C28-D407AF298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054D-8FA5-443E-B722-AE80D6A33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B2DC-D4B6-4684-9F2F-1C82CA00B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C2EB-762E-4074-97D1-ACC50A86B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4FBC-4AD5-4AFA-B3B7-2A75366DF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7C6F-1C4A-4BDC-98AF-BB0DCEB4D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32DC-E0B4-4736-93FF-02D04C104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FCA6-BF90-452E-95EE-6DCAAE96B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A045-80B9-465B-99E8-1CAF91E4C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A6CA-AA7D-4A47-9140-0D88454E4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8646-43A8-45F7-876E-B1E52D67A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72E6-046F-473D-8839-A9A0C80FE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122F-888B-4288-BD1F-55D4E92FB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NUMBERS ARE MISSING FROM THESE MOVIE TIT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ISTRICT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BILLBOARDS OUTSIDE EBBING, MISSOUR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942920" y="76176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NOW WHITE AND THE __ DWARFS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4800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R FORCE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CAND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69800" y="4800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YEARS A SLA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NE IN __ SECO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7304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AST __ YEA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0640" y="76176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W TO LOSE A GUY IN __ D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714320" y="762120"/>
            <a:ext cx="5715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NOW WHITE AND THE __ DWARF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MONKEY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7628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ISTRICT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BILLBOARDS OUTSIDE EBBING, MISSOUR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R FORCE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CAND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YEARS A SLA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NE IN __ SECO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AST __ YEA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52480" y="761760"/>
            <a:ext cx="5639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W TO LOSE A GUY IN __ D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MONKEY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4T13:27:32Z</dcterms:created>
  <dc:creator>Jennifer Budzinski</dc:creator>
  <dc:description/>
  <dc:language>en-US</dc:language>
  <cp:lastModifiedBy>Erich Friedman</cp:lastModifiedBy>
  <dcterms:modified xsi:type="dcterms:W3CDTF">2020-08-30T13:34:01Z</dcterms:modified>
  <cp:revision>283</cp:revision>
  <dc:subject/>
  <dc:title>Slide 1</dc:title>
</cp:coreProperties>
</file>