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99B0-D8D0-42B9-AA8F-77FA355C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4AC8-A5DD-47AC-9014-9D35F921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630-3C27-4BC8-A37E-B18B17062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B2ED-57BE-46E6-ABA5-5CE958A0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18CA-8F8F-4994-AF50-2175B1063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DAA2-570D-4772-BC15-C81D6A89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CB96-8962-4E45-ADE3-9B741CBD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EA6F-5FC5-4E8F-97B2-0DD3222C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1B1E-3885-47D6-B6BD-977C44A69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09E2-B641-47D4-8210-21E8D8D6F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580A-24E7-469D-B8C8-D2270AAD5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8B12-7AC6-42F4-ABAE-72BCB13D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AE0F-E9D9-40CA-A73F-20E240DA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5C3D-E06B-49A5-8471-19D2D004F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EC1-633C-4367-8DAA-274DBB68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EDA0-5F79-46EA-AA5F-B74D1F11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27BC-B18F-4373-9B1F-47BB9BBC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0797-459E-4F12-AD69-38B60489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FF2-71E2-4A23-97C0-40C9874A1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C5D7-BF40-4021-A22B-B47187501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F39F-08B7-46EF-8736-DF2A9DB82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23B6-0191-45A4-809C-B0D01A300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6FED-897C-49EF-B4B8-98BAC1537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NUMBERS ARE MISSING FROM THESE MOVIE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STRICT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BILLBOARDS OUTSIDE EBBING, MISSOUR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942920" y="76176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NOW WHITE AND THE __ DWARF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R FORC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CAND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980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A SLA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IN __ SECO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7304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AST __ Y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W TO LOSE A GUY IN __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14320" y="762120"/>
            <a:ext cx="5715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NOW WHITE AND THE __ DWARF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ONKEY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7628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STRICT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BILLBOARDS OUTSIDE EBBING, MISSOUR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R FORC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CAND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A SLA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IN __ SECO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AST __ Y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5639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W TO LOSE A GUY IN __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ONKEY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3:27:32Z</dcterms:created>
  <dc:creator>Jennifer Budzinski</dc:creator>
  <dc:description/>
  <dc:language>en-US</dc:language>
  <cp:lastModifiedBy>Erich Friedman</cp:lastModifiedBy>
  <dcterms:modified xsi:type="dcterms:W3CDTF">2020-08-30T13:34:01Z</dcterms:modified>
  <cp:revision>283</cp:revision>
  <dc:subject/>
  <dc:title>Slide 1</dc:title>
</cp:coreProperties>
</file>