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A04B-9010-42CB-ACB5-06AB15529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8EDC0-0C64-4936-B434-2E9353455B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70B2-3B06-4256-A7E6-D7719AE32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2042-917C-44B5-8C5C-672F2A5F1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3012-D9AB-49D6-941F-B0BFE7873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488F-23BF-4887-B29A-AF8DAAC17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A69B3-7ED9-4889-9BED-921DC4CFF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C560B-6AF1-423B-8A7C-959CBFFA55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D5B0D-453C-4766-BE0C-C4D355408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5629-47F8-4DA7-B3CD-6ED6A97EA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4028-BAC2-4A40-A83C-87A2E0ECD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946C3-6F7C-498C-BBD4-CA5DED5C7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3B00-C7E0-4C73-9ECF-0475A68B5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BA0CF-7403-4E0B-9E7D-AFCCB5E8A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20DE-2BF5-4CF3-A893-33110555A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36F76-7EA3-4147-9EF6-B2E71484DB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047E-901B-4D64-ACCC-091D39337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270A7-B896-4D28-B2B4-6203B9F44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9BBD-B184-4605-BAEE-D1E067B28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C764-7600-48E3-8984-4A454A8974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1F91-3EAF-4F37-96C1-01127ADF2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A8818-2301-469F-AA77-98B7D5974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28B73-6BCA-4606-A820-2048346E9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NUMBERS ARE MISSING FROM THESE MOVIE TITLE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WEDDINGS AND A FUNER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DRESS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 MUSKET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57200" y="480060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RE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GUE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57200" y="480060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THINGS I HATE ABOU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57200" y="4800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1880" y="761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YEARS IN TIB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7628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DEGREES OF SEPAR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MEN AND A BA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HEADS IN A DUFFEL BA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HE __ MUSKETEER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IG HERO __"?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66760" y="7617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WEDDINGS AND A FUNERAL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5720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DRESSES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61880" y="48006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OGUE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80880" y="762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THINGS I HATE ABOUT YOU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YEARS IN TIBET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DEGREES OF SEPARATION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MEN AND A BABY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__ HEADS IN A DUFFEL BA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IG HERO __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4T13:27:32Z</dcterms:created>
  <dc:creator>Jennifer Budzinski</dc:creator>
  <dc:description/>
  <dc:language>en-US</dc:language>
  <cp:lastModifiedBy>Erich Friedman</cp:lastModifiedBy>
  <dcterms:modified xsi:type="dcterms:W3CDTF">2020-08-30T13:43:46Z</dcterms:modified>
  <cp:revision>282</cp:revision>
  <dc:subject/>
  <dc:title>Slide 1</dc:title>
</cp:coreProperties>
</file>