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23D1-A48D-4967-9DF6-A5E936618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EF9D-FCB6-43BA-AB01-B37B8634A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2834-3F51-433B-A1E5-58B2AAD47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867D-C057-467A-B35F-5AC9BF7F7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67C3-85C2-4B2C-A1C0-3CE32D0C1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9053-B1E6-42F9-80DC-EDE99E517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A1C0-5F60-4BB8-BA5F-C66B70C36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7D50-DAE1-4846-ABA2-85C79FED1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6989-2692-4CF7-8D26-25A9036EB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A09C-3CCA-4147-B58F-77C4AEAEC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F806-A1D5-4B2F-96B3-C2B2E8351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4715-5021-4DC0-89FA-E7D6FE8F4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53D5-64AC-4237-9957-8B906FE27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59BF-7E40-439D-B558-EDE25C7E1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FF82-76EB-4B7B-991F-B26003269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E394-2FBB-46F5-8FEC-13B2094DD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409C-B265-4143-9321-21D3A7485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A4E4-4DA7-4120-A95C-C7F56C196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5B2E-EDED-4901-81F4-AB1264121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24E7-AB20-4580-9D47-4C5B116F3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D76F-5EEA-4B51-96A7-744D35AF1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9985-8114-4718-81BC-38B4F206F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FA5F-900B-4743-9DBE-714DAAB3D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NUMBERS ARE MISSING FROM THESE MOVIE TITL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WEDDINGS AND A FUNER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DRESS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__ MUSKETEE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57200" y="48006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OGUE 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457200" y="4800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THINGS I HATE ABOUT YO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457200" y="48006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188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YEARS IN TIBE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47628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DEGREES OF SEPARAT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MEN AND A BAB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HEADS IN A DUFFEL BA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__ MUSKETEE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IG HERO __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WEDDINGS AND A FUNER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DRESS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46188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OGUE 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THINGS I HATE ABOUT YO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YEARS IN TIBE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DEGREES OF SEPARAT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MEN AND A BAB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HEADS IN A DUFFEL BA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IG HERO 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4T13:27:32Z</dcterms:created>
  <dc:creator>Jennifer Budzinski</dc:creator>
  <dc:description/>
  <dc:language>en-US</dc:language>
  <cp:lastModifiedBy>Erich Friedman</cp:lastModifiedBy>
  <dcterms:modified xsi:type="dcterms:W3CDTF">2020-08-30T13:43:46Z</dcterms:modified>
  <cp:revision>282</cp:revision>
  <dc:subject/>
  <dc:title>Slide 1</dc:title>
</cp:coreProperties>
</file>