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6A89-DDB4-4383-A738-D2CCB5DD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6B98-BC8D-4108-A72D-D5550ABD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E84E-DAEE-46B9-8123-A6C1B669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0C3-550E-4B0F-BA7A-83E2089C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8046-5B97-4618-9656-D11B93588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23B-B1CB-487E-8DD6-1DA45D7CE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D56-22B4-45CE-8CA9-7645A9063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7768-8E94-433E-B9F2-34572FEA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CC4-3D93-4C88-B750-E5267539F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042-17FA-4755-991E-89E35372A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62C8-7062-41E3-AD0A-C6A7D67A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9194-CE13-478A-AB5C-A4E012D3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444F-C64F-47C8-B8D2-C91CA9E4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0E3-8491-4247-83DB-78728408C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63F-C033-4859-BB27-EF0A2CE7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7508-DA0C-45A1-B006-44DBB002F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1470-2682-4021-83EE-B4305ECE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D10C-141F-4E9E-9578-66A446F1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FCF-71EE-49C0-A892-DF45CF90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187-CAEF-425D-8890-0EC5B84D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733E-F72B-4249-B1D5-EECC7BA9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E89-B5EE-464F-9B1E-EE1F5EA7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DC51-F721-4987-9DF8-A84B90B7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18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43:46Z</dcterms:modified>
  <cp:revision>282</cp:revision>
  <dc:subject/>
  <dc:title>Slide 1</dc:title>
</cp:coreProperties>
</file>