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7777-C2E3-40A8-A8CF-18C790B9A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1B02-38C3-489C-A201-F63B6C551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7205-7C09-4C4E-8AD0-05F76B692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2927-E3F4-482F-9D11-32B6D696E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18CE-E40E-4102-B3C7-C18E24D2B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C81D-2810-4786-8D9A-733D4BE2E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A5A3-512B-4286-9297-1E06D6A8C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A8BB-D2E1-462E-91FF-92DCC650B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AC14-9993-481B-800A-2AC78D682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E9D0-3C97-4E48-A0C9-E7968C281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7FE5-89FA-4361-9F94-867BB00B6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9C5C-0585-413F-BC34-A747E5F80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7742-B0EC-4081-B788-531339384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8D15-AF66-4130-8848-0016A8906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8801-DBE4-4C68-8B8C-9FCC8A4F8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BE8B-E568-4903-B136-687E606DB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BFD4-8740-4D09-AC7C-DD5887AB5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1DEE-8E73-4A80-95D5-26E3E51C2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554B-E09E-4BBD-B285-D01DFC929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6AE6-DE1C-4752-8FFB-7E3328925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0296-4D46-4E95-96FF-6321DB5BC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7266-7087-409D-9088-703B68306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8995-8F57-486F-97F6-F28CB12F3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52560" y="685800"/>
            <a:ext cx="7238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 CHARACTER PORTRAYED BY THESE 4 DIFFERENT ACT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1028880" y="762120"/>
            <a:ext cx="7086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CHAEL CA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BERT FINN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ORGE C. SCOT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IM CARR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143000" y="762120"/>
            <a:ext cx="6858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LIE NIELS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ARY OLDM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RISTOPHER L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LA LUGOS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11240" y="4876920"/>
            <a:ext cx="7162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IN  H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28880" y="762120"/>
            <a:ext cx="7086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VIN COST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RROL FLYN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RY ELW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USSELL CROW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RLOCK  HOL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430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SIL RATHB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EDICT CUMBERBAT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UPERT EVERET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BERT DOWNEY, JR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EEN  ELIZABETH 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430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TE BLANCHET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TTE DAV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LENDA JACK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UDI DEN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TA  CLA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IM ALL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UL GIAMAT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D AS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ICHARD ATTENBOROUG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DEV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IZABETH HURL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IM CUR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RVEY KEIT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 PACIN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SUS  CHR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IM CAVIEZ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RISTIAN B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LLEM DAFO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X VON SYD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M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L GIB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URENCE OLIVI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THAN HAW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NNETH BRANAG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1028880" y="762120"/>
            <a:ext cx="7086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VIN COST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RROL FLYN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RY ELW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USSELL CROW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NIEL CRA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IERCE BROSN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AN CONN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IMOTHY DAL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BENEZER  SCROO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28880" y="762120"/>
            <a:ext cx="7086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CHAEL CA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BERT FINN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ORGE C. SCOT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IM CARR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UNT  DRAC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143000" y="762120"/>
            <a:ext cx="6858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LIE NIELS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ARY OLDM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RISTOPHER L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LA LUGOS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11430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SIL RATHB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EDICT CUMBERBAT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UPERT EVERET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BERT DOWNEY, JR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430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TE BLANCHET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TTE DAV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LENDA JACK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UDI DEN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IM ALL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UL GIAMAT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D AS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ICHARD ATTENBOROUG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IZABETH HURL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IM CUR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RVEY KEIT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 PACIN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914400" y="762120"/>
            <a:ext cx="7315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IM CAVIEZ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RISTIAN B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LLEM DAFO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X VON SYD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L GIB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URENCE OLIVI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THAN HAW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NNETH BRANAG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NIEL CRA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IERCE BROSN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AN CONN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IMOTHY DAL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2T01:40:25Z</dcterms:created>
  <dc:creator>Jennifer Budzinski</dc:creator>
  <dc:description/>
  <dc:language>en-US</dc:language>
  <cp:lastModifiedBy>Erich Friedman</cp:lastModifiedBy>
  <dcterms:modified xsi:type="dcterms:W3CDTF">2020-09-04T18:41:31Z</dcterms:modified>
  <cp:revision>331</cp:revision>
  <dc:subject/>
  <dc:title>Slide 1</dc:title>
</cp:coreProperties>
</file>