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AF6F-74D2-4F17-B246-C043E0930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661F-03F8-420F-ACA9-C9CFADFC8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C9D2-7C0E-4461-9301-A20493F62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6317-46F6-4980-9F9B-B59E1B59C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F4A0-3A57-4354-912F-521C99331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C27B-5EF2-4EBD-A30F-15F91E15B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4F97-0F08-4137-B3ED-E6B7AE4FD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77B6-B39D-4672-A6D7-7D72EAF78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5304-DAC2-4D24-BA5A-5B189E817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28D8-4A46-430C-BE08-9D0FAF681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C8C8-88AE-471C-B36D-3E46BEB1B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0850-844A-456A-A2F4-33FA61C78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6AC6-2697-4186-95A0-723C1664A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CBE1-9187-4916-A046-5480E397A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AA7A-07D9-4DBA-A62E-117C57FCD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E196-5757-4250-8C72-617FE6032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3268-8B3B-4BD9-8AC2-7C0BA1B68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25A4-2A5F-4055-8F71-CBD7C0AA5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ED8C-5D83-4522-A136-FC16A4422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B59C-CD42-4448-98C5-C27C3306B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3D6C-5F4E-4BB1-82C4-FC35656D0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19B2-444D-4A52-BDCE-C1F07E0B1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50DF-E05D-4698-9D45-E338C5A5E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52560" y="685800"/>
            <a:ext cx="7238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 CHARACTER PORTRAYED BY THESE 4 DIFFERENT ACT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1028880" y="762120"/>
            <a:ext cx="7086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CHAEL CA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BERT FINN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ORGE C. SCOT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IM CARR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143000" y="762120"/>
            <a:ext cx="6858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LIE NIELS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ARY OLDM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RISTOPHER L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LA LUGOS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11240" y="4876920"/>
            <a:ext cx="7162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IN  H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28880" y="762120"/>
            <a:ext cx="7086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VIN COST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RROL FLYN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RY ELW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USSELL CROW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RLOCK  HOL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430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SIL RATHB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EDICT CUMBERBAT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UPERT EVERET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BERT DOWNEY, JR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EEN  ELIZABETH 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430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TE BLANCHET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TTE DAV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LENDA JACK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UDI DEN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TA  CLA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IM ALL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UL GIAMAT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D AS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ICHARD ATTENBOROUG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DEV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IZABETH HURL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IM CUR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RVEY KEIT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 PACIN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SUS  CHR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IM CAVIEZ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RISTIAN B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LLEM DAFO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X VON SYD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M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L GIB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URENCE OLIVI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THAN HAW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NNETH BRANAG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1028880" y="762120"/>
            <a:ext cx="7086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VIN COST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RROL FLYN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RY ELW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USSELL CROW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NIEL CRA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IERCE BROSN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AN CONN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IMOTHY DAL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BENEZER  SCROO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28880" y="762120"/>
            <a:ext cx="7086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CHAEL CA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BERT FINN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ORGE C. SCOT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IM CARR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UNT  DRAC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143000" y="762120"/>
            <a:ext cx="6858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LIE NIELS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ARY OLDM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RISTOPHER L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LA LUGOS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11430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SIL RATHB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EDICT CUMBERBAT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UPERT EVERET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BERT DOWNEY, JR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430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TE BLANCHET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TTE DAV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LENDA JACK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UDI DEN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IM ALL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UL GIAMAT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D AS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ICHARD ATTENBOROUG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IZABETH HURL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IM CUR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RVEY KEIT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 PACIN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914400" y="762120"/>
            <a:ext cx="7315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IM CAVIEZ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RISTIAN B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LLEM DAFO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X VON SYD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L GIB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URENCE OLIVI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THAN HAW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NNETH BRANAG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NIEL CRA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IERCE BROSN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AN CONN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IMOTHY DAL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2T01:40:25Z</dcterms:created>
  <dc:creator>Jennifer Budzinski</dc:creator>
  <dc:description/>
  <dc:language>en-US</dc:language>
  <cp:lastModifiedBy>Erich Friedman</cp:lastModifiedBy>
  <dcterms:modified xsi:type="dcterms:W3CDTF">2020-09-04T18:41:31Z</dcterms:modified>
  <cp:revision>331</cp:revision>
  <dc:subject/>
  <dc:title>Slide 1</dc:title>
</cp:coreProperties>
</file>