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88E53-B9B4-49D9-9654-FB739E830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AB43-BE21-4E72-88C1-1A5AFD84D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F9AE-F483-43BC-9890-E0A087CF8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AB88-2D19-42FB-8EBD-18570C948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48C7-5234-432B-84FC-FB51C1E6F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E4CE-10C3-4557-96F4-5319C5A3C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95ED-AE44-4814-A878-A655450A5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D9D4-78DD-4D99-A9B7-7E09D3574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5CD8-776A-4567-BC37-C0B5DFCAC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66B7-D7DC-43C9-81DC-019012734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0EFF-94FA-400C-9963-E38DCBF5A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D885-35BC-4BCC-891F-F7E8F61E6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068C-5E61-46FB-8BC2-B152FE7F7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99F5-609B-4734-821E-DCEB73094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1EB9-6EB8-447B-8B3E-07E4E6878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2752-79A8-4EF7-A4B7-E34968020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4C88-67B0-4BC8-A20F-A38D61A17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EFD4-0124-4376-9D25-730A4FFEF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2D7A-BD7B-4E9A-BF76-372688CCB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C899-4B62-4DD9-8B8D-8CE420218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1BD5-7C68-4993-932E-953EC34AD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BB62-5F69-4979-BB97-B0C5302CD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7092-FAF2-4468-9C9F-C48874BC3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2120" y="1333440"/>
            <a:ext cx="76197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LEONARDO DICAPRIO FILMS BY THE MOVIE POS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347920" y="1295280"/>
            <a:ext cx="4448160" cy="35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884320" y="1295280"/>
            <a:ext cx="33753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9593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VI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959200" y="1295280"/>
            <a:ext cx="3225600" cy="36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CH  ME  IF  YOU  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200400" y="1287360"/>
            <a:ext cx="2743200" cy="35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AT  GATS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981160" y="1295280"/>
            <a:ext cx="31816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NGS  OF  NEW 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079800" y="1295280"/>
            <a:ext cx="29844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913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CE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086280" y="1295280"/>
            <a:ext cx="2971800" cy="35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A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625840" y="1295280"/>
            <a:ext cx="3892320" cy="346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WOLF  OF  WALL  STR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673360" y="1295280"/>
            <a:ext cx="3797280" cy="346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959200" y="1295280"/>
            <a:ext cx="3225600" cy="36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EVEN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984400" y="1295280"/>
            <a:ext cx="31752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6584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VOLUTIONARY  R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347920" y="1295280"/>
            <a:ext cx="4448160" cy="355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DY  OF  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884320" y="1295280"/>
            <a:ext cx="33753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200400" y="1287360"/>
            <a:ext cx="2743200" cy="35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981160" y="1295280"/>
            <a:ext cx="31816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079800" y="1295280"/>
            <a:ext cx="29844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048120" y="1295280"/>
            <a:ext cx="304776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625840" y="1295280"/>
            <a:ext cx="3892320" cy="34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673360" y="1295280"/>
            <a:ext cx="3797280" cy="346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933640" y="1295280"/>
            <a:ext cx="3276720" cy="369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1-04-25T19:06:39Z</dcterms:modified>
  <cp:revision>288</cp:revision>
  <dc:subject/>
  <dc:title>Slide 1</dc:title>
</cp:coreProperties>
</file>