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5835-4251-4FBD-A684-BF6F09F1F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9399-1EC4-4CEE-9958-FEF4D5CDB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AD19-32B2-43AD-9336-3CA192A00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71CF-7498-4FA4-BCFB-B69D30126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20C5-9474-4D13-98FC-27A25CFA4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B60D-CB27-4AA4-8C84-11A101A16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F449-3562-4DD0-B0D1-58E99A425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45AF-2B94-4530-9540-95C95BF24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D41F-69BD-4C36-B4C3-D9A0C79E0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BF39-6352-40EF-88FF-721AD7E1E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6F34-70FD-410E-9BFE-EAEEDC351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B0FE-6E06-49CA-83A3-0E695486B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5BD6-5709-46B2-ABFE-B26338D2B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8CFF-65EE-471F-96E3-8027DB2E9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0652-A2A5-481A-97CA-3B0F12A4D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9B65-D87D-4D9A-A9A9-19FE9A728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D7BB-E7ED-44C3-9A40-638857FF5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2805-1787-4161-AB2E-401042605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07B4-0C23-4E98-8D83-6E7FA1C82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FC4C-D4E5-4B5E-AEA2-FB4E5138F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BAE8-7F65-4005-8A5A-B122AD090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656E-6277-45A0-829E-5C74F8CAE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09C8-1293-4DDF-A43A-4297C75C4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62120" y="133344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LEONARDO DICAPRIO FILMS BY THE MOVIE POS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347920" y="1295280"/>
            <a:ext cx="4448160" cy="355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884320" y="1295280"/>
            <a:ext cx="33753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49593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VI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959200" y="1295280"/>
            <a:ext cx="3225600" cy="36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CH  ME  IF  YOU  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3200400" y="1287360"/>
            <a:ext cx="2743200" cy="35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EAT  GATS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981160" y="1295280"/>
            <a:ext cx="31816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NGS  OF  NEW  Y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079800" y="1295280"/>
            <a:ext cx="29844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49132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CE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086280" y="1295280"/>
            <a:ext cx="297180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AN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625840" y="1295280"/>
            <a:ext cx="3892320" cy="346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OLF  OF  WALL 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673360" y="1295280"/>
            <a:ext cx="3797280" cy="346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959200" y="1295280"/>
            <a:ext cx="3225600" cy="36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EVEN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984400" y="1295280"/>
            <a:ext cx="31752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6584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VOLUTIONARY  RO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347920" y="1295280"/>
            <a:ext cx="4448160" cy="355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DY  OF  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884320" y="1295280"/>
            <a:ext cx="33753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200400" y="1287360"/>
            <a:ext cx="2743200" cy="35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981160" y="1295280"/>
            <a:ext cx="31816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079800" y="1295280"/>
            <a:ext cx="29844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304776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625840" y="1295280"/>
            <a:ext cx="3892320" cy="34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673360" y="1295280"/>
            <a:ext cx="3797280" cy="34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933640" y="1295280"/>
            <a:ext cx="3276720" cy="3697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1-04-25T19:06:39Z</dcterms:modified>
  <cp:revision>288</cp:revision>
  <dc:subject/>
  <dc:title>Slide 1</dc:title>
</cp:coreProperties>
</file>