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DAAA-D155-4629-9C80-79704F92F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0ABC-3DAE-4CAE-BFAE-E72D2DAA8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C51C-037C-4373-A1D0-311F1F8E3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2B44-C09A-4629-86A4-C1E589CD2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4FD0-595C-42D0-86EF-7E58654A9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ACB9-B9A1-4326-AD48-34D69395B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BF5A-F603-4A2D-BA23-F552CD56D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F5D1-7A03-40F5-A2D1-EB75B7A04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DC67-E7F0-4A51-88A4-231DC63D6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BC7A-6D02-463F-9951-978713EC9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C779-ECF8-45D7-B382-C225F3359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32BB-7A38-4968-8B3D-1C687BFB8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A8D4-6A1C-4F0B-B789-E7952D00F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5539-318B-4AF2-9945-7EA05749C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AF95-7054-4E67-AF49-2A02A3DC8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656C-0F4F-40EB-A0B5-B9A010C86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3889-7D8A-4BB9-B5E2-DAD54E465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F8FA-08BA-4ED3-B267-AAD8441BB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5ECF-D93E-41BF-8EAB-C162B250E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3017-3263-40AF-8840-2D6FF871F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084F-B507-44E6-9E6F-BA923BF14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AED1-2C70-47EB-8C04-92A6F2297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2FFA-12C2-40B5-AF80-5B7AD6C52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33520" y="990360"/>
            <a:ext cx="80769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TOP TEN ACTRESSES OF ALL TIME ACCORDING TO THE AMERICAN FILM INSTITU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075120" y="1295280"/>
            <a:ext cx="29937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3165480" y="1295280"/>
            <a:ext cx="2813040" cy="359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HERINE  HEPB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3108240" y="1295280"/>
            <a:ext cx="29275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1336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TTE  DAV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108240" y="1279440"/>
            <a:ext cx="2911680" cy="365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DREY  HEPB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3124080" y="1295280"/>
            <a:ext cx="2895840" cy="362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GRID  BERG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090960" y="1295280"/>
            <a:ext cx="29620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TA  GARB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3195720" y="1295280"/>
            <a:ext cx="2752560" cy="36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LYN  MONR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3029040" y="1295280"/>
            <a:ext cx="3085920" cy="36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IZABETH  TAY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3187800" y="1295280"/>
            <a:ext cx="2766960" cy="368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108240" y="1295280"/>
            <a:ext cx="29275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DY  GA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3095640" y="1295280"/>
            <a:ext cx="2952720" cy="364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LENE  DIETR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3075120" y="1295280"/>
            <a:ext cx="29937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AN  CRAWF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3165480" y="1295280"/>
            <a:ext cx="2813040" cy="359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108240" y="1279440"/>
            <a:ext cx="2911680" cy="36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3124080" y="1295280"/>
            <a:ext cx="2895840" cy="36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090960" y="1295280"/>
            <a:ext cx="29620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195720" y="1295280"/>
            <a:ext cx="2752560" cy="36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029040" y="1295280"/>
            <a:ext cx="308592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187800" y="1295280"/>
            <a:ext cx="2766960" cy="36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095640" y="1295280"/>
            <a:ext cx="2952720" cy="3648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1-09-20T09:33:40Z</dcterms:modified>
  <cp:revision>290</cp:revision>
  <dc:subject/>
  <dc:title>Slide 1</dc:title>
</cp:coreProperties>
</file>