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60B0-8665-4453-9269-FF6593FBB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789C-F396-4D45-9700-69D00439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EC6-98C6-49F7-9CCD-C5FC6F841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F406A-5AF3-4CA6-B055-4197A2F5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B048-F4F5-4A71-A8C3-18A02972D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0CAF-1334-4A4B-9843-46F5B892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9AAB-A76A-4E3D-813F-4521B7B8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BC4C-6D05-4FA1-B494-FE050D78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3B99-2946-4EA3-BF66-D81401507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1181-CFF6-4BDE-8235-48C85799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2044-9EE0-4B63-A393-3D86DE4D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5A27-2354-48E4-8F9A-780E5F19F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6692-B1DD-441F-88B1-30574ADBF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F907-B4AE-43D2-BBDE-FD249D0D1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2551-E78E-4D0A-85B2-D4B411C72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6A73-BA4B-4751-8E98-0E3C2D8B5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B759-D1BD-44E7-87AC-88DC6D7A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BB48-EF71-44E6-8AE8-40732996F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D91E-6F45-486D-A02E-F7877672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627D-AE08-41F6-A520-DBDDC07B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E840-45E3-4C73-BDEA-B7B1DB90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E777-8C43-4FE0-9FC5-048C429E0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6E1E-6149-408E-AD19-3063956D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P TEN ACTRESSES OF ALL TIME ACCORDING TO THE AMERICAN FILM INSTITU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5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HERINE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108240" y="1295280"/>
            <a:ext cx="2927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1336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08240" y="1279440"/>
            <a:ext cx="2911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2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GRID  BERG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90960" y="1295280"/>
            <a:ext cx="296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GAR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95720" y="1295280"/>
            <a:ext cx="27525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87800" y="1295280"/>
            <a:ext cx="2766960" cy="368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108240" y="1295280"/>
            <a:ext cx="29275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GA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75120" y="1295280"/>
            <a:ext cx="2993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CRAW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08240" y="1279440"/>
            <a:ext cx="2911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90960" y="1295280"/>
            <a:ext cx="2962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195720" y="1295280"/>
            <a:ext cx="27525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187800" y="1295280"/>
            <a:ext cx="276696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48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9-20T09:33:40Z</dcterms:modified>
  <cp:revision>290</cp:revision>
  <dc:subject/>
  <dc:title>Slide 1</dc:title>
</cp:coreProperties>
</file>