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3E9E-2E0B-4F91-8310-2CB92D4ED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E1F2-0A9F-479E-8717-7F359B85C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45AF-2E8D-467F-B3A2-DDBEC5DCA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D2DB-4733-4627-ACBA-E2E5A3028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CCFE-F176-4A2D-99C1-C9BD164F7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4798-96D3-4236-AF1A-95B32D04F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B984-A55E-4F57-AF97-254F57331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CE35-B033-43D5-A153-F4F87DC6F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26F3-A1A5-4B8C-B497-3E6083C0A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90DE-EA69-4F4D-AE90-B29348EDD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4796-A74C-4C9B-8B5B-2C8D17DD3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C7DE-E500-4E65-BD37-866D3509A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B755-3A51-4795-ABCA-158296481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AF3C-AF01-4D8A-98C1-9C5ABD3A0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20E2-C116-42CB-9047-1CA45AAB7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B998-65EE-43C9-A8EC-F5B409067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0D24-5230-41A1-8703-616B52650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3442-6791-45B0-96B6-B98CC00F4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CB94-4525-47D7-BA43-D8DDC76B8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AF1E-2A6E-4944-B5CB-7CC84127D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2EA3-9A8B-408A-A387-DA08BAB5A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57E5-6665-4129-9F2A-60107FCE5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E4C1-7A4E-4C08-B0FA-47CECF2C7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3344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MERYL STREEP MOVIES FROM THEIR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postcards-from-the-edge-movie-poster-1990-1020233082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149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91fIF5yzajL._SY445_.jpg"/>
          <p:cNvPicPr/>
          <p:nvPr/>
        </p:nvPicPr>
        <p:blipFill>
          <a:blip r:embed="rId1"/>
          <a:stretch/>
        </p:blipFill>
        <p:spPr>
          <a:xfrm>
            <a:off x="2819520" y="1219320"/>
            <a:ext cx="350496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EVIL  WEARS  PR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devil_wears_prada.jpg"/>
          <p:cNvPicPr/>
          <p:nvPr/>
        </p:nvPicPr>
        <p:blipFill>
          <a:blip r:embed="rId1"/>
          <a:stretch/>
        </p:blipFill>
        <p:spPr>
          <a:xfrm>
            <a:off x="3200400" y="1295280"/>
            <a:ext cx="27432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7376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MA  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Mamma-Mia-Movie-Poster-movie-remakes-3049048-500-375.jpg"/>
          <p:cNvPicPr/>
          <p:nvPr/>
        </p:nvPicPr>
        <p:blipFill>
          <a:blip r:embed="rId1"/>
          <a:stretch/>
        </p:blipFill>
        <p:spPr>
          <a:xfrm>
            <a:off x="1257480" y="1295280"/>
            <a:ext cx="6629400" cy="354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the-post-122823.jpg"/>
          <p:cNvPicPr/>
          <p:nvPr/>
        </p:nvPicPr>
        <p:blipFill>
          <a:blip r:embed="rId1"/>
          <a:stretch/>
        </p:blipFill>
        <p:spPr>
          <a:xfrm>
            <a:off x="2247840" y="1371600"/>
            <a:ext cx="4648320" cy="34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90240" y="6854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'S  COMPLIC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4271918024_675a653818.jpg"/>
          <p:cNvPicPr/>
          <p:nvPr/>
        </p:nvPicPr>
        <p:blipFill>
          <a:blip r:embed="rId1"/>
          <a:stretch/>
        </p:blipFill>
        <p:spPr>
          <a:xfrm>
            <a:off x="380880" y="1523880"/>
            <a:ext cx="84013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8096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AMER  VS.  KR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69c30b8d07fe9d4bd934b8c46d0665d6.jpg"/>
          <p:cNvPicPr/>
          <p:nvPr/>
        </p:nvPicPr>
        <p:blipFill>
          <a:blip r:embed="rId1"/>
          <a:stretch/>
        </p:blipFill>
        <p:spPr>
          <a:xfrm>
            <a:off x="2233440" y="1322280"/>
            <a:ext cx="4724640" cy="34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0" y="4952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IDGES  OF  MADISON COU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MPW-49505-1.jpg"/>
          <p:cNvPicPr/>
          <p:nvPr/>
        </p:nvPicPr>
        <p:blipFill>
          <a:blip r:embed="rId1"/>
          <a:stretch/>
        </p:blipFill>
        <p:spPr>
          <a:xfrm>
            <a:off x="2254320" y="1295280"/>
            <a:ext cx="46353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60440" y="49705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  OF 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out-of-africa-movie-kenya-590x390.jpg"/>
          <p:cNvPicPr/>
          <p:nvPr/>
        </p:nvPicPr>
        <p:blipFill>
          <a:blip r:embed="rId1"/>
          <a:stretch/>
        </p:blipFill>
        <p:spPr>
          <a:xfrm>
            <a:off x="1862280" y="1295280"/>
            <a:ext cx="54194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devil_wears_prada.jpg"/>
          <p:cNvPicPr/>
          <p:nvPr/>
        </p:nvPicPr>
        <p:blipFill>
          <a:blip r:embed="rId1"/>
          <a:stretch/>
        </p:blipFill>
        <p:spPr>
          <a:xfrm>
            <a:off x="3124080" y="1219320"/>
            <a:ext cx="289584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4952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E  &amp;  JU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juliejulia.jpg"/>
          <p:cNvPicPr/>
          <p:nvPr/>
        </p:nvPicPr>
        <p:blipFill>
          <a:blip r:embed="rId1"/>
          <a:stretch/>
        </p:blipFill>
        <p:spPr>
          <a:xfrm>
            <a:off x="914400" y="1523880"/>
            <a:ext cx="735336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6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STCARDS  FROM  THE  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postcards-from-the-edge-movie-poster-1990-1020233082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784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ENCE  FOSTER  JEN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91fIF5yzajL._SY445_.jpg"/>
          <p:cNvPicPr/>
          <p:nvPr/>
        </p:nvPicPr>
        <p:blipFill>
          <a:blip r:embed="rId1"/>
          <a:stretch/>
        </p:blipFill>
        <p:spPr>
          <a:xfrm>
            <a:off x="2871720" y="1306440"/>
            <a:ext cx="3400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Mamma-Mia-Movie-Poster-movie-remakes-3049048-500-375.jpg"/>
          <p:cNvPicPr/>
          <p:nvPr/>
        </p:nvPicPr>
        <p:blipFill>
          <a:blip r:embed="rId1"/>
          <a:stretch/>
        </p:blipFill>
        <p:spPr>
          <a:xfrm>
            <a:off x="1143000" y="1295280"/>
            <a:ext cx="6835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the-post-122823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24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6656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4271918024_675a653818.jpg"/>
          <p:cNvPicPr/>
          <p:nvPr/>
        </p:nvPicPr>
        <p:blipFill>
          <a:blip r:embed="rId1"/>
          <a:stretch/>
        </p:blipFill>
        <p:spPr>
          <a:xfrm>
            <a:off x="380880" y="1523880"/>
            <a:ext cx="8401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69c30b8d07fe9d4bd934b8c46d0665d6.jpg"/>
          <p:cNvPicPr/>
          <p:nvPr/>
        </p:nvPicPr>
        <p:blipFill>
          <a:blip r:embed="rId1"/>
          <a:stretch/>
        </p:blipFill>
        <p:spPr>
          <a:xfrm>
            <a:off x="1981080" y="1219320"/>
            <a:ext cx="5181840" cy="38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MPW-49505-1.jpg"/>
          <p:cNvPicPr/>
          <p:nvPr/>
        </p:nvPicPr>
        <p:blipFill>
          <a:blip r:embed="rId1"/>
          <a:stretch/>
        </p:blipFill>
        <p:spPr>
          <a:xfrm>
            <a:off x="2133720" y="1219320"/>
            <a:ext cx="49370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out-of-africa-movie-kenya-590x390.jpg"/>
          <p:cNvPicPr/>
          <p:nvPr/>
        </p:nvPicPr>
        <p:blipFill>
          <a:blip r:embed="rId1"/>
          <a:stretch/>
        </p:blipFill>
        <p:spPr>
          <a:xfrm>
            <a:off x="1676520" y="1295280"/>
            <a:ext cx="5562360" cy="36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juliejulia.jpg"/>
          <p:cNvPicPr/>
          <p:nvPr/>
        </p:nvPicPr>
        <p:blipFill>
          <a:blip r:embed="rId1"/>
          <a:stretch/>
        </p:blipFill>
        <p:spPr>
          <a:xfrm>
            <a:off x="914400" y="1371600"/>
            <a:ext cx="735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9T15:06:06Z</dcterms:created>
  <dc:creator>Jennifer Budzinski</dc:creator>
  <dc:description/>
  <dc:language>en-US</dc:language>
  <cp:lastModifiedBy>Erich Friedman</cp:lastModifiedBy>
  <dcterms:modified xsi:type="dcterms:W3CDTF">2020-08-30T14:47:18Z</dcterms:modified>
  <cp:revision>289</cp:revision>
  <dc:subject/>
  <dc:title>Slide 1</dc:title>
</cp:coreProperties>
</file>