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59F4-F347-4DA8-9A94-EF3BF2577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88F7-E6C6-4572-8CC0-7806AD223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99C4-8423-4870-9628-5415DCEF6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4D9D-3EE8-4975-AB10-E65EFA6D9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5FF0-26D5-4C28-BFAE-778EFF9BD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EDAF-6160-4B3C-809E-F286772DF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5455-800A-4411-8B26-802EF50E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12BA-22A5-4549-9DF4-C9D3B6D76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A675A-2DA3-4029-8097-D416DFCD2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5E6F-C11E-41C6-8D71-A9287411D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3EF6-AE16-431A-9696-67BCF75B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DC1A-7B37-4929-BA29-A8F6AD632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2218-E625-4A8F-9D5F-5A045DFEA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FE92-73F3-4DF0-B750-EEF0F5B93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FDE7-45B7-4E55-A88F-3679AE2A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95E65-E05C-4D6E-B3F8-1DFCDA9F4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16F-7336-4752-AB76-A141E4D9C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7F4D5-792F-4F95-976A-2736BB849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EB32-CA93-4702-A0F9-1820CC2DA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5010-154A-4098-80A9-582C405C5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8FBA-A90E-4501-A859-08DE378E1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5684-1DCF-435A-A408-836C4D425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931A-771D-45A8-8321-4F72D2731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MERYL STREEP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postcards-from-the-edge-movie-poster-1990-1020233082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149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91fIF5yzajL._SY445_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VIL  WEARS  PR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devil_wears_prada.jpg"/>
          <p:cNvPicPr/>
          <p:nvPr/>
        </p:nvPicPr>
        <p:blipFill>
          <a:blip r:embed="rId1"/>
          <a:stretch/>
        </p:blipFill>
        <p:spPr>
          <a:xfrm>
            <a:off x="3200400" y="1295280"/>
            <a:ext cx="27432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737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amma-Mia-Movie-Poster-movie-remakes-3049048-500-375.jpg"/>
          <p:cNvPicPr/>
          <p:nvPr/>
        </p:nvPicPr>
        <p:blipFill>
          <a:blip r:embed="rId1"/>
          <a:stretch/>
        </p:blipFill>
        <p:spPr>
          <a:xfrm>
            <a:off x="1257480" y="12952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the-post-122823.jpg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4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0240" y="6854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COMPLICA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4271918024_675a653818.jpg"/>
          <p:cNvPicPr/>
          <p:nvPr/>
        </p:nvPicPr>
        <p:blipFill>
          <a:blip r:embed="rId1"/>
          <a:stretch/>
        </p:blipFill>
        <p:spPr>
          <a:xfrm>
            <a:off x="380880" y="1523880"/>
            <a:ext cx="8401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809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MER  VS.  KR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69c30b8d07fe9d4bd934b8c46d0665d6.jpg"/>
          <p:cNvPicPr/>
          <p:nvPr/>
        </p:nvPicPr>
        <p:blipFill>
          <a:blip r:embed="rId1"/>
          <a:stretch/>
        </p:blipFill>
        <p:spPr>
          <a:xfrm>
            <a:off x="2233440" y="1322280"/>
            <a:ext cx="4724640" cy="34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IDGES  OF  MADISON COU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PW-49505-1.jpg"/>
          <p:cNvPicPr/>
          <p:nvPr/>
        </p:nvPicPr>
        <p:blipFill>
          <a:blip r:embed="rId1"/>
          <a:stretch/>
        </p:blipFill>
        <p:spPr>
          <a:xfrm>
            <a:off x="2254320" y="1295280"/>
            <a:ext cx="4635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60440" y="4970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  OF 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out-of-africa-movie-kenya-590x390.jpg"/>
          <p:cNvPicPr/>
          <p:nvPr/>
        </p:nvPicPr>
        <p:blipFill>
          <a:blip r:embed="rId1"/>
          <a:stretch/>
        </p:blipFill>
        <p:spPr>
          <a:xfrm>
            <a:off x="1862280" y="1295280"/>
            <a:ext cx="5419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devil_wears_prada.jpg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  &amp;  JU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juliejulia.jpg"/>
          <p:cNvPicPr/>
          <p:nvPr/>
        </p:nvPicPr>
        <p:blipFill>
          <a:blip r:embed="rId1"/>
          <a:stretch/>
        </p:blipFill>
        <p:spPr>
          <a:xfrm>
            <a:off x="914400" y="1523880"/>
            <a:ext cx="73533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6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TCARDS  FROM  THE  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postcards-from-the-edge-movie-poster-1990-102023308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78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  FOSTER  JEN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91fIF5yzajL._SY445_.jpg"/>
          <p:cNvPicPr/>
          <p:nvPr/>
        </p:nvPicPr>
        <p:blipFill>
          <a:blip r:embed="rId1"/>
          <a:stretch/>
        </p:blipFill>
        <p:spPr>
          <a:xfrm>
            <a:off x="2871720" y="1306440"/>
            <a:ext cx="3400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amma-Mia-Movie-Poster-movie-remakes-3049048-500-375.jpg"/>
          <p:cNvPicPr/>
          <p:nvPr/>
        </p:nvPicPr>
        <p:blipFill>
          <a:blip r:embed="rId1"/>
          <a:stretch/>
        </p:blipFill>
        <p:spPr>
          <a:xfrm>
            <a:off x="1143000" y="1295280"/>
            <a:ext cx="6835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the-post-122823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24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6656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4271918024_675a653818.jpg"/>
          <p:cNvPicPr/>
          <p:nvPr/>
        </p:nvPicPr>
        <p:blipFill>
          <a:blip r:embed="rId1"/>
          <a:stretch/>
        </p:blipFill>
        <p:spPr>
          <a:xfrm>
            <a:off x="380880" y="1523880"/>
            <a:ext cx="8401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69c30b8d07fe9d4bd934b8c46d0665d6.jpg"/>
          <p:cNvPicPr/>
          <p:nvPr/>
        </p:nvPicPr>
        <p:blipFill>
          <a:blip r:embed="rId1"/>
          <a:stretch/>
        </p:blipFill>
        <p:spPr>
          <a:xfrm>
            <a:off x="1981080" y="1219320"/>
            <a:ext cx="518184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PW-49505-1.jpg"/>
          <p:cNvPicPr/>
          <p:nvPr/>
        </p:nvPicPr>
        <p:blipFill>
          <a:blip r:embed="rId1"/>
          <a:stretch/>
        </p:blipFill>
        <p:spPr>
          <a:xfrm>
            <a:off x="2133720" y="1219320"/>
            <a:ext cx="4937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out-of-africa-movie-kenya-590x390.jpg"/>
          <p:cNvPicPr/>
          <p:nvPr/>
        </p:nvPicPr>
        <p:blipFill>
          <a:blip r:embed="rId1"/>
          <a:stretch/>
        </p:blipFill>
        <p:spPr>
          <a:xfrm>
            <a:off x="1676520" y="1295280"/>
            <a:ext cx="5562360" cy="36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juliejulia.jpg"/>
          <p:cNvPicPr/>
          <p:nvPr/>
        </p:nvPicPr>
        <p:blipFill>
          <a:blip r:embed="rId1"/>
          <a:stretch/>
        </p:blipFill>
        <p:spPr>
          <a:xfrm>
            <a:off x="914400" y="1371600"/>
            <a:ext cx="735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5:06:06Z</dcterms:created>
  <dc:creator>Jennifer Budzinski</dc:creator>
  <dc:description/>
  <dc:language>en-US</dc:language>
  <cp:lastModifiedBy>Erich Friedman</cp:lastModifiedBy>
  <dcterms:modified xsi:type="dcterms:W3CDTF">2020-08-30T14:47:18Z</dcterms:modified>
  <cp:revision>289</cp:revision>
  <dc:subject/>
  <dc:title>Slide 1</dc:title>
</cp:coreProperties>
</file>