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2F56-290D-4C3C-B5FD-EBF498A6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7270-1A70-4EFD-80C0-3FCDF4353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7D0B-D272-4113-A96A-6253B099D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AB4D-4A9A-416D-AD01-8A6E508BC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04DD-6E3A-436A-AA57-BACCCFEC4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4B777-5F27-4EB4-AFE4-FEDA596B6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F861-4C8F-4DBE-9E1B-6C704691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97C5-58F7-49F2-8D36-6A2B0CE87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D38BB-B154-4802-88C3-37FDEF434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DF40-F5C7-44D7-AA1E-1F7117DB6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C224-30AF-4EC5-BFB1-EB629B763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DD55-83F7-4688-94EF-C54590779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9BE2-F0DF-4164-943E-BDA36B92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1BCF-BFEB-4729-ABCB-16F851EBE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4F74-85CA-40AF-9701-C9FBE44B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2052-8CCF-41F6-80D4-FDA483D92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9E2B-29DB-4EF0-BBF9-E00889AD2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ED76-D3B1-47CE-B386-29A7EA68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A1A9-A55F-4DEB-993B-39D9A00C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FEA9-708D-44C9-AED3-36AB2421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B392-45C7-4566-B507-FF7831BBB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E54B-8AD7-4A9C-B4C9-386594BE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6A30-C525-4C24-ADE2-24A4E872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52560" y="68580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HARACTER PORTRAYED BY THESE 4 DIFFERENT 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PERTW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B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VID TEN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DIE WHITT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CHOLAS HAMM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BEY MAGU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REW GAR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HOL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KEA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L KIL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EC BALD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RISON F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AFFL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 P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IBAL  LE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AN C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HONY HOPK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SPARD ULL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S MIKKE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RK ALY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REE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REE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NRY CAV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OF  AR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 FALCONE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GRID BERG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LLA JOVOV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ELEE SOBIESK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A  KAREN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TA GAR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VIEN LE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PHIE MARC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RA KNIGHT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NCREDIBLE  H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U FERRI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IC 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WARD NOR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 RUFFA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CHAEL KEA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AL KIL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CLO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DELANO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ITHG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MU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T CAR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VO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PERTW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BAK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VID TENN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DIE WHITT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DER–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ICHOLAS HAMM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BEY MAGU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REW GAR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 HOL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EC BALD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RISON F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 AFFL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 P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RIAN C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THONY HOPKI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ASPARD ULLI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DS MIKKEL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RK ALY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REE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REE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NRY CAV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IA FALCONET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GRID BERGM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LLA JOVOVI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ELEE SOBIESK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ETA GAR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VIEN LEIG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PHIE MARCEA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IRA KNIGHTL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U FERRIG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RIC B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DWARD NOR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 RUFFA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ITHG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MURR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T CAR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N VO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01:40:25Z</dcterms:created>
  <dc:creator>Jennifer Budzinski</dc:creator>
  <dc:description/>
  <dc:language>en-US</dc:language>
  <cp:lastModifiedBy>Erich Friedman</cp:lastModifiedBy>
  <dcterms:modified xsi:type="dcterms:W3CDTF">2021-09-21T10:47:24Z</dcterms:modified>
  <cp:revision>336</cp:revision>
  <dc:subject/>
  <dc:title>Slide 1</dc:title>
</cp:coreProperties>
</file>