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2C27-26AF-437E-9D7A-2700AC58E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FABB-E235-4B5C-BEE2-80F5D992B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91E7-C36F-469D-9649-94F547FCC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CABB-DB1D-4C34-A388-7A12EB3F4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7141-49C6-43C3-9D3B-BE897725D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F5BC-981E-4CE4-986C-1F9DA7C17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16F1-3DE2-4FF9-A148-DAE82F7A7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E77F-660E-4E09-A9A8-1A27C3872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745B-37B7-41CC-B909-7BF9D5FB3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04C3-0B8F-45C4-8C53-B8FA61F7E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6F53-82E4-41E5-8049-E48430D31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48D4-DA77-4AFF-8296-8DC05759E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3C79-D61C-4CCD-AFD2-4CF0DFAF0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1E6A-0723-4066-B55B-38EA58D53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78B6-452A-4238-8B14-0E2E74D8A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B6AD-9957-410C-82B6-EFF9A65A3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96B4-93C7-42B2-8D24-7C0B7B787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ED0E-3F68-4C21-A805-24437DFBE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113B-A902-4E4C-A942-BAD72915B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3301-F4C1-412B-B0F3-25D5CCE94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89CE-F77E-40DE-A216-1CB6C58D3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5A7A-4CAE-4154-AD53-A6AABF6A9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D3A5-C0B9-4A40-A739-686ADCE26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52560" y="68580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CHARACTER PORTRAYED BY THESE 4 DIFFERENT AC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PERTW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M B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VID TENN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DIE WHITTA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143000" y="762120"/>
            <a:ext cx="6858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ICHOLAS HAMMO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BEY MAGU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REW GAR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M HOL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AEL KEA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L KIL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CLOO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IAN B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RY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EC BALDW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RRISON F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AFFL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 P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NIBAL  LEC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IAN C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THONY HOPK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ASPARD ULL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DS MIKKEL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RK ALY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REE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OPHER REE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NRY CAV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OF  AR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IA FALCONET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GRID BERG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LLA JOVOV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ELEE SOBIESK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A  KAREN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14400" y="762120"/>
            <a:ext cx="73152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ETA GAR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VIEN LE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PHIE MARC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IRA KNIGHT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INCREDIBLE  HU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U FERRIG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IC B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DWARD NOR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K RUFFA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AEL KEA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L KIL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CLOO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IAN B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LIN  DELANO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LITHG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MURR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T CAR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VO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CTOR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PERTW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M B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VID TENN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DIE WHITTA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DER–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143000" y="762120"/>
            <a:ext cx="6858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ICHOLAS HAMMO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BEY MAGU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REW GAR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M HOL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EC BALDW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RRISON F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AFFL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 P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IAN C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THONY HOPK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ASPARD ULL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DS MIKKEL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RK ALY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REE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OPHER REE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NRY CAV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IA FALCONET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GRID BERG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LLA JOVOV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ELEE SOBIESK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14400" y="76212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ETA GAR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VIEN LE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PHIE MARC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IRA KNIGHT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U FERRIG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IC B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DWARD NOR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K RUFFA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LITHG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MURR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T CAR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N VO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01:40:25Z</dcterms:created>
  <dc:creator>Jennifer Budzinski</dc:creator>
  <dc:description/>
  <dc:language>en-US</dc:language>
  <cp:lastModifiedBy>Erich Friedman</cp:lastModifiedBy>
  <dcterms:modified xsi:type="dcterms:W3CDTF">2021-09-21T10:47:24Z</dcterms:modified>
  <cp:revision>336</cp:revision>
  <dc:subject/>
  <dc:title>Slide 1</dc:title>
</cp:coreProperties>
</file>