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2FD6-6BD0-403C-B97B-0343AF1BD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9A4B-B700-48D7-AAE1-22AC46EFD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6624-C423-425F-809B-7C02D4343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A431-52B1-4AB2-A28A-EE8002A52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E94B-5C43-4792-9988-12690F346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8F78-B33B-44A0-AF50-B84A2A766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B308-4BC7-49E6-B9F5-348F04077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E029-AD15-444D-8492-210457C8D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911B-5778-498A-AFE7-3BFCFDE1A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0ED4-15CB-4A7C-9D58-41CB92CA7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B0F1-2F62-4401-8012-1B41F57AB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D4C4-92D9-46C7-8CC5-B45E973E8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A7BF-5E4B-4F61-9E05-43CC9C49D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F20B-B820-4904-925A-21B1D2C7B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3359-1596-4F69-848C-FFE78F1D6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A219-BFD1-4D42-9A47-662A8DA72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C140-7677-430C-86F3-1A65C8404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BF83-5DDA-4455-B0AE-6B94AF3DB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8677-249D-4511-B636-289FBD2E5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7CF3-808A-43DE-BCDC-FD9531217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C5AB-3D7C-4575-83A9-8583A6B76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6B6B-A49E-4A0A-AF71-2616E9AF0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8475-3C43-4564-8DA3-32150EC62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FILMS THAT HAVE THESE UNIQUE OPENING SCE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ENERAL GIVES A SPEECH IN FRONT OF A HUGE AMERICAN FLAG FOR 6 MINU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OY PUTS ON A CLOWN MASK AND KILLS HIS OLDER SISTER WITH A KN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295280" y="4800600"/>
            <a:ext cx="655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01:  A  SPACE  ODYS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52360" y="762120"/>
            <a:ext cx="6839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ES DISPLAY VIOLENT BEHAVIOR ASIDE A BLACK MONOL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0060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ME  LIKE  IT  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905120" y="763560"/>
            <a:ext cx="5333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LICE OPEN FIRE ON A HEA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WARS:  A  NEW  H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PACESHIP IS BEING CHASED AND FIRED UPON BY A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VER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ONG SPACE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0060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OMAN SWIMMING TOPLESS IS DRAGGED UNDERNEATH TH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0060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DERS  OF  THE  LOST  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RAVE ROBBER IS CHASED BY A HUGE ROLLING SP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RTI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04840" y="762120"/>
            <a:ext cx="6934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RSUING A CRIMINAL, JIMMY STEWART ENDS UP HANGING OFF THE EDGE OF A BUILD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0060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HAT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ODY ALLEN NARRATES      A BLACK &amp; WHITE SCENE OVER GEORGE GERSHWIN'S "RHAPSODY IN 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ES DISPLAY VIOLENT BEHAVIOR ASIDE A BLACK MONOLI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486080" y="426708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Y  PYTHON  AND  THE  HOLY  GR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04880" y="762120"/>
            <a:ext cx="7734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PENING CREDITS, MOSTLY ABOUT MOOSE, ARE TRANSLATED INTO PIDGIN-SWED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0060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ENERAL GIVES A SPEECH IN FRONT OF A HUGE AMERICAN FLAG FOR 6 MINU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28600" y="4800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OW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OY PUTS ON A CLOWN MASK AND KILLS HIS OLDER SISTER WITH A KN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52480" y="761760"/>
            <a:ext cx="5639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LICE OPEN FIRE ON A HEA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52600" y="762120"/>
            <a:ext cx="803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PACESHIP IS BEING CHASED AND FIRED UPON BY A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VER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ONG SPACE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OMAN SWIMMING TOPLESS IS DRAGGED UNDERNEATH THE W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RAVE ROBBER IS CHASED BY A HUGE ROLLING SP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RSUING A CRIMINAL, JIMMY STEWART ENDS UP HANGING OFF THE EDGE OF A BUIL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ODY ALLEN NARRATES     A BLACK &amp; WHITE SCENE OVER GEORGE GERSHWIN'S "RHAPSODY IN BL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PENING CREDITS, MOSTLY ABOUT MOOSE, ARE TRANSLATED INTO PIDGIN-SWED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4T13:36:27Z</dcterms:modified>
  <cp:revision>365</cp:revision>
  <dc:subject/>
  <dc:title>Slide 1</dc:title>
</cp:coreProperties>
</file>