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195-B765-4B55-90F9-22503B5B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054-1915-4CFE-A9DC-803E0DE2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ED5-2A2B-4C9A-A1F7-999AFA76C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7ECA-8AF3-4899-8933-EDC188AF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0D0-07C2-45BB-83D4-51EEC899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2F3-EDEF-458F-83E1-75D4815F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363A-464A-4454-9FCF-B978CFEC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248B-9389-4418-B583-0A9B78CA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217-8D76-48C8-80DF-DB1663E4E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149-216D-4F9F-AB22-7B0DBE9E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2B7-D99E-4D9F-A54F-F289B88FE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F4D-46FD-4874-8588-0F49EA6A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CD8-DFCA-4017-99F8-5F08E721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C04-10C7-43E2-8402-ABC115F3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836-EC0C-4A3A-A6C2-283A615D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E78B-EB30-4E30-9446-F987FB32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ED2-FB86-4C93-82C6-0A9E4643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6BF0-962E-4336-A16B-32498BB4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629C-3B41-4BA8-859D-89D83593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720-58D2-47DF-B1FB-FE96C703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7CA-F1EE-4CC7-AB56-30CE621D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497D-BC1B-45B5-A879-8162B197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EF0-3C91-436B-8A59-A54D8827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FILMS THAT HAVE THESE UNIQUE OPENING SCE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NERAL GIVES A SPEECH IN FRONT OF A HUGE AMERICAN FLAG FOR 6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Y PUTS ON A CLOWN MASK AND KILLS HIS OLDER SISTER WITH A KN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95280" y="48006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ES DISPLAY VIOLENT BEHAVIOR ASIDE A BLACK MONOL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5120" y="763560"/>
            <a:ext cx="5333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CE OPEN FIRE ON A HEA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:  A  NEW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PACESHIP IS BEING CHASED AND FIRED UPON BY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E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MAN SWIMMING TOPLESS IS DRAGGED UNDERNEATH TH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AVE ROBBER IS CHASED BY A HUGE ROLLING 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SUING A CRIMINAL, JIMMY STEWART ENDS UP HANGING OFF THE EDGE OF A BUIL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00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ODY ALLEN NARRATES      A BLACK &amp; WHITE SCENE OVER GEORGE GERSHWIN'S "RHAPSODY IN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ES DISPLAY VIOLENT BEHAVIOR ASIDE A BLACK MONOL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267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Y  PYTHON  AND  THE  HOLY  G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PENING CREDITS, MOSTLY ABOUT MOOSE, ARE TRANSLATED INTO PIDGIN-SWED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NERAL GIVES A SPEECH IN FRONT OF A HUGE AMERICAN FLAG FOR 6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Y PUTS ON A CLOWN MASK AND KILLS HIS OLDER SISTER WITH A KN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CE OPEN FIRE ON A HEA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PACESHIP IS BEING CHASED AND FIRED UPON BY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E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MAN SWIMMING TOPLESS IS DRAGGED UNDERNEATH THE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AVE ROBBER IS CHASED BY A HUGE ROLLING 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SUING A CRIMINAL, JIMMY STEWART ENDS UP HANGING OFF THE EDGE OF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ODY ALLEN NARRATES     A BLACK &amp; WHITE SCENE OVER GEORGE GERSHWIN'S "RHAPSODY IN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PENING CREDITS, MOSTLY ABOUT MOOSE, ARE TRANSLATED INTO PIDGIN-SWED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3:36:27Z</dcterms:modified>
  <cp:revision>365</cp:revision>
  <dc:subject/>
  <dc:title>Slide 1</dc:title>
</cp:coreProperties>
</file>