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7B682-5D68-423B-8B35-C3A2A0E0ED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59146-7FAE-4469-A10D-DC7A20B255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D27D7-041F-49FC-BAE4-8040EC8F6A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6E6E2-EC1B-4791-AFA2-74C2D6589C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B4AFF-4156-4F40-AEF2-CCFAEA757E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DCB1D-E78C-4817-BBA6-F64ABAB598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4E406-D623-415E-8399-765961D8ED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9EF36-6248-46BE-828B-D9D3761CEE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F901C-4DEF-4FF6-ABBD-1F6A61F610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31A59-E2E9-4B3A-8C74-C90BD9829A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80FFA-C260-4D7A-9BD0-1D5E6EEEC9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B5798-DBE7-421F-919C-2A339E0B85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137B9-54E2-43BA-BE5B-82FD51C4FF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F676A-0C86-4413-B848-E04679A4B1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D3C4E-0B36-40B2-835C-0C6F87084D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E0CCA-6560-49E6-B87E-08CA367A3C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3E37A-632E-4D82-86BD-4222F216C6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26858-F6F2-4E40-879A-4306C38AC9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94674-1643-480D-955D-003C4B24DE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AC4CF-D3A5-4414-8C7D-92832D05B6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7C184-6FC5-4CBF-A1AB-CBD0BC8927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AF406-FDAF-479E-8E45-692F918A60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6BE3F-80D7-41A2-846B-DE0A70B2E4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838080" y="1447560"/>
            <a:ext cx="74678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DENTIFY THESE ACTORS AND ACTRESSES WHEN THEY WERE YOUNG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2448000" y="1295280"/>
            <a:ext cx="4248000" cy="3627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2227320" y="1295280"/>
            <a:ext cx="468936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Rectangle 3"/>
          <p:cNvSpPr/>
          <p:nvPr/>
        </p:nvSpPr>
        <p:spPr>
          <a:xfrm>
            <a:off x="457200" y="502920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OM  HAN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3" descr=""/>
          <p:cNvPicPr/>
          <p:nvPr/>
        </p:nvPicPr>
        <p:blipFill>
          <a:blip r:embed="rId1"/>
          <a:stretch/>
        </p:blipFill>
        <p:spPr>
          <a:xfrm>
            <a:off x="2952720" y="1295280"/>
            <a:ext cx="3238560" cy="3699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Rectangle 3"/>
          <p:cNvSpPr/>
          <p:nvPr/>
        </p:nvSpPr>
        <p:spPr>
          <a:xfrm>
            <a:off x="457200" y="502920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OLDIE  HAW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3079800" y="1295280"/>
            <a:ext cx="2984400" cy="365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Rectangle 3"/>
          <p:cNvSpPr/>
          <p:nvPr/>
        </p:nvSpPr>
        <p:spPr>
          <a:xfrm>
            <a:off x="304920" y="5029200"/>
            <a:ext cx="85341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LINT  EASTWOO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3" descr=""/>
          <p:cNvPicPr/>
          <p:nvPr/>
        </p:nvPicPr>
        <p:blipFill>
          <a:blip r:embed="rId1"/>
          <a:stretch/>
        </p:blipFill>
        <p:spPr>
          <a:xfrm>
            <a:off x="2914560" y="1295280"/>
            <a:ext cx="3314880" cy="3646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380880" y="685440"/>
            <a:ext cx="8382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EONARDO  DICAPR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3" descr=""/>
          <p:cNvPicPr/>
          <p:nvPr/>
        </p:nvPicPr>
        <p:blipFill>
          <a:blip r:embed="rId1"/>
          <a:stretch/>
        </p:blipFill>
        <p:spPr>
          <a:xfrm>
            <a:off x="3097080" y="1295280"/>
            <a:ext cx="2949840" cy="363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ERYL  STREE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2486160" y="1301760"/>
            <a:ext cx="4171680" cy="3733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AMUEL  L.  JACK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3" descr=""/>
          <p:cNvPicPr/>
          <p:nvPr/>
        </p:nvPicPr>
        <p:blipFill>
          <a:blip r:embed="rId1"/>
          <a:stretch/>
        </p:blipFill>
        <p:spPr>
          <a:xfrm>
            <a:off x="3021120" y="1295280"/>
            <a:ext cx="3101760" cy="3621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ZOOEY  DESCHAN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2" descr=""/>
          <p:cNvPicPr/>
          <p:nvPr/>
        </p:nvPicPr>
        <p:blipFill>
          <a:blip r:embed="rId1"/>
          <a:stretch/>
        </p:blipFill>
        <p:spPr>
          <a:xfrm>
            <a:off x="3016080" y="1295280"/>
            <a:ext cx="3111840" cy="365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2952720" y="1295280"/>
            <a:ext cx="3238560" cy="369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380880" y="5029200"/>
            <a:ext cx="8458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OBIN  WILLIA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3" descr=""/>
          <p:cNvPicPr/>
          <p:nvPr/>
        </p:nvPicPr>
        <p:blipFill>
          <a:blip r:embed="rId1"/>
          <a:stretch/>
        </p:blipFill>
        <p:spPr>
          <a:xfrm>
            <a:off x="2957400" y="1295280"/>
            <a:ext cx="3229200" cy="365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53352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Rectangle 3"/>
          <p:cNvSpPr/>
          <p:nvPr/>
        </p:nvSpPr>
        <p:spPr>
          <a:xfrm>
            <a:off x="457200" y="502920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NGELINA  JOL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2" descr=""/>
          <p:cNvPicPr/>
          <p:nvPr/>
        </p:nvPicPr>
        <p:blipFill>
          <a:blip r:embed="rId1"/>
          <a:stretch/>
        </p:blipFill>
        <p:spPr>
          <a:xfrm>
            <a:off x="2448000" y="1295280"/>
            <a:ext cx="4248000" cy="3627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Rectangle 3"/>
          <p:cNvSpPr/>
          <p:nvPr/>
        </p:nvSpPr>
        <p:spPr>
          <a:xfrm>
            <a:off x="457200" y="446724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3000"/>
          </a:bodyPr>
          <a:p>
            <a:pPr marL="181800" indent="-1818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EAN  PENN  &amp;  NICHOLAS  CAGE  (ONE  POINT  FOR  EACH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1800" indent="-1818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1800" indent="-1818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3" descr=""/>
          <p:cNvPicPr/>
          <p:nvPr/>
        </p:nvPicPr>
        <p:blipFill>
          <a:blip r:embed="rId1"/>
          <a:stretch/>
        </p:blipFill>
        <p:spPr>
          <a:xfrm>
            <a:off x="2552760" y="1309680"/>
            <a:ext cx="4038480" cy="3151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3079800" y="1295280"/>
            <a:ext cx="298440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2914560" y="1295280"/>
            <a:ext cx="3314880" cy="364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3097080" y="1295280"/>
            <a:ext cx="2949840" cy="363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2486160" y="1301760"/>
            <a:ext cx="4171680" cy="37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Picture 4" descr=""/>
          <p:cNvPicPr/>
          <p:nvPr/>
        </p:nvPicPr>
        <p:blipFill>
          <a:blip r:embed="rId1"/>
          <a:stretch/>
        </p:blipFill>
        <p:spPr>
          <a:xfrm>
            <a:off x="3021120" y="1295280"/>
            <a:ext cx="3101760" cy="3621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3016080" y="1295280"/>
            <a:ext cx="311184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2957400" y="1295280"/>
            <a:ext cx="3229200" cy="36576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11T14:39:58Z</dcterms:created>
  <dc:creator>Jennifer Budzinski</dc:creator>
  <dc:description/>
  <dc:language>en-US</dc:language>
  <cp:lastModifiedBy>Erich Friedman</cp:lastModifiedBy>
  <dcterms:modified xsi:type="dcterms:W3CDTF">2021-06-13T14:45:55Z</dcterms:modified>
  <cp:revision>289</cp:revision>
  <dc:subject/>
  <dc:title>Slide 1</dc:title>
</cp:coreProperties>
</file>