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9555-5E45-4FBF-BA8B-4E0AC029E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0827-E0BC-43BC-9C1E-FCA08A219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1E65-8202-4BC0-B32A-BBFE4BBE2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C668-BF14-4861-80D6-11BCF6ADA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0735-8BE2-4C79-997F-E95660314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B0AF-8294-4A6B-BBBB-FA0D4FD64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25D0-2AFD-4671-95DC-DFADE60ED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49C5-919C-4EC5-A78A-9B77FA8F3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44EA-7F10-4C40-9F23-CA59E19E5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D63C-24BC-4ACF-B87C-1400F34E3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0F31-ED53-4CA5-873D-E65E8D6BF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F12F-C84A-4930-AE7B-97ED8A385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BA8A-1023-4A36-AC64-47FD3355F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0A7F-8F42-4A13-A4CE-E747BCB15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8C3D-69D3-4682-9C7A-772965D02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E5DB-93CA-4799-ACB4-EBA4C6DD4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AF63-41E7-487B-BF50-E9AD5A475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81AC-2FAD-48D3-BA51-50C67725B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D640-0E17-4A72-B456-4FC3ACD4E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5E2D-014F-4CD4-896A-B33A2F906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1C76-475D-4607-97A4-DBBDF8108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F32C-6A19-473F-BBB1-32785495B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9476-5CAA-4D9C-A6B6-494007569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38080" y="1447560"/>
            <a:ext cx="7467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ACTORS AND ACTRESSES WHEN THEY WERE YOUNG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448000" y="1295280"/>
            <a:ext cx="4248000" cy="362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227320" y="1295280"/>
            <a:ext cx="46893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HA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952720" y="1295280"/>
            <a:ext cx="3238560" cy="369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DIE  HA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079800" y="1295280"/>
            <a:ext cx="29844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INT  EAST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914560" y="1295280"/>
            <a:ext cx="3314880" cy="364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ONARDO  DICAP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3097080" y="1295280"/>
            <a:ext cx="2949840" cy="36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RYL  STR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2486160" y="1301760"/>
            <a:ext cx="417168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UEL  L.  JAC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3021120" y="1295280"/>
            <a:ext cx="3101760" cy="362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OOEY  DESCHA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3016080" y="1295280"/>
            <a:ext cx="311184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952720" y="1295280"/>
            <a:ext cx="3238560" cy="369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IN  WILLI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2957400" y="1295280"/>
            <a:ext cx="32292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GELINA  JOL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448000" y="1295280"/>
            <a:ext cx="4248000" cy="362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46724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N  PENN  &amp;  NICHOLAS  CAGE  (ONE  POINT  FOR  EACH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2552760" y="1309680"/>
            <a:ext cx="4038480" cy="315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079800" y="1295280"/>
            <a:ext cx="29844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914560" y="1295280"/>
            <a:ext cx="3314880" cy="36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097080" y="1295280"/>
            <a:ext cx="2949840" cy="36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486160" y="1301760"/>
            <a:ext cx="417168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3021120" y="1295280"/>
            <a:ext cx="3101760" cy="362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016080" y="1295280"/>
            <a:ext cx="31118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957400" y="1295280"/>
            <a:ext cx="32292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1-06-13T14:45:55Z</dcterms:modified>
  <cp:revision>289</cp:revision>
  <dc:subject/>
  <dc:title>Slide 1</dc:title>
</cp:coreProperties>
</file>