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2F1-2E36-47BF-90B8-5FD8FC8E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5021-9127-4F2D-B096-C43EED5A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BF2-B550-4C61-A11B-CCFDAD9D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B11-7939-427C-AA59-64E4D057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3AE-9C37-476D-920A-CA97802F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D842-29E5-458A-A753-73EE179B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32F-9FCD-4BFD-BC0F-A04A13CA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701-A99D-4D00-859D-56852701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E90-3A01-48B5-9D40-D2D281E5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DF61-7762-4BD6-9048-8AF938C4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CCD9-7DC8-4B5A-BC07-627D8B47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142-B565-445D-BE67-E2E30651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5DC-3713-444C-BF1D-AE6A95C6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D3D1-5A0D-46F0-B580-DDBF984B1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7DAA-0E78-40AA-BB1D-25D3782D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8BB-C13E-4EC5-BB21-D87F0408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96A-1773-4B45-8232-D9FBECCF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011-8E56-4045-9D2C-2E904733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68DA-82DC-4A63-96F5-452421B4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D11-AC99-4293-B4B4-01F28403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9184-90A1-40D3-89B6-EA25D1C3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DA78-7123-470B-8380-3FD9AFF2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5BC-2941-4001-8BBC-5DF44A59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066680"/>
            <a:ext cx="476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RED SALLY FIELD AND JAMES GARNER IN A MAY-DECEMBER RELAT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5920" y="762120"/>
            <a:ext cx="837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JULIA ROBERTS PLAY THE MAID OF JOHN MALKOVICH, WHO PLAYS DR. JEKYLL / MR. HY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ORITY 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CI-FI FILM STARRED TOM CRUISE AS A DETECTIVE WORKING FOR THE PRECRIME DI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  R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4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8 ACTION FILM DOES FBI AGENT BRUCE WILLIS PROTECT A YOUNG AUTISTIC BOY WHO CRACKS A SECRET GOVERNMENT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C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DIRECTED BY CLINT EASTWOOD DID SEAN PENN AND TIM ROBBINS WIN OSCARS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LIN  ROU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360" y="762120"/>
            <a:ext cx="890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ING NICOLE KIDMAN AND EWAN MCGREGOR WAS THE FIRST MUSICAL IN A DECADE TO BE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CHANIC:  RESU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ACTION FILM SEQUEL STARRED JASON STATHAM, JESSICA ALBA,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'S 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8920" y="762120"/>
            <a:ext cx="716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AMILY DRAMA FILM STARRED MERYL STREEP, LEONARDO DICAPRIO, DIANE KEATON, AND ROBERT DE NI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ER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5 NAVAL FILM STARRED HENRY FONDA, JAMES CAGNEY, WILLIAM POWELL, AND JACK LE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3360" y="762120"/>
            <a:ext cx="788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CI-FI FILM STARRED TOM CRUISE AS A DETECTIVE WORKING FOR THE PRECRIME DIVI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ER'S 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04840" y="762120"/>
            <a:ext cx="87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N MARTIN PLAYED GOVERNMENT AGENT MATT HELM IN 4 DIFFERENT 60'S FILMS: "THE SILENCERS",    "THE WRECKING CREW", "THE AMBUSHERS", 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PHY'S  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RED SALLY FIELD AND JAMES GARNER IN A MAY-DECEMBER RELAT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RE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1160" y="762120"/>
            <a:ext cx="85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JULIA ROBERTS PLAY THE MAID OF JOHN MALKOVICH, WHO PLAYS DR. JEKYLL / MR. HY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7680" y="761760"/>
            <a:ext cx="846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8 ACTION FILM DOES FBI AGENT BRUCE WILLIS PROTECT A YOUNG AUTISTIC BOY WHO CRACKS A SECRET GOVERNMENT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8880" y="762120"/>
            <a:ext cx="816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DIRECTED BY CLINT EASTWOOD DID SEAN PENN AND TIM ROBBINS WIN OSCARS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40" y="762120"/>
            <a:ext cx="903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ING NICOLE KIDMAN AND EWAN MCGREGOR WAS THE FIRST MUSICAL IN A DECADE TO BE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ACTION FILM SEQUEL STARRED JASON STATHAM, JESSICA ALBA, AND TOMMY LEE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AMILY DRAMA FILM STARRED MERYL STREEP, LEONARDO DICAPRIO, DIANE KEATON, AND ROBERT DE NI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5 NAVAL FILM STARRED HENRY FONDA, JAMES CAGNEY, WILLIAM POWELL, AND JACK LE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4840" y="761760"/>
            <a:ext cx="87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N MARTIN PLAYED GOVERNMENT AGENT MATT HELM IN 4 DIFFERENT 60'S FILMS: "THE SILENCERS",    "THE WRECKING CREW", "THE AMBUSHERS", AND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9:16:56Z</dcterms:modified>
  <cp:revision>376</cp:revision>
  <dc:subject/>
  <dc:title>Slide 1</dc:title>
</cp:coreProperties>
</file>