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CE2B-1D58-4450-8AD9-D8FAFE509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043C-443D-4947-ACE4-4D543777C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2CD5-B9DD-4C9A-B47E-1E1258282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F04C-9004-4068-8ABA-1294BEEF2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31FE-F210-4128-A2D1-82AE85868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13A4-6904-4F8A-87AC-85734606B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2FF8-FB03-4161-9D58-94D2A8B5B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31D1-AF83-402A-A30E-019F501C7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2133-2BA4-4081-9C95-0FF6DFF6A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630B-429A-4FD3-959D-A35313BBB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2247-37E1-4B9B-B44D-1131DAA48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C8AF-9282-4EE0-A114-6A59D4FF7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7F75-0959-4BA2-8FFE-34F502EF3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5F50-E4AB-4FA4-B040-23E02A70D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97A6-BC22-4843-83E4-786853934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A2BE-61FA-432F-B567-A461967DD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DBB9-4ABD-4D6C-8C45-3DD2B3739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6A56-BD92-4EEF-80BD-0A1CCA920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16F3-C286-4DB0-A990-C2CE24896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533A-11B8-4A40-8559-73A5EFF95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B19D-4E73-4FD8-A5B2-3C0EF4D8D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7A78-CBD5-43F6-951E-D03A1A50B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7F70-DF38-409E-83E4-A83A154B5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190600" y="1066680"/>
            <a:ext cx="4762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TITLE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320" y="761760"/>
            <a:ext cx="8991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STARRED SALLY FIELD AND JAMES GARNER IN A MAY-DECEMBER RELATIONSH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85920" y="762120"/>
            <a:ext cx="8372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DOES JULIA ROBERTS PLAY THE MAID OF JOHN MALKOVICH, WHO PLAYS DR. JEKYLL / MR. HY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ORITY 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61880" y="762120"/>
            <a:ext cx="8218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SCI-FI FILM STARRED TOM CRUISE AS A DETECTIVE WORKING FOR THE PRECRIME DIVI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URY  R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01760" y="762120"/>
            <a:ext cx="83404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8 ACTION FILM DOES FBI AGENT BRUCE WILLIS PROTECT A YOUNG AUTISTIC BOY WHO CRACKS A SECRET GOVERNMENT CO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STIC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95280" y="762120"/>
            <a:ext cx="83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03 FILM DIRECTED BY CLINT EASTWOOD DID SEAN PENN AND TIM ROBBINS WIN OSCARS FOR AC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LIN  ROUG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7360" y="762120"/>
            <a:ext cx="8907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STARRING NICOLE KIDMAN AND EWAN MCGREGOR WAS THE FIRST MUSICAL IN A DECADE TO BE NOMINATED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CHANIC:  RESUR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ACTION FILM SEQUEL STARRED JASON STATHAM, JESSICA ALBA, AND TOMMY LEE JO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VIN'S  RO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88920" y="762120"/>
            <a:ext cx="7164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FAMILY DRAMA FILM STARRED MERYL STREEP, LEONARDO DICAPRIO, DIANE KEATON, AND ROBERT DE NI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TER 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5 NAVAL FILM STARRED HENRY FONDA, JAMES CAGNEY, WILLIAM POWELL, AND JACK LE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23360" y="762120"/>
            <a:ext cx="7882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2 SCI-FI FILM STARRED TOM CRUISE AS A DETECTIVE WORKING FOR THE PRECRIME DIVIS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RDERER'S  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04840" y="762120"/>
            <a:ext cx="873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N MARTIN PLAYED GOVERNMENT AGENT MATT HELM IN 4 DIFFERENT 60'S FILMS: "THE SILENCERS",    "THE WRECKING CREW", "THE AMBUSHERS", AND W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RPHY'S  RO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09520" y="762120"/>
            <a:ext cx="87249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STARRED SALLY FIELD AND JAMES GARNER IN A MAY-DECEMBER RELATION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REI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81160" y="762120"/>
            <a:ext cx="858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6 FILM DOES JULIA ROBERTS PLAY THE MAID OF JOHN MALKOVICH, WHO PLAYS DR. JEKYLL / MR. HY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37680" y="761760"/>
            <a:ext cx="8466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1998 ACTION FILM DOES FBI AGENT BRUCE WILLIS PROTECT A YOUNG AUTISTIC BOY WHO CRACKS A SECRET GOVERNMENT C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88880" y="762120"/>
            <a:ext cx="816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2003 FILM DIRECTED BY CLINT EASTWOOD DID SEAN PENN AND TIM ROBBINS WIN OSCARS FOR AC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5440" y="762120"/>
            <a:ext cx="9033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1 FILM STARRING NICOLE KIDMAN AND EWAN MCGREGOR WAS THE FIRST MUSICAL IN A DECADE TO BE NOMINATED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3000" y="761760"/>
            <a:ext cx="7398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6 ACTION FILM SEQUEL STARRED JASON STATHAM, JESSICA ALBA, AND TOMMY LEE JO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41440" y="761760"/>
            <a:ext cx="8061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6 FAMILY DRAMA FILM STARRED MERYL STREEP, LEONARDO DICAPRIO, DIANE KEATON, AND ROBERT DE NI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33360" y="761760"/>
            <a:ext cx="8477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5 NAVAL FILM STARRED HENRY FONDA, JAMES CAGNEY, WILLIAM POWELL, AND JACK LE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04840" y="761760"/>
            <a:ext cx="8734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AN MARTIN PLAYED GOVERNMENT AGENT MATT HELM IN 4 DIFFERENT 60'S FILMS: "THE SILENCERS",    "THE WRECKING CREW", "THE AMBUSHERS", AND WHAT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12-18T19:16:56Z</dcterms:modified>
  <cp:revision>376</cp:revision>
  <dc:subject/>
  <dc:title>Slide 1</dc:title>
</cp:coreProperties>
</file>