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505B-755C-4958-9984-D746C9554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6DAE-81E4-4AA1-B7FA-5BC279CDF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BF7A6-437C-4FD2-906B-6C0F3C2D0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809B6-B061-44F9-A257-37FBB45B6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7EE8C-D8B1-4988-BC31-604EDD5B9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1107F-EFC6-490B-AFB8-285DE0A46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365A-7CDA-4A67-8975-9DB6BC9B60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E4B6-AAB2-4A52-AFBF-2A3B2FF28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3B864-F84F-451C-A36A-6D52B5B77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C4C3F-E2CB-419D-8C3F-1E4C264550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1F68-698A-4F16-8976-57557E738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7D33-F0C0-4BEB-B195-8DA9338B9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C7B14-82B3-43EC-8FDC-EE9907E3DD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7422B-92DB-42AA-9B8F-91C5A7E9C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510D6-A2A6-4D3B-A281-40A4D1A39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3F78-D5F3-4DC3-9AC5-73C3CC666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D6F5-E1CB-4707-981A-3E2B28AA45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997D-D9AC-45A6-9540-45E320BDE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7B84-F785-4D55-B872-0B54E72CE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2D306-094A-47B0-ABEB-A8B7A2B9D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A5E8-3CB0-482B-9642-345AC34F6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70FC0-20C1-4EAD-ABF8-DF8DD3B7F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D488-7FDE-4D0A-8B89-9CAD5526B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486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HITCHCOCK MOVIE POST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2144880" y="1300320"/>
            <a:ext cx="4854240" cy="37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948040" y="1295280"/>
            <a:ext cx="3247920" cy="36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VERTI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2697120" y="1295280"/>
            <a:ext cx="372132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457200" y="494496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R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2365200" y="1252440"/>
            <a:ext cx="4413600" cy="3548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304920" y="4915080"/>
            <a:ext cx="85341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AR  WIND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1809720" y="1295280"/>
            <a:ext cx="5524560" cy="353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L  M  FOR  MU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2427120" y="1295280"/>
            <a:ext cx="42897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4890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EBEC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3" descr=""/>
          <p:cNvPicPr/>
          <p:nvPr/>
        </p:nvPicPr>
        <p:blipFill>
          <a:blip r:embed="rId1"/>
          <a:stretch/>
        </p:blipFill>
        <p:spPr>
          <a:xfrm>
            <a:off x="2857680" y="1295280"/>
            <a:ext cx="3429000" cy="344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RANGERS  ON  A  TR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232000" y="1295280"/>
            <a:ext cx="46800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4971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SYC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3059280" y="1295280"/>
            <a:ext cx="3025440" cy="36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651040" y="1295280"/>
            <a:ext cx="3841920" cy="361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43080" y="4925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BY  NORTHWE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314880" y="1295280"/>
            <a:ext cx="2514600" cy="35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57200" y="4968720"/>
            <a:ext cx="8229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8000"/>
          </a:bodyPr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39  STEP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95760" indent="-957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2214720" y="1295280"/>
            <a:ext cx="4713120" cy="362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HADOW  OF  A  DOUB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948040" y="1295280"/>
            <a:ext cx="3247920" cy="36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292480" y="1295280"/>
            <a:ext cx="4559040" cy="36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809720" y="1295280"/>
            <a:ext cx="5524560" cy="353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381400" y="1295280"/>
            <a:ext cx="438120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5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152800" y="1295280"/>
            <a:ext cx="4838400" cy="362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009960" y="1276200"/>
            <a:ext cx="3124080" cy="37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276720" y="1279440"/>
            <a:ext cx="2598480" cy="3673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2-01-30T19:44:36Z</dcterms:modified>
  <cp:revision>288</cp:revision>
  <dc:subject/>
  <dc:title>Slide 1</dc:title>
</cp:coreProperties>
</file>