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B8DB-A568-4264-93E6-E3A8A51E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7EDA-63D5-4B94-8C10-DC8BAAB3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87D-B300-4501-B2A7-F9D27E82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721F-4CDE-4E40-857D-60C68B3A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D33-3D3C-4CFD-8267-E8F3F245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21A-E9BF-4110-8BF6-D73880E3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D67A-DE60-414C-A138-AA683109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F7CF-02DF-4265-BEF0-900EEBB8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E7D7-CE6F-4276-B099-B42C2E80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3EB-C69C-4BD8-8267-B7762428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CD6-AE2D-4CFB-8A3A-26075033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110A-A55C-4A0E-8A74-686D2092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A7D-E15D-453F-8B26-8A77A97B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E314-20F4-4538-8315-60036226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4A3-2CF9-45F5-BD8F-0FB46224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A5D6-BF31-464F-8C18-6291A239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4F8B-20D1-485C-BA53-567A4F03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74F-3339-436F-A436-CABDE909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706-26AC-4E87-A9B0-A732C4DC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6CD8-29BE-42CC-A818-280603ED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A48-2280-40A8-BFF9-7E74F79D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28E-B3DA-4138-9B5B-0812DAF3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355-A4A4-49CB-BD69-4AD8AC1E4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HITCHCOCK MOVI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4880" y="1300320"/>
            <a:ext cx="485424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697120" y="1295280"/>
            <a:ext cx="3721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449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5200" y="1252440"/>
            <a:ext cx="4413600" cy="35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R 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09720" y="1295280"/>
            <a:ext cx="552456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  M  FOR  MU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89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S  ON  A 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32000" y="12952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59280" y="1295280"/>
            <a:ext cx="302544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651040" y="1295280"/>
            <a:ext cx="38419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25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314880" y="1295280"/>
            <a:ext cx="251460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87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39  STEP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14720" y="1295280"/>
            <a:ext cx="4713120" cy="36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  OF  A  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92480" y="1295280"/>
            <a:ext cx="455904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09720" y="1295280"/>
            <a:ext cx="55245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52800" y="1295280"/>
            <a:ext cx="483840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09960" y="1276200"/>
            <a:ext cx="31240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76720" y="1279440"/>
            <a:ext cx="25984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30T19:44:36Z</dcterms:modified>
  <cp:revision>288</cp:revision>
  <dc:subject/>
  <dc:title>Slide 1</dc:title>
</cp:coreProperties>
</file>