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5A31-36C7-465B-B7CF-67B19A09D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77AF-2480-42ED-88DE-23C5CC88B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F03B-5CA4-4922-B228-1BAC1574D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AAB1-4275-442B-A253-FF594D62C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8DAF-78B3-4D01-90E9-D2A0E73BF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2B88-4DB7-4CB5-86EA-A696B2675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C06B-EB80-4752-90AA-616E6A7F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1002-E075-4412-8DE6-E04278C4C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590A-102F-4D82-9973-AE3BA9641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607D-8475-4190-AEE9-0341EA0B8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5743-4816-4498-A212-8981D24F7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4EB3-613C-49C5-AB21-95B60B354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2299-BAE8-4389-B671-383E5C5E5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EBFD-6D82-4CA7-80F6-ECD23D6E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CFB7-1310-4E15-9384-D02D9518E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B455-D90D-4DD7-BE8C-E16A69955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A3BA-CB97-42A2-8BE2-39A0071E0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0245-EA05-41E1-B1EF-5938792CB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8D53-8FA8-4B34-B233-099E4F179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5A34-CCDD-4A05-9849-CC42A3F40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2ACC-2005-41D4-953C-73F0AC215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D782-C4E6-4F40-ACE8-D8480B4D4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0195-A686-425A-8F72-1AD393679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GREEN"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ABOUT THE SOUTH WALES COALFIELDS WON THE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ILM ABOUT A MARRIAGE OF CONVENIENCE STARRED ANDIE MACDOWELL AND GÉRARD DEPARDIE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EN  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83808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TOM HANKS FILM IS ABOUT A PRISON GUARD AND THE SUPERNATURAL THINGS HE EXPERIEN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LAN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IS ABOUT A TEST PILOT WHO GETS A RING THAT GIVES HIM SUPERP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D  GREEN  TOMA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IS ABOUT A FRIENDSHIP BETWEEN A HOUSEWIFE AND A NURSING HOME PATIENT WHO TELLS OF 1920'S ALA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YLENT 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FILM IS ABOUT FUTURISTIC OVERPOPULATION AND EUTHAN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EN  HO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SUPERHERO COMEDY FILM WAS BASED ON A 1930'S RADIO PROGRAM AND A 1960'S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47640" y="781200"/>
            <a:ext cx="784872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WAR THRILLER STARRED MATT DAMON, BUT WAS A BOX-OFFICE FL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DD  LIFE  OF  TIMOTHY 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68580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WAS ABOUT A MAGICAL BOY WHO HAD LEAVES GROWING OUT OF HIS LE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8080" y="83772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TOM HANKS FILM IS ABOUT A PRISON GUARD AND THE SUPERNATURAL THINGS HE EXPERIEN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EN  BER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VIETNAM WAR FILM STARRED JOHN WAYNE AND JIM HUT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 GREEN  WAS  MY  V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ABOUT THE SOUTH WALES COALFIELDS WON THE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ILM ABOUT A MARRIAGE OF CONVENIENCE STARRED ANDIE MACDOWELL AND GÉRARD DEPARDIE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IS ABOUT A TEST PILOT WHO GETS A RING THAT GIVES HIM SUPERP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IS ABOUT A FRIENDSHIP BETWEEN A HOUSEWIFE AND A NURSING HOME PATIENT WHO TELLS OF 1920'S ALA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FILM IS ABOUT FUTURISTIC OVERPOPULATION AND EUTHANA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SUPERHERO COMEDY FILM WAS BASED ON A 1930'S RADIO PROGRAM AND A 1960'S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WAR THRILLER STARRED MATT DAMON, BUT WAS A BOX-OFFICE FL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WAS ABOUT A MAGICAL BOY WHO HAD LEAVES GROWING OUT OF HIS LE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VIETNAM WAR FILM STARRED JOHN WAYNE AND JIM HUT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0:43:25Z</dcterms:created>
  <dc:creator>Jennifer Budzinski</dc:creator>
  <dc:description/>
  <dc:language>en-US</dc:language>
  <cp:lastModifiedBy>Erich Friedman</cp:lastModifiedBy>
  <dcterms:modified xsi:type="dcterms:W3CDTF">2021-12-18T19:30:04Z</dcterms:modified>
  <cp:revision>348</cp:revision>
  <dc:subject/>
  <dc:title>Slide 1</dc:title>
</cp:coreProperties>
</file>