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D9F1-E5A6-4FDC-AD66-57AA8CF7B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108E-E5DD-4CF7-A1BA-240976D58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1188-4CD9-410A-AE93-CA4DF60DD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5A7E-31F2-4CF6-A44F-D3FB39852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C1EC-A829-402B-BCAF-D2F861723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C4D1-F277-467C-8127-AC8D7DA0C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A3F6-A8AD-4D87-8827-AD0C0F3A3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B6F5-633E-4AC6-869F-1316449C6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4CDA-90D0-4EEC-BF13-AD36866C6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9F18-D35A-4ADD-9A81-8AF623226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5D77-6E20-4CC9-A714-7C78EC041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DF0B-C40B-4487-9368-10630BBDF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4438-1430-4C14-A8D3-98D773E96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2526E-E8F7-491F-9EA2-5207C3A8D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9783-299B-464C-B382-D9EC772B5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2F04-88F4-4DD0-BFEA-3C4A74EEC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4EB6D-3158-4A02-9C24-FBFB8B645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A23E-A64F-49DA-8E89-C9934AC19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A527-B6CA-4C44-9127-D0D4526E5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F2BC-35EA-4EFD-8CC2-A42467347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8D765-D15F-441E-8061-8D82B3E62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6AFD-9F51-45FC-8206-DB61DA659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B45DE-C966-46AC-A740-344B933E8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"GREEN" FIL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1 FILM ABOUT THE SOUTH WALES COALFIELDS WON THE OSCAR FOR BEST PIC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094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FILM ABOUT A MARRIAGE OF CONVENIENCE STARRED ANDIE MACDOWELL AND GÉRARD DEPARDIE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EN  M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838080"/>
            <a:ext cx="7543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TOM HANKS FILM IS ABOUT A PRISON GUARD AND THE SUPERNATURAL THINGS HE EXPERIENC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LANT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IS ABOUT A TEST PILOT WHO GETS A RING THAT GIVES HIM SUPERPO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D  GREEN  TOMAT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IS ABOUT A FRIENDSHIP BETWEEN A HOUSEWIFE AND A NURSING HOME PATIENT WHO TELLS OF 1920'S ALAB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YLENT  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FILM IS ABOUT FUTURISTIC OVERPOPULATION AND EUTHANAS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EN  HOR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SUPERHERO COMEDY FILM WAS BASED ON A 1930'S RADIO PROGRAM AND A 1960'S TV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Z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47640" y="781200"/>
            <a:ext cx="7848720" cy="30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WAR THRILLER STARRED MATT DAMON, BUT WAS A BOX-OFFICE FLO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DD  LIFE  OF  TIMOTHY  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68580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WAS ABOUT A MAGICAL BOY WHO HAD LEAVES GROWING OUT OF HIS LE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8080" y="83772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9 TOM HANKS FILM IS ABOUT A PRISON GUARD AND THE SUPERNATURAL THINGS HE EXPERIENC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EN  BER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4400" y="762120"/>
            <a:ext cx="7315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VIETNAM WAR FILM STARRED JOHN WAYNE AND JIM HUTT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0" y="4800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  GREEN  WAS  MY  VA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41 FILM ABOUT THE SOUTH WALES COALFIELDS WON THE OSCAR FOR BEST PI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  C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0 FILM ABOUT A MARRIAGE OF CONVENIENCE STARRED ANDIE MACDOWELL AND GÉRARD DEPARDIE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FILM IS ABOUT A TEST PILOT WHO GETS A RING THAT GIVES HIM SUPERPO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IS ABOUT A FRIENDSHIP BETWEEN A HOUSEWIFE AND A NURSING HOME PATIENT WHO TELLS OF 1920'S ALAB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3 FILM IS ABOUT FUTURISTIC OVERPOPULATION AND EUTHANAS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SUPERHERO COMEDY FILM WAS BASED ON A 1930'S RADIO PROGRAM AND A 1960'S TV SH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0 WAR THRILLER STARRED MATT DAMON, BUT WAS A BOX-OFFICE FLO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WAS ABOUT A MAGICAL BOY WHO HAD LEAVES GROWING OUT OF HIS LE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68 VIETNAM WAR FILM STARRED JOHN WAYNE AND JIM HUTT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0:43:25Z</dcterms:created>
  <dc:creator>Jennifer Budzinski</dc:creator>
  <dc:description/>
  <dc:language>en-US</dc:language>
  <cp:lastModifiedBy>Erich Friedman</cp:lastModifiedBy>
  <dcterms:modified xsi:type="dcterms:W3CDTF">2021-12-18T19:30:04Z</dcterms:modified>
  <cp:revision>348</cp:revision>
  <dc:subject/>
  <dc:title>Slide 1</dc:title>
</cp:coreProperties>
</file>