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9630-88E6-4156-8E12-0897F7FB9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1DD9-45D3-48F1-989F-D15379CC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12EA-42C7-4938-B8A3-1C178396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3CB8-E057-4A0F-B4DF-C17B137B0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8B13-680B-44EF-9753-432ECB8BB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B7DC-7312-4B01-9AA4-9EA0838B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E5E6-25B5-43AF-8819-5CDD9997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E9E0-4C73-4772-A216-B9B1C6D5D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DB74-F6A9-4E1D-9A27-2FC3BB9C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FEF5-5498-4B35-BA34-AFFC6D39B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FA88-3025-4AB2-AB01-7961948D2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F30F-96F0-4A1F-AE93-E306E065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E295-BB63-4D6E-91BF-D0A00C7B9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F934-0548-47FE-9EED-5A189DF0F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3F5-837C-460C-9FCB-FA9BF9AFE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6744-2E45-40FF-9543-B7314969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DE4D-2B6A-4128-8F52-1B1E5F79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C60D-45C6-4211-B28E-78DD64F3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2BF-8B11-46BF-965F-7791B7081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195B-E2BF-40A8-8F86-E43590713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82A0-0360-4165-901E-A2EE352E8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804A-627C-4518-9299-55576AA2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A81C-5DD1-45FB-862B-91ACB46B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WHIT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BOXING FILM STARRED JAMES EARL JONES AND JANE ALEXA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98320" y="762120"/>
            <a:ext cx="7947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PSYCHOLOGICAL EROTIC THRILLER STARRED BRIDGET FONDA AND JENNIFER JASON L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752480" y="4419720"/>
            <a:ext cx="5639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  AND  THE  SEVEN  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6080" y="762120"/>
            <a:ext cx="851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SNEY'S FIRST FULL-LENGTH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HOUSE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2480" y="762120"/>
            <a:ext cx="797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HAD ESSENTIALLY THE SAME PLOT AS THE FILM "OLYMPUS HAS FALLEN" RELEASED 3 MONTHS EAR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MEN  CAN'T  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ESLEY SNIPES AND WOODY HARRELSON AS BASKETBALL HUST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419720"/>
            <a:ext cx="6096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OLD  &amp;  KUMAR  GO  TO  WHITE  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5800" y="762120"/>
            <a:ext cx="831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CULT FILM DO THE PROTAGONISTS GET HIGH AND GO GET SOME F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N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DANCE MOVIE STARRED GREGORY HINES, MIKHAIL BARYSHNIKOV, HELEN MIRREN AND ISABELLA ROSSELLI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,  WHITE,  AND  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27080" y="762120"/>
            <a:ext cx="70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"LEGALLY BLONDE"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44680" y="762120"/>
            <a:ext cx="8054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BING CROSBY FILM HAD A TITLE SONG THAT IS THE BEST-SELLING SINGLE EVER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2680" y="762120"/>
            <a:ext cx="837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SNEY'S FIRST FULL-LENGTH ANIMATED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MAN'S 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65040" y="762120"/>
            <a:ext cx="841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JOHN TRAVOLTA AND HARRY BELAFONTE FILM IS SET IN A UNIVERSE WHERE THE ECONOMIC POSITIONS OF BLACK AND WHITE PEOPLE ARE REVERS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WHITE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84200" y="762120"/>
            <a:ext cx="8174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BOXING FILM STARRED JAMES EARL JONES AND JANE ALEXA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LE  WHITE  FE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88960" y="762120"/>
            <a:ext cx="796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PSYCHOLOGICAL EROTIC THRILLER STARRED BRIDGET FONDA AND JENNIFER JASON L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0440" y="761760"/>
            <a:ext cx="804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 HAD ESSENTIALLY THE SAME PLOT AS THE FILM "OLYMPUS HAS FALLEN" RELEASED 3 MONTHS EARL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3880" y="762120"/>
            <a:ext cx="78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ESLEY SNIPES AND WOODY HARRELSON AS BASKETBALL HUST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8800" y="762120"/>
            <a:ext cx="836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CULT FILM DO THE PROTAGONISTS GET HIGH AND GO GET SOME F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1240" y="761760"/>
            <a:ext cx="766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DANCE MOVIE STARRED GREGORY HINES, MIKHAIL BARYSHNIKOV, HELEN MIRREN AND ISABELLA ROSSELLIN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9080" y="761760"/>
            <a:ext cx="7305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"LEGALLY BLONDE"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9040" y="761760"/>
            <a:ext cx="776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BING CROSBY FILM HAD A TITLE SONG THAT IS THE BEST-SELLING SINGLE EVER RELE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JOHN TRAVOLTA AND HARRY BELAFONTE FILM IS SET IN A UNIVERSE WHERE THE ECONOMIC POSITIONS OF BLACK AND WHITE PEOPLE ARE REVERS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4-29T18:20:59Z</dcterms:modified>
  <cp:revision>374</cp:revision>
  <dc:subject/>
  <dc:title>Slide 1</dc:title>
</cp:coreProperties>
</file>