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7656-0AB8-4B99-A4CD-35C6F2B3F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CCA2-8F28-42FD-B4E3-875D8DFA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989F-5682-454D-B321-D196C302B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63C3-3070-46E2-AAE2-39C49FC7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63F7-42A5-4A31-A8F9-E2AD06B52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548E-9615-405A-ACEE-C1BA5D33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347-8383-4E4C-B928-48B5D8657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2849-EEF6-4B7B-BC96-45B92834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06C3-AD5B-4003-9B2F-4E0D7327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02E7-8469-492A-9BFC-84F6AE0F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5960-4150-45C3-8F8D-03E4CB34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854D-7149-47FB-873E-D3791CCBD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AF64-5FCC-43AA-B271-CCAB55FF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D9F1-5302-494A-87A8-925B6424E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9086-C7D8-4FDE-8DCB-A4BFC6BC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9660-1820-42D4-9B29-68CBBC84F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C7F-99CF-485E-8CD5-AAA29B9F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A38D-BC37-490B-A569-DA1480C8E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352C-6768-4289-AA62-B39B6985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EE61-B57B-491C-BAD1-C4565817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8084-FF43-403B-8245-E6A31F349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0023-A8A1-47A4-8C0E-50101572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9ABA-0676-48E8-9EBA-9A6A61F7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WHITE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BOXING FILM STARRED JAMES EARL JONES AND JANE ALEXA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98320" y="762120"/>
            <a:ext cx="7947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PSYCHOLOGICAL EROTIC THRILLER STARRED BRIDGET FONDA AND JENNIFER JASON L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752480" y="4419720"/>
            <a:ext cx="5639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  WHITE  AND  THE  SEVEN  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6080" y="762120"/>
            <a:ext cx="851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SNEY'S FIRST FULL-LENGTH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HOUSE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2480" y="762120"/>
            <a:ext cx="797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HAD ESSENTIALLY THE SAME PLOT AS THE FILM "OLYMPUS HAS FALLEN" RELEASED 3 MONTHS EAR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MEN  CAN'T  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36480" y="762120"/>
            <a:ext cx="787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ESLEY SNIPES AND WOODY HARRELSON AS BASKETBALL HUST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419720"/>
            <a:ext cx="6096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OLD  &amp;  KUMAR  GO  TO  WHITE  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5800" y="762120"/>
            <a:ext cx="831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CULT FILM DO THE PROTAGONISTS GET HIGH AND GO GET SOME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N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DANCE MOVIE STARRED GREGORY HINES, MIKHAIL BARYSHNIKOV, HELEN MIRREN AND ISABELLA ROSSELLI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,  WHITE,  AND  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27080" y="762120"/>
            <a:ext cx="708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"LEGALLY BLONDE"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44680" y="762120"/>
            <a:ext cx="8054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BING CROSBY FILM HAD A TITLE SONG THAT IS THE BEST-SELLING SINGLE EVER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2680" y="762120"/>
            <a:ext cx="837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SNEY'S FIRST FULL-LENGTH ANIMATED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MAN'S 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65040" y="762120"/>
            <a:ext cx="841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JOHN TRAVOLTA AND HARRY BELAFONTE FILM IS SET IN A UNIVERSE WHERE THE ECONOMIC POSITIONS OF BLACK AND WHITE PEOPLE ARE REVER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WHITE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84200" y="762120"/>
            <a:ext cx="817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BOXING FILM STARRED JAMES EARL JONES AND JANE ALEXA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LE  WHITE  FE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88960" y="762120"/>
            <a:ext cx="796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PSYCHOLOGICAL EROTIC THRILLER STARRED BRIDGET FONDA AND JENNIFER JASON L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0440" y="761760"/>
            <a:ext cx="804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HAD ESSENTIALLY THE SAME PLOT AS THE FILM "OLYMPUS HAS FALLEN" RELEASED 3 MONTHS EAR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3880" y="762120"/>
            <a:ext cx="78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ESLEY SNIPES AND WOODY HARRELSON AS BASKETBALL HUST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8800" y="762120"/>
            <a:ext cx="836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CULT FILM DO THE PROTAGONISTS GET HIGH AND GO GET SOME F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1240" y="761760"/>
            <a:ext cx="766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DANCE MOVIE STARRED GREGORY HINES, MIKHAIL BARYSHNIKOV, HELEN MIRREN AND ISABELLA ROSSELLIN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9080" y="761760"/>
            <a:ext cx="7305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"LEGALLY BLONDE"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9040" y="761760"/>
            <a:ext cx="776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BING CROSBY FILM HAD A TITLE SONG THAT IS THE BEST-SELLING SINGLE EVER RELEA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JOHN TRAVOLTA AND HARRY BELAFONTE FILM IS SET IN A UNIVERSE WHERE THE ECONOMIC POSITIONS OF BLACK AND WHITE PEOPLE ARE REVERS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4-29T18:20:59Z</dcterms:modified>
  <cp:revision>374</cp:revision>
  <dc:subject/>
  <dc:title>Slide 1</dc:title>
</cp:coreProperties>
</file>